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59F-0F4C-495B-BE24-8FDF8E52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C4C-A228-4E39-8643-62E87423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4F5-9445-4ACA-9DD6-36405FAE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95A-B977-4AED-A583-B867B9A8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845-5785-4C56-A1C0-0E85EC16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9C7-8BF6-4964-B39B-B61E4037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838-4EB1-41C9-8681-8F1ECC32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ACD-67B1-4149-9A32-72BD1CE7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6E3-4281-47C8-9560-A777BC37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D7D-4B6A-4C54-B30A-449DDFB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040-5E0B-40D3-A498-9805F286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34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40D-08B9-4C98-B07D-20416FE5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 Gree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 Gree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 Gree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 Gree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 Gree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8C2E85-E5EF-4B7A-A1B4-08AC7BA8D523}" type="slidenum">
              <a:rPr b="0" lang="en-US" sz="1400" spc="-1" strike="noStrike">
                <a:solidFill>
                  <a:srgbClr val="000000"/>
                </a:solidFill>
                <a:latin typeface="Times New Roman Gree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SzPct val="64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3" marL="1600200" indent="-228600">
              <a:spcBef>
                <a:spcPts val="601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4" marL="2057400" indent="-228600">
              <a:spcBef>
                <a:spcPts val="601"/>
              </a:spcBef>
              <a:buClr>
                <a:srgbClr val="fafd00"/>
              </a:buClr>
              <a:buFont typeface="Times New Roman Gree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 Gree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 Gree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" name=""/>
          <p:cNvSpPr/>
          <p:nvPr/>
        </p:nvSpPr>
        <p:spPr>
          <a:xfrm rot="10800000">
            <a:off x="692280" y="142560"/>
            <a:ext cx="769680" cy="536400"/>
          </a:xfrm>
          <a:prstGeom prst="triangle">
            <a:avLst>
              <a:gd name="adj" fmla="val 4998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0800000">
            <a:off x="595440" y="158400"/>
            <a:ext cx="769680" cy="536400"/>
          </a:xfrm>
          <a:prstGeom prst="triangle">
            <a:avLst>
              <a:gd name="adj" fmla="val 49986"/>
            </a:avLst>
          </a:prstGeom>
          <a:solidFill>
            <a:srgbClr val="ffff99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204600" y="6211440"/>
            <a:ext cx="2187720" cy="3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afd00"/>
                </a:solidFill>
                <a:latin typeface="Times New Roman Greek"/>
              </a:rPr>
              <a:t>TOOBIS Seminar - May ‘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90440" y="6257880"/>
            <a:ext cx="2641680" cy="5907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7240" y="990720"/>
            <a:ext cx="77709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19280" y="1031760"/>
            <a:ext cx="77706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92280" y="6111720"/>
            <a:ext cx="77706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23960" y="6153120"/>
            <a:ext cx="777060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Times New Roman Greek"/>
              </a:rPr>
              <a:t>Design of the DELTA Application</a:t>
            </a:r>
            <a:endParaRPr b="1" lang="en-US" sz="4800" spc="-1" strike="noStrike">
              <a:solidFill>
                <a:srgbClr val="fafd00"/>
              </a:solidFill>
              <a:latin typeface="Times New Roman Gree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Architecture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Software Architecture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ake full advantage of TOOBIS TOODBMS features (i.e. TODL, TOQL, TODM), preserving the existing OODBMS layered architecture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85920" y="2967120"/>
          <a:ext cx="448632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5920" y="2967120"/>
                    <a:ext cx="448632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Development Proces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1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Combination of the Waterfall and the Spiral approach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Waterfall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approach has been employed during the requirement analysis and requirements specification phase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Spiral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strategy is adopted during the design and implementation phase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Development Proces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2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Waterfall strategy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Requirements Analysis Phase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Requirements Specification Phase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Spiral strategy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Design Phase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Implementation Phase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Development Proces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3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1041480"/>
          <a:ext cx="746784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41480"/>
                    <a:ext cx="746784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Use Case Modeling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A use case is a related sequence of transactions in a dialogue with the system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Use case modeling can be performed on systems of any sort, not just on software system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The functionality is modeled as the users of the system experience it, not how the functionality providers would prefer to see it structured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Use Case Diagram 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38440" y="1155600"/>
          <a:ext cx="582588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155600"/>
                    <a:ext cx="582588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Object Modeling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OOM: Global Structure View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An object model is used to capture the structure of a system by defining a set of classes, together with a set of relationships between those classes. 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object model can be used as the source from which code is automatically generated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Global Structure View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1680" y="1098720"/>
          <a:ext cx="8057880" cy="49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98720"/>
                    <a:ext cx="805788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Global Structure Sub-View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95160" y="2438280"/>
          <a:ext cx="768672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438280"/>
                    <a:ext cx="7686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721480" y="3511440"/>
            <a:ext cx="215640" cy="216000"/>
          </a:xfrm>
          <a:prstGeom prst="diamond">
            <a:avLst/>
          </a:prstGeom>
          <a:solidFill>
            <a:srgbClr val="ffff99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Dynamic Modeling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OOM: Global Dynamic Views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two basic concepts within a dynamic model ar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 Greek"/>
              </a:rPr>
              <a:t>sta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an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 Greek"/>
              </a:rPr>
              <a:t>ev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, which are defined as follows: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An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ev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is an instantaneous occurrence, which stimulates the system or an object to perform some response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state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is the name for the period of time in which an object has a particular set of attribute values and links, which significantly governs the object’s behavior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Introduction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1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4880" y="167616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level of the application design, has been based on the temporal methodology TOOM and external CASE tool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DELTA application utilizes the temporal object definition and temporal object query languages (TODL, TOQL), developed inside the TOOBIS project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application is build on top of the underlying TOODBMS. 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Global Dynamic View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9040" y="1089000"/>
          <a:ext cx="771660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089000"/>
                    <a:ext cx="771660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Global Dynamic Sub-View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79400" y="1177920"/>
          <a:ext cx="76042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1177920"/>
                    <a:ext cx="76042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Event Induction Graph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12800" y="2205000"/>
          <a:ext cx="6172200" cy="38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205000"/>
                    <a:ext cx="61722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Event Induction Graph is a graphical representation of the event sequence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Object Interaction Diagrams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An Object Interaction Diagram (OID), defines the messaging required between objects, in order to provide use cases a functionality that gives more detailed model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During the development of enterprise systems, the interaction model serves two key objectives: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ensuring that we have the right objects, to service our business requirement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capturing design information for later use by the implementers (coders)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OID ‘Ordering’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41320" y="1077840"/>
          <a:ext cx="750096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1077840"/>
                    <a:ext cx="750096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TODL Object Definition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erface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xtent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s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Code)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Attribute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String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ProductCod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String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Nam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String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Typ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String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Status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id event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granularity da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Interval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Duration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id state granularity da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ttribute Float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Price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lid state granularity da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 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Relationship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lationship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 ReplacedBy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inverse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::Replaces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lationship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et&l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Product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Replaces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verse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::ReplacedBy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 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Operation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C++ Class Definition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Product :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ubli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Snapshot_Object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Attribute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har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ProductCod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har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tNam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_Ref&l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Historical_State_Float_Attribute&gt; attPrice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_Ref&l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Historical_State_Integer_Attribute&gt; attDuration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Relationship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_Ref&l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napshot_Many_To_One_Relationship&gt; relBelongs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i="1" lang="en-US" sz="1400" spc="-1" strike="noStrike">
                <a:solidFill>
                  <a:srgbClr val="ffffff"/>
                </a:solidFill>
                <a:latin typeface="Courier New"/>
              </a:rPr>
              <a:t>// Operations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Product(char* = "????", char* = "????");// Constructor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~Product();                             // Destructor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.......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2280" y="463680"/>
            <a:ext cx="7759440" cy="520560"/>
          </a:xfrm>
          <a:prstGeom prst="rect">
            <a:avLst/>
          </a:prstGeom>
          <a:noFill/>
          <a:ln w="12600">
            <a:solidFill>
              <a:srgbClr val="ccecff"/>
            </a:solidFill>
            <a:prstDash val="sysDot"/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TOQL queries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74684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following query requires the product name, product code, quantity and amount returned for a specific route and specific day, ordered by route code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(valid state ddp)[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instant "1997/01/01" 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granularity day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].RelativeTo.Code,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valid state ddp)[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instant "1997/01/01" 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granularity day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].RelativeTo.Name,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valid state ddp)[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instant "1997/01/01" 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granularity day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].ReturnQuantity,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valid state ddp)[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instant "1997/01/01" 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granularity day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].RelativeTo.ReturnAmount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rom Route as r, r.Performance as ddp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where r.Code = 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“234”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order by (valid state ddp)[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instant "1997/01/01" 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Courier New"/>
              </a:rPr>
              <a:t>granularity day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].RelativeTo.Name</a:t>
            </a:r>
            <a:endParaRPr b="0" lang="en-US" sz="16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Conclusions 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ogenous approach during all development stages (object orientation)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rnal CASE tools have been successfully used for the application design (mixture of OOSE, OMT, and TOOM)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use complex temporal queries, with no extra coding requirement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x quality reports based on temporal data can be easily implemented (TOODBMS)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Products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DELTA delivers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every day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milk products to it’s customer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Milk products have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limited shelf life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of 2 or 3 days, depending on the product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DELTA is responsible for collect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expired product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(returns). The customer is not charged for this los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Products are classified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hierarchical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manner. Each product belongs to a product group, which in turn belongs to a higher level grouping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Distribution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TA customers can be small neighborhood shops, or big Super Market chains. New customers may be added to the DELTA market and also customers can be lost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day, distributor trucks are loaded with products for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xt d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liveries, which start at 5:00 a.m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customer defines a point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u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hich is served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ly 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stributor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ributor is a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river or company, having a contract with DELTA. The distributor’s revenue is based on a predefined percentage of the route’s revenue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Ordering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ta is receiving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or ord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til 11:00 a.m. every day, when distributors have arrived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s may pla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it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ers until 14:00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the distribut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ndhe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uters (with a delay of one day), the accurate daily-sales scenario is being constructed. This scenario involves the loaded quantities, the returns and the actual sold quantities per route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Planning</a:t>
            </a:r>
            <a:endParaRPr b="1" lang="en-US" sz="32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ributor requests and the customer additional orders, are taken into account simply as a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nn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akes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ltimate decis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the loading, averaging the demand to the routes by ad-hoc practical rules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oading pla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di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being based on a number of facts, that are considered as being of various degrees of importance. The planner takes into account the last week's circulation, events, such as national holidays, weather situation etc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duction starts early in the morning, and there is a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a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tween production and Planning for loading.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Requirement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1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Functional Require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fall into the following two categories: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Support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decision proc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under which quantities of products will be loaded on the trucks for delivery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Support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decision mak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for the Marketing and Sales division, by producing accurate reports for the sales &amp; distribution of daily products per route, per distributor and per product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Requirement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2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application serves the following three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types of Us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Production Administra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who will be advised by the application on production quantities and truck loading issue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Ordering Personnel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being responsible for receiving orders via phone call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Sales Administra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 will be able to manage the products being under circulation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 Greek"/>
              </a:rPr>
              <a:t>Requirements </a:t>
            </a:r>
            <a:r>
              <a:rPr b="1" lang="en-US" sz="1800" spc="-1" strike="noStrike">
                <a:solidFill>
                  <a:srgbClr val="fafd00"/>
                </a:solidFill>
                <a:latin typeface="Times New Roman Greek"/>
              </a:rPr>
              <a:t>(3)</a:t>
            </a:r>
            <a:endParaRPr b="1" lang="en-US" sz="1800" spc="-1" strike="noStrike">
              <a:solidFill>
                <a:srgbClr val="fafd00"/>
              </a:solidFill>
              <a:latin typeface="Times New Roman Gree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913"/>
              </a:spcAft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 Greek"/>
              </a:rPr>
              <a:t>Time Require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 Greek"/>
              </a:rPr>
              <a:t> imposed to the application are:</a:t>
            </a:r>
            <a:endParaRPr b="0" lang="en-US" sz="24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Required support mainly for </a:t>
            </a:r>
            <a:r>
              <a:rPr b="1" lang="en-US" sz="2000" spc="-1" strike="noStrike">
                <a:solidFill>
                  <a:srgbClr val="ffffff"/>
                </a:solidFill>
                <a:latin typeface="Times New Roman Greek"/>
              </a:rPr>
              <a:t>valid time</a:t>
            </a: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. Transaction time requirements do not appear to be a request for the application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Snapshot and Historical object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Snapshot and Historical relationship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afd00"/>
              </a:buClr>
              <a:buFont typeface="Times New Roman Gree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Greek"/>
              </a:rPr>
              <a:t>The Gregorian calendar (default) and various time granularities.</a:t>
            </a:r>
            <a:endParaRPr b="0" lang="en-US" sz="2000" spc="-1" strike="noStrike">
              <a:solidFill>
                <a:srgbClr val="ffffff"/>
              </a:solidFill>
              <a:latin typeface="Times New Roman Gree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31T14:07:20Z</dcterms:created>
  <dc:creator>zz</dc:creator>
  <dc:description/>
  <dc:language>en-US</dc:language>
  <cp:lastModifiedBy>Anya Sotiropoulou</cp:lastModifiedBy>
  <cp:lastPrinted>1998-05-22T15:27:08Z</cp:lastPrinted>
  <dcterms:modified xsi:type="dcterms:W3CDTF">1998-05-27T07:18:04Z</dcterms:modified>
  <cp:revision>212</cp:revision>
  <dc:subject/>
  <dc:title>TOOB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di.uoa.gr/~toobis/</vt:lpwstr>
  </property>
  <property fmtid="{D5CDD505-2E9C-101B-9397-08002B2CF9AE}" pid="9" name="LinkColor">
    <vt:r8>16711782</vt:r8>
  </property>
  <property fmtid="{D5CDD505-2E9C-101B-9397-08002B2CF9AE}" pid="10" name="MailAddress">
    <vt:lpwstr>akap@01p.gr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z:\anya\toobis\seminar\patra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