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EAF-6FFA-4E62-8BD7-69C35EB0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774720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008880"/>
            <a:ext cx="774720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142-9487-494D-A624-23018BCB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00888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120" y="300888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FA9-8BCF-4D7A-89A4-299DCEEB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8120" y="138384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7480" y="138384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00888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8120" y="300888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7480" y="3008880"/>
            <a:ext cx="249444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BD5-ECEA-4AC3-BE5A-7FC71917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383840"/>
            <a:ext cx="7747200" cy="31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7E5-9122-4F80-A55C-40303E26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774720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DE7-61B9-4AA6-A611-83F84A41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654-39C9-4CB8-BB7F-54102FDD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16F-1735-4F19-A118-EB0C7E7F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92280" y="463680"/>
            <a:ext cx="7759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8AB-EB63-4A56-A4D4-1B26E5CD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00888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575-0081-4103-974D-6BA72557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120" y="300888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8D0-3F00-461E-AC1A-23B3ED03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92280" y="434160"/>
            <a:ext cx="775944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1383840"/>
            <a:ext cx="378036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008880"/>
            <a:ext cx="7747200" cy="148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83B-191B-4608-A662-E9A351B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194B38-5BDB-42C3-85DD-21EDEA355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98400" y="1383840"/>
            <a:ext cx="7747200" cy="311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63de8"/>
              </a:buClr>
              <a:buSzPct val="64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63d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0800000">
            <a:off x="692280" y="142560"/>
            <a:ext cx="769680" cy="536400"/>
          </a:xfrm>
          <a:prstGeom prst="triangle">
            <a:avLst>
              <a:gd name="adj" fmla="val 4998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0800000">
            <a:off x="595440" y="158400"/>
            <a:ext cx="769680" cy="536400"/>
          </a:xfrm>
          <a:prstGeom prst="triangle">
            <a:avLst>
              <a:gd name="adj" fmla="val 49986"/>
            </a:avLst>
          </a:prstGeom>
          <a:solidFill>
            <a:srgbClr val="99ccff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7240" y="990720"/>
            <a:ext cx="77709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9280" y="1031760"/>
            <a:ext cx="77706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92280" y="6111720"/>
            <a:ext cx="77706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23960" y="6153120"/>
            <a:ext cx="77706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79f"/>
                </a:solidFill>
                <a:latin typeface="Times New Roman"/>
              </a:rPr>
              <a:t>Object Query Language - OQL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The ODMG query language or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The object SQ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QL vs C++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91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is declarativ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can be used interactively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embedded in C++ makes programs simple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can be seamlessly optimised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guarantees logical/physical independenc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QL vs. SQL2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400" y="1383840"/>
            <a:ext cx="7747200" cy="11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supports complex object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79f"/>
                </a:solidFill>
                <a:latin typeface="Times New Roman"/>
              </a:rPr>
              <a:t>OQL supports method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QL vs. SQL3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37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is stable, implemented, available while SQL3 is still in the design proces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is a simple query language while SQL3 is a full DB PL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definition takes 20 pages while SQL3 is currently 1300 page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can match different data models (C++, ODMG, SQL2, SQL3)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bject Query Language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0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To browse easily an object database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either interactively (ad-hoc queries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or embedded in programming languag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OQL is declarative (as opposed to procedural) which allows ODBMS seamless operations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algebraic transformation: expressions factorisation, priority to selections, constant expressions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access path: index, clustering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Examples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8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Stand alone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select struct(n: p.name, s: p.sex)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from People as p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where p.age &lt; 18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Embedded in C++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d_oql_execute(teenagers,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“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select p from People as p where p.age &lt; 18”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perands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9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Constant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1.0; true; “A String”; nil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Named object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People; president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p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p.age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or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p-&gt;age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(syntax for attributes and methods is identical)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Courier New"/>
              </a:rPr>
              <a:t>I[i]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perators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4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Numerical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+ - * / mod abs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Comparison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=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!=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 &gt;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 &lt;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Boolean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not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and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Object: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Employee(name: “John”, salary: 15000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Collection: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Vector(1, 2, 3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Structure:</a:t>
            </a: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struct(name: p.name, age: p.age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imes New Roman"/>
              </a:rPr>
              <a:t>Litteral collection: </a:t>
            </a: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set(1, 2, 3)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perators on Collections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26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intersect union except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select result (x, y, …) from col1 as x, col2 as y, …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where predicate(x, y, …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Quantificator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for all x in collection: predicate(x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exists x in collection: predicate(x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Conversion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element(singleton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flatten(collection_of_collections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Aggregation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select *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from Employees as e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group by e.department as departments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order by avg(select e.salary from partition)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The type of the result is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List&lt;struct(department: integer,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279f"/>
                </a:solidFill>
                <a:latin typeface="Courier New"/>
              </a:rPr>
              <a:t>partition: Bag&lt;struct(e:Employee)&gt; &gt;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OQL and SQL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97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Fully compliant to ODMG, C++ and Smalltalk model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QL accepts path expression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person.address.city.nam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person.fornames[2]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79f"/>
                </a:solidFill>
                <a:latin typeface="Courier New"/>
              </a:rPr>
              <a:t>Person(name: “Smith”, fornames: array(“John”, “Paul”))</a:t>
            </a:r>
            <a:endParaRPr b="0" lang="en-US" sz="16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Operator and operands are orthogonal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Methods call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person.ag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a4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79f"/>
                </a:solidFill>
                <a:latin typeface="Times New Roman"/>
              </a:rPr>
              <a:t>When OQL meets SQL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8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QL syntax for select: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Courier New"/>
              </a:rPr>
              <a:t>select … from … where … group by … order by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equivalent variable scope rule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equivalent </a:t>
            </a:r>
            <a:r>
              <a:rPr b="0" i="1" lang="en-GB" sz="2800" spc="-1" strike="noStrike">
                <a:solidFill>
                  <a:srgbClr val="00279f"/>
                </a:solidFill>
                <a:latin typeface="Times New Roman"/>
              </a:rPr>
              <a:t>select * </a:t>
            </a: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79f"/>
                </a:solidFill>
                <a:latin typeface="Times New Roman"/>
              </a:rPr>
              <a:t>SQL ad hoc notation such as “abbreviations” are possible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5:10:16Z</dcterms:created>
  <dc:creator>Department of Informatics</dc:creator>
  <dc:description/>
  <dc:language>en-US</dc:language>
  <cp:lastModifiedBy>Anya Sotiropoulou</cp:lastModifiedBy>
  <cp:lastPrinted>1997-05-19T16:16:16Z</cp:lastPrinted>
  <dcterms:modified xsi:type="dcterms:W3CDTF">1998-05-27T07:19:30Z</dcterms:modified>
  <cp:revision>18</cp:revision>
  <dc:subject/>
  <dc:title>Object Query Language - OQ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di.uoa.gr/~toobis/</vt:lpwstr>
  </property>
  <property fmtid="{D5CDD505-2E9C-101B-9397-08002B2CF9AE}" pid="9" name="LinkColor">
    <vt:r8>16711782</vt:r8>
  </property>
  <property fmtid="{D5CDD505-2E9C-101B-9397-08002B2CF9AE}" pid="10" name="MailAddress">
    <vt:lpwstr>toobis@di.uoa.gr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z:\anya\toobis\seminar\patra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