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42.xml" ContentType="application/vnd.openxmlformats-officedocument.presentationml.slide+xml"/>
  <Override PartName="/ppt/slides/slide4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</p:sldIdLst>
  <p:sldSz cx="9144000" cy="6858000"/>
  <p:notesSz cx="7304088" cy="9590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0B662-EB92-4DAA-AC83-31AC5F505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50CC6-1ECD-464B-B7EB-4EBD0C404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DB90C-B614-46D3-90FF-F06C72D81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8E1D8-525E-4BDE-8420-CABA55D37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F5E88-B718-42E2-A477-FE15C3B4E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E7B95-7AC8-4EE4-8B90-0DE3BF222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551CE-3320-4048-B957-C70FD6F29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CA21D-9D2D-4C4F-953F-767A8ADEC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6ED61-A10E-4B41-8F75-BB2A600C5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C386A-9E45-4A43-8FA7-499DC2CF3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D8AE2-076B-48C8-8213-9AA1F44F9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2EEF6-4C3D-48AD-8DC4-9930668A9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71EC5-8B73-4F04-B83E-CF2916EF8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1473E-B2FF-47BB-B418-7A5120EF6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40EC8-4902-4121-941B-58366EE23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FE1B9-9B63-4AE4-B232-BF3013556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1784C-4215-413A-8F6E-F0180C098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28608-21A4-49ED-933B-A3F066DFD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E9240-B45A-43E8-8946-F61F9A3A2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54F48-DA16-4400-9A35-0035F8BEB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D803B-244F-4781-B640-6DCDB781A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0041A-7666-4571-9D0B-CEC83782D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A1DBD-D877-4A1D-977D-C39036F49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C26F6-C858-41A2-BF44-9CC3F7C24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95FF5-3DF7-4B6C-B4AD-B11831F169C5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47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4E66C-3E71-4D50-B9CC-C8C304346C02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5.wmf"/><Relationship Id="rId6" Type="http://schemas.openxmlformats.org/officeDocument/2006/relationships/image" Target="../media/image2.wmf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6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image" Target="../media/image2.wmf"/><Relationship Id="rId8" Type="http://schemas.openxmlformats.org/officeDocument/2006/relationships/image" Target="../media/image2.wmf"/><Relationship Id="rId9" Type="http://schemas.openxmlformats.org/officeDocument/2006/relationships/image" Target="../media/image2.wmf"/><Relationship Id="rId10" Type="http://schemas.openxmlformats.org/officeDocument/2006/relationships/image" Target="../media/image2.wmf"/><Relationship Id="rId1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image" Target="../media/image11.wmf"/><Relationship Id="rId6" Type="http://schemas.openxmlformats.org/officeDocument/2006/relationships/image" Target="../media/image12.wmf"/><Relationship Id="rId7" Type="http://schemas.openxmlformats.org/officeDocument/2006/relationships/image" Target="../media/image13.wmf"/><Relationship Id="rId8" Type="http://schemas.openxmlformats.org/officeDocument/2006/relationships/image" Target="../media/image13.wmf"/><Relationship Id="rId9" Type="http://schemas.openxmlformats.org/officeDocument/2006/relationships/image" Target="../media/image13.wmf"/><Relationship Id="rId10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9.wmf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image" Target="../media/image10.wmf"/><Relationship Id="rId5" Type="http://schemas.openxmlformats.org/officeDocument/2006/relationships/image" Target="../media/image10.wmf"/><Relationship Id="rId6" Type="http://schemas.openxmlformats.org/officeDocument/2006/relationships/image" Target="../media/image10.wmf"/><Relationship Id="rId7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2.wmf"/><Relationship Id="rId3" Type="http://schemas.openxmlformats.org/officeDocument/2006/relationships/image" Target="../media/image9.wmf"/><Relationship Id="rId4" Type="http://schemas.openxmlformats.org/officeDocument/2006/relationships/image" Target="../media/image14.wmf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2.wmf"/><Relationship Id="rId3" Type="http://schemas.openxmlformats.org/officeDocument/2006/relationships/image" Target="../media/image9.wmf"/><Relationship Id="rId4" Type="http://schemas.openxmlformats.org/officeDocument/2006/relationships/image" Target="../media/image3.wmf"/><Relationship Id="rId5" Type="http://schemas.openxmlformats.org/officeDocument/2006/relationships/image" Target="../media/image14.wmf"/><Relationship Id="rId6" Type="http://schemas.openxmlformats.org/officeDocument/2006/relationships/image" Target="../media/image16.wmf"/><Relationship Id="rId7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ffff00"/>
                </a:solidFill>
                <a:latin typeface="Times New Roman"/>
              </a:rPr>
              <a:t>Τεχνικές διασφάλισης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64160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Times New Roman"/>
              </a:rPr>
              <a:t>Εκτεταμένες δοκιμές, καλές πρακτικές ανάπτυξης λογισμικού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Στην πράξη, δεν έχει δώσει αποτελέσματα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Times New Roman"/>
              </a:rPr>
              <a:t>Ανάλυση του συστήματος για εντοπισμό πιθανών αδυναμιών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Ας γνωρίζουμε εμείς, πριν το μάθουν οι κακοί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Δημιουργία «Ομάδας τίγρη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Times New Roman"/>
              </a:rPr>
              <a:t>Πρόληψη ή ανίχνευση των προσπαθειών εκμετάλλευσης των αδυναμιών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5715000" y="4800600"/>
            <a:ext cx="76212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ffff00"/>
                </a:solidFill>
                <a:latin typeface="Times New Roman"/>
              </a:rPr>
              <a:t>Υπερχείλιση ενδιάμεσης μνήμης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64160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3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Η χαρά του εισβολέα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3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Προϋποθέσεις εμφάνισης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2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Λήψη δεδομένων από μη αξιόπιστη πηγή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19960" indent="-223920">
              <a:spcBef>
                <a:spcPts val="224"/>
              </a:spcBef>
              <a:buClr>
                <a:srgbClr val="ffffff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Times New Roman"/>
              </a:rPr>
              <a:t>Πληκτρολόγιο, δίκτυο, αρχείο, διαδιεργασιακή επικοινωνία κ.λπ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2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Αποθήκευση των δεδομένων σε ενδιάμεση μνήμη περιορισμένου μεγέθου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2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… </a:t>
            </a: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χωρίς κατάλληλο έλεγχο αν τα δεδομένα όντως χωράνε στη μνήμη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3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Αποτελέσματα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2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Αλλοίωση τιμών μεταβλητών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2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Αλλοίωση τιμών αποθηκευμένων καταχωρητών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2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Αλλοίωση διευθύνσεων επιστροφής και πιθανή εκτέλεση αυθαίρετου κώδικα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… 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με αντίστοιχες επιπτώσεις στην ασφάλεια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ffff00"/>
                </a:solidFill>
                <a:latin typeface="Times New Roman"/>
              </a:rPr>
              <a:t>Υπερχείλιση ενδιάμεσης μνήμης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641600"/>
            <a:ext cx="30733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Δομή μνήμης διεργασία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12840" y="2844720"/>
            <a:ext cx="2514600" cy="889200"/>
          </a:xfrm>
          <a:prstGeom prst="rect">
            <a:avLst/>
          </a:prstGeom>
          <a:solidFill>
            <a:srgbClr val="00808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Στοίβα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397240" y="2862360"/>
            <a:ext cx="0" cy="3985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12840" y="3733920"/>
            <a:ext cx="2514600" cy="888840"/>
          </a:xfrm>
          <a:prstGeom prst="rect">
            <a:avLst/>
          </a:prstGeom>
          <a:solidFill>
            <a:srgbClr val="00808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Σωρό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2387520" y="4308120"/>
            <a:ext cx="0" cy="30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12840" y="4622760"/>
            <a:ext cx="2514600" cy="889200"/>
          </a:xfrm>
          <a:prstGeom prst="rect">
            <a:avLst/>
          </a:prstGeom>
          <a:solidFill>
            <a:srgbClr val="00808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Δεδομένα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12840" y="5511960"/>
            <a:ext cx="2514600" cy="888840"/>
          </a:xfrm>
          <a:prstGeom prst="rect">
            <a:avLst/>
          </a:prstGeom>
          <a:solidFill>
            <a:srgbClr val="00808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Κώδικα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889000" y="602604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00…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888280" y="265572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f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648320" y="4718160"/>
            <a:ext cx="4292640" cy="363600"/>
          </a:xfrm>
          <a:prstGeom prst="rect">
            <a:avLst/>
          </a:prstGeom>
          <a:solidFill>
            <a:srgbClr val="00808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Διεύθυνση επιστροφής από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ai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648320" y="5089680"/>
            <a:ext cx="4292640" cy="363240"/>
          </a:xfrm>
          <a:prstGeom prst="rect">
            <a:avLst/>
          </a:prstGeom>
          <a:solidFill>
            <a:srgbClr val="00808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Τοπικές μεταβλητές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ai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648320" y="4346640"/>
            <a:ext cx="4292640" cy="363600"/>
          </a:xfrm>
          <a:prstGeom prst="rect">
            <a:avLst/>
          </a:prstGeom>
          <a:solidFill>
            <a:srgbClr val="00808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Παράμετροι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ain (argc, argv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648320" y="5460840"/>
            <a:ext cx="4292640" cy="363600"/>
          </a:xfrm>
          <a:prstGeom prst="rect">
            <a:avLst/>
          </a:prstGeom>
          <a:solidFill>
            <a:srgbClr val="00808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Παράμετροι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 (a, b, c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48320" y="6205680"/>
            <a:ext cx="4292640" cy="363240"/>
          </a:xfrm>
          <a:prstGeom prst="rect">
            <a:avLst/>
          </a:prstGeom>
          <a:solidFill>
            <a:srgbClr val="00808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Τοπικές μεταβλητές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300560" y="1641600"/>
            <a:ext cx="4587840" cy="26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nt status = 0; int tbl[5000]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void f(int a, char *b, int c[1000]) 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nt i, j; double sum; …; return; 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nt main(int argc, char *argv[]) 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nt x = 7, y = 2; int t[2000]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(x + y, "str", &amp;t[999]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648320" y="5835600"/>
            <a:ext cx="4292640" cy="363600"/>
          </a:xfrm>
          <a:prstGeom prst="rect">
            <a:avLst/>
          </a:prstGeom>
          <a:solidFill>
            <a:srgbClr val="00808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Διεύθυνση επιστροφής από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ffff00"/>
                </a:solidFill>
                <a:latin typeface="Times New Roman"/>
              </a:rPr>
              <a:t>Υπερχείλιση ενδιάμεσης μνήμης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l-GR" sz="4400" spc="-1" strike="noStrike">
                <a:solidFill>
                  <a:srgbClr val="ffff00"/>
                </a:solidFill>
                <a:latin typeface="Times New Roman"/>
              </a:rPr>
              <a:t>για τοπικές μεταβλητές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80520" y="1641600"/>
            <a:ext cx="467388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</a:rPr>
              <a:t>int testPassword(void) {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</a:rPr>
              <a:t>int password_correct = 0, attempts = 0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</a:rPr>
              <a:t>char buf[16]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</a:rPr>
              <a:t>while ((attempts &lt; 3) &amp;&amp; (password_correct == 0)) {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</a:rPr>
              <a:t>printf("Enter password: "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</a:rPr>
              <a:t>gets(buf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</a:rPr>
              <a:t>if (strcmp(buf, "secret") == 0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</a:rPr>
              <a:t>                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</a:rPr>
              <a:t>password_correct = 1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</a:rPr>
              <a:t>els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</a:rPr>
              <a:t>                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</a:rPr>
              <a:t>attempts++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</a:rPr>
              <a:t>if (password_correct) return 1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</a:rPr>
              <a:t>else return 0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07880" y="5686560"/>
            <a:ext cx="8599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Ο χρήστης εισάγει: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AI SIXTIR KAI ESY KAI TO PASSWOR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9080" indent="-289080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Η συνάρτηση επιστρέφει 1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ffff00"/>
                </a:solidFill>
                <a:latin typeface="Times New Roman"/>
              </a:rPr>
              <a:t>Υπερχείλιση ενδιάμεσης μνήμης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l-GR" sz="4400" spc="-1" strike="noStrike">
                <a:solidFill>
                  <a:srgbClr val="ffff00"/>
                </a:solidFill>
                <a:latin typeface="Times New Roman"/>
              </a:rPr>
              <a:t>για τοπικές μεταβλητές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62080" y="1641600"/>
            <a:ext cx="4638600" cy="365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int testPassword(void)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har thePass[] = "secret"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har userPass[7]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int passlen = strlen(thePass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rintf("Enter password:"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gets(userPass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if (strncmp(thePass, userPass, passlen) == 0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return 1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ls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return 0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773680" y="1947960"/>
            <a:ext cx="389160" cy="457200"/>
          </a:xfrm>
          <a:prstGeom prst="rect">
            <a:avLst/>
          </a:prstGeom>
          <a:solidFill>
            <a:srgbClr val="00808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532400" y="188748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53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32400" y="255744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52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162840" y="1947960"/>
            <a:ext cx="388800" cy="457200"/>
          </a:xfrm>
          <a:prstGeom prst="rect">
            <a:avLst/>
          </a:prstGeom>
          <a:solidFill>
            <a:srgbClr val="00808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553080" y="1947960"/>
            <a:ext cx="389160" cy="457200"/>
          </a:xfrm>
          <a:prstGeom prst="rect">
            <a:avLst/>
          </a:prstGeom>
          <a:solidFill>
            <a:srgbClr val="00808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943680" y="1947960"/>
            <a:ext cx="389160" cy="457200"/>
          </a:xfrm>
          <a:prstGeom prst="rect">
            <a:avLst/>
          </a:prstGeom>
          <a:solidFill>
            <a:srgbClr val="00808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332840" y="1947960"/>
            <a:ext cx="388800" cy="457200"/>
          </a:xfrm>
          <a:prstGeom prst="rect">
            <a:avLst/>
          </a:prstGeom>
          <a:solidFill>
            <a:srgbClr val="00808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721640" y="1947960"/>
            <a:ext cx="388800" cy="457200"/>
          </a:xfrm>
          <a:prstGeom prst="rect">
            <a:avLst/>
          </a:prstGeom>
          <a:solidFill>
            <a:srgbClr val="00808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8110440" y="1947960"/>
            <a:ext cx="389160" cy="457200"/>
          </a:xfrm>
          <a:prstGeom prst="rect">
            <a:avLst/>
          </a:prstGeom>
          <a:solidFill>
            <a:srgbClr val="00808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\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73680" y="2565360"/>
            <a:ext cx="389160" cy="457200"/>
          </a:xfrm>
          <a:prstGeom prst="rect">
            <a:avLst/>
          </a:prstGeom>
          <a:solidFill>
            <a:srgbClr val="00808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162840" y="2565360"/>
            <a:ext cx="388800" cy="457200"/>
          </a:xfrm>
          <a:prstGeom prst="rect">
            <a:avLst/>
          </a:prstGeom>
          <a:solidFill>
            <a:srgbClr val="00808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553080" y="2565360"/>
            <a:ext cx="389160" cy="457200"/>
          </a:xfrm>
          <a:prstGeom prst="rect">
            <a:avLst/>
          </a:prstGeom>
          <a:solidFill>
            <a:srgbClr val="00808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943680" y="2565360"/>
            <a:ext cx="389160" cy="457200"/>
          </a:xfrm>
          <a:prstGeom prst="rect">
            <a:avLst/>
          </a:prstGeom>
          <a:solidFill>
            <a:srgbClr val="00808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332840" y="2565360"/>
            <a:ext cx="388800" cy="457200"/>
          </a:xfrm>
          <a:prstGeom prst="rect">
            <a:avLst/>
          </a:prstGeom>
          <a:solidFill>
            <a:srgbClr val="00808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721640" y="2565360"/>
            <a:ext cx="388800" cy="457200"/>
          </a:xfrm>
          <a:prstGeom prst="rect">
            <a:avLst/>
          </a:prstGeom>
          <a:solidFill>
            <a:srgbClr val="00808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8110440" y="2565360"/>
            <a:ext cx="389160" cy="457200"/>
          </a:xfrm>
          <a:prstGeom prst="rect">
            <a:avLst/>
          </a:prstGeom>
          <a:solidFill>
            <a:srgbClr val="00808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9200" y="5111640"/>
            <a:ext cx="4367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Ο χρήστης εισάγει: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aaaaaaaaaaaaaa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9080" indent="-289080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Η συνάρτηση επιστρέφει 1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532400" y="315108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52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773680" y="3174840"/>
            <a:ext cx="1567080" cy="457200"/>
          </a:xfrm>
          <a:prstGeom prst="rect">
            <a:avLst/>
          </a:prstGeom>
          <a:solidFill>
            <a:srgbClr val="00808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ffff00"/>
                </a:solidFill>
                <a:latin typeface="Times New Roman"/>
              </a:rPr>
              <a:t>Υπερχείλιση τοπικής μνήμης για διευθύνσεις επιστροφής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641600"/>
            <a:ext cx="77724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Όταν εκτελείται η εντολή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turn 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μιας συνάρτησης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2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Καθαρίζεται η στοίβα από τυχόν τοπικές μεταβλητέ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2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Εξάγεται η διεύθυνση επιστροφής από τη στοίβα και ο έλεγχος του προγράμματος μεταφέρεται εκεί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Τι συμβαίνει αν η διεύθυνση επιστροφής έχει υπερκαλυφθεί με δεδομένα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2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Καλή περίπτωση: το πρόγραμμα καταρρέει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2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Κακή περίπτωση: πρόβλημα στην ασφάλεια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648320" y="4908600"/>
            <a:ext cx="4292640" cy="363600"/>
          </a:xfrm>
          <a:prstGeom prst="rect">
            <a:avLst/>
          </a:prstGeom>
          <a:solidFill>
            <a:srgbClr val="00808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Διεύθυνση επιστροφής από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ai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648320" y="5280120"/>
            <a:ext cx="4292640" cy="363600"/>
          </a:xfrm>
          <a:prstGeom prst="rect">
            <a:avLst/>
          </a:prstGeom>
          <a:solidFill>
            <a:srgbClr val="00808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Τοπικές μεταβλητές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ai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648320" y="4537080"/>
            <a:ext cx="4292640" cy="363600"/>
          </a:xfrm>
          <a:prstGeom prst="rect">
            <a:avLst/>
          </a:prstGeom>
          <a:solidFill>
            <a:srgbClr val="00808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Παράμετροι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ain (argc, argv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648320" y="5651640"/>
            <a:ext cx="4292640" cy="363240"/>
          </a:xfrm>
          <a:prstGeom prst="rect">
            <a:avLst/>
          </a:prstGeom>
          <a:solidFill>
            <a:srgbClr val="00808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Παράμετροι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 (a, b, c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48320" y="6396120"/>
            <a:ext cx="4292640" cy="363600"/>
          </a:xfrm>
          <a:prstGeom prst="rect">
            <a:avLst/>
          </a:prstGeom>
          <a:solidFill>
            <a:srgbClr val="00808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Τοπικές μεταβλητές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648320" y="6026040"/>
            <a:ext cx="4292640" cy="363600"/>
          </a:xfrm>
          <a:prstGeom prst="rect">
            <a:avLst/>
          </a:prstGeom>
          <a:solidFill>
            <a:srgbClr val="00808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Διεύθυνση επιστροφής από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ffff00"/>
                </a:solidFill>
                <a:latin typeface="Times New Roman"/>
              </a:rPr>
              <a:t>Υπερχείλιση τοπικής μνήμης για διευθύνσεις επιστροφής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Η καλή περίπτωση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Οι τιμές των δεδομένων που θα γραφούν στη στοίβα είναι τυχαίες και η διεύθυνση που θα σχηματιστεί αντιστοιχεί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Times New Roman"/>
              </a:rPr>
              <a:t>Σε άκυρες διευθύνσεις μνήμη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Times New Roman"/>
              </a:rPr>
              <a:t>Σε έγκυρες διευθύνσεις που περιέχουν τυχαία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byt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Η κακή περίπτωση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Οι τιμές των δεδομένων που θα γραφούν στη στοίβα είναι τυχαίες και η διεύθυνση που θα σχηματιστεί αντιστοιχεί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Times New Roman"/>
              </a:rPr>
              <a:t>Σε κώδικα που παρείχε ο εισβολέας ως τμήμα των δεδομένων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Times New Roman"/>
              </a:rPr>
              <a:t>Σε επιλεγμένες συναρτήσεις βιβλιοθήκης του συστήματος με κατάλληλες παραμέτρου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4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ffffff"/>
                </a:solidFill>
                <a:latin typeface="Times New Roman"/>
              </a:rPr>
              <a:t>Π.χ.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exec("sh", "/bin/sh", NULL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ffff00"/>
                </a:solidFill>
                <a:latin typeface="Times New Roman"/>
              </a:rPr>
              <a:t>Υπερχείλιση τοπικής μνήμης για διευθύνσεις επιστροφής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312920" y="1765440"/>
            <a:ext cx="45720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nt status = 0; int tbl[5000]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void f(int a, char *b, int c[1000]) 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nt i, j; double sum; …; return; 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nt main(int argc, char *argv[]) 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nt x = 7, y = 2; int t[2000]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(x + y, "str", &amp;t[999]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eturn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nt execl(char *path, char *argv0, …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97000" y="1765440"/>
            <a:ext cx="9316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700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100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110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tac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118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119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190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ffff00"/>
                </a:solidFill>
                <a:latin typeface="Times New Roman"/>
              </a:rPr>
              <a:t>Συνήθεις ύποπτοι για υπερχείλιση μνήμης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98520" y="1889280"/>
          <a:ext cx="8153280" cy="3744720"/>
        </p:xfrm>
        <a:graphic>
          <a:graphicData uri="http://schemas.openxmlformats.org/drawingml/2006/table">
            <a:tbl>
              <a:tblPr/>
              <a:tblGrid>
                <a:gridCol w="3157560"/>
                <a:gridCol w="49957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Συνάρτηση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Αντικαταστάτη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gets(myStr);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gets(myStr, 80, stdin);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canf("%s", mystr);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canf("%80s", mystr);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s</a:t>
                      </a: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rintf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(myStr, "%d%s%f", …);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sn</a:t>
                      </a: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rintf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(myStr, 80, "%d%s%f", …);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s</a:t>
                      </a: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rintf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(myStr, "%5d%.65s%8.2f", …);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trcpy(prayItFits, bigOne);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trncpy(prayItFits, bigOne, 80);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trcat(smallStr, possiblyBig);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trncat(smallStr, possiblyBig, 80 – strlen(smallStr));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while ((c = getchar()) != '\n'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	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tr[idx++] = c;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while ((idx &lt; 80) &amp;&amp; ((c = getchar()) != '\n')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	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tr[idx++] = c;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har s[256];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getcwd(s, PATH_MAX);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har s[PATH_MAX + 1];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getcwd(s, PATH_MAX);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ffff00"/>
                </a:solidFill>
                <a:latin typeface="Times New Roman"/>
              </a:rPr>
              <a:t>Υπερχειλίσεις μνήμης με λειτουργίες σωρού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7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rintf("Enter array size: "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canf("%d", &amp;numElements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numBytes = numElements * sizeof(int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if ((myArray = malloc(numBytes)) == NULL)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error("Out of memory"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xit(1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for (i = 0; i &lt; numElements; i++) myArray[numElements – 1] = 0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617400" y="4734000"/>
          <a:ext cx="6897960" cy="1790640"/>
        </p:xfrm>
        <a:graphic>
          <a:graphicData uri="http://schemas.openxmlformats.org/drawingml/2006/table">
            <a:tbl>
              <a:tblPr/>
              <a:tblGrid>
                <a:gridCol w="3449880"/>
                <a:gridCol w="34480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umElement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umByt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14748364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 (αν είμαστε τυχεροί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294967292</a:t>
                      </a: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. Σωστό: </a:t>
                      </a: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589934588</a:t>
                      </a: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ffff00"/>
                </a:solidFill>
                <a:latin typeface="Times New Roman"/>
              </a:rPr>
              <a:t>Παράλειψη προσδιορισμού μορφοποίησης στην 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rintf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Όταν η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intf/fprintf 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κ.λπ. τυπώνει μία συμβολοσειρά και μόνο, πρέπει να καθορίζεται ως προσδιοριστής μορφοποίησης το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"%s"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gets(theString, 1024, stdin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printf(myfile, theString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Τι θα συμβεί αν η συμβολοσειρά περιέχει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%s, %d 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κ.λπ.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Οι τιμές τους θα εξαχθούν από θέσεις μνήμης στη στοίβα (τοπικές παράμετροι, διευθύνσεις επιστροφής κ.λπ.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ffff00"/>
                </a:solidFill>
                <a:latin typeface="Times New Roman"/>
              </a:rPr>
              <a:t>Αδυναμίες συστημάτων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Times New Roman"/>
              </a:rPr>
              <a:t>Η ασφάλεια των συστημάτων διακυβεύεται από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Προγραμματιστικά σφάλματα σε μεμονωμένες διεργασίε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buClr>
                <a:srgbClr val="ffffff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Υπερχείλιση ενδιάμεσης μνήμη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buClr>
                <a:srgbClr val="ffffff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Συνθήκες ανταγωνισμού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buClr>
                <a:srgbClr val="ffffff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Δούρειοι ίπποι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Απρόσμενες αλληλεπιδράσεις μεταξύ προγραμμάτων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buClr>
                <a:srgbClr val="ffffff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Εσφαλμένα δικαιώματα αρχείων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buClr>
                <a:srgbClr val="ffffff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Δομή και περιεχόμενο αρχείων διαμόρφωση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ffff00"/>
                </a:solidFill>
                <a:latin typeface="Times New Roman"/>
              </a:rPr>
              <a:t>Συνθήκες ανταγωνισμού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7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Περιπτώσεις όπου η υλοποίηση ατομικών λειτουργιών με χρήση μη ατομικών λειτουργιών έχει επιπτώσεις στην ασφάλεια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Παράδειγμα – πρόγραμμα εκτύπωσης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(euid = 0 /* root */)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f(access(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File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_OK) == 0)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/* User has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ad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permission */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f((fd = open(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File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, O_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DONLY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)) &lt; 0)    {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error(theFile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exit(-1);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/* print file */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}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else fprintf(stderr, "%s: permission dennied\n"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ffff00"/>
                </a:solidFill>
                <a:latin typeface="Times New Roman"/>
              </a:rPr>
              <a:t>Συνθήκες ανταγωνισμού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260000"/>
            <a:ext cx="777240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Παλιά υλοποίηση του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kdi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knod(path, S_IFDIR, dev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/* </a:t>
            </a:r>
            <a:r>
              <a:rPr b="0" lang="el-GR" sz="1800" spc="-1" strike="noStrike">
                <a:solidFill>
                  <a:srgbClr val="ffffff"/>
                </a:solidFill>
                <a:latin typeface="Times New Roman"/>
              </a:rPr>
              <a:t>Υπάρχει ο κατάλογος, ιδιοκτησία του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root </a:t>
            </a:r>
            <a:r>
              <a:rPr b="0" lang="el-GR" sz="1800" spc="-1" strike="noStrike">
                <a:solidFill>
                  <a:srgbClr val="ffffff"/>
                </a:solidFill>
                <a:latin typeface="Times New Roman"/>
              </a:rPr>
              <a:t>και είναι κενός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*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hown(path, uid, gid);  /* </a:t>
            </a:r>
            <a:r>
              <a:rPr b="0" lang="el-GR" sz="1800" spc="-1" strike="noStrike">
                <a:solidFill>
                  <a:srgbClr val="ffffff"/>
                </a:solidFill>
                <a:latin typeface="Times New Roman"/>
              </a:rPr>
              <a:t>Αλλαγή ιδιοκτήτη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*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hdir(path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link(path, ".");        /* </a:t>
            </a:r>
            <a:r>
              <a:rPr b="0" lang="el-GR" sz="1800" spc="-1" strike="noStrike">
                <a:solidFill>
                  <a:srgbClr val="ffffff"/>
                </a:solidFill>
                <a:latin typeface="Times New Roman"/>
              </a:rPr>
              <a:t>Δημιουργία καταχώρησης .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*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link(parent, "..");     /* </a:t>
            </a:r>
            <a:r>
              <a:rPr b="0" lang="el-GR" sz="1800" spc="-1" strike="noStrike">
                <a:solidFill>
                  <a:srgbClr val="ffffff"/>
                </a:solidFill>
                <a:latin typeface="Times New Roman"/>
              </a:rPr>
              <a:t>Δημιουργία καταχώρησης ..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*/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Ο «κακός» εκτελεί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while tru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nice -39 mkdir foo &amp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rm -rf foo</a:t>
            </a:r>
            <a:r>
              <a:rPr b="0" lang="el-GR" sz="1800" spc="-1" strike="noStrike">
                <a:solidFill>
                  <a:srgbClr val="ffffff"/>
                </a:solidFill>
                <a:latin typeface="Courier New"/>
              </a:rPr>
              <a:t>;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ln /etc/passwd fo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rm -fr foo &amp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ls -l /etc/passwd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don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… </a:t>
            </a: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με στόχο η γραμμή «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rm -rf foo</a:t>
            </a:r>
            <a:r>
              <a:rPr b="0" lang="el-GR" sz="2000" spc="-1" strike="noStrike">
                <a:solidFill>
                  <a:srgbClr val="ffffff"/>
                </a:solidFill>
                <a:latin typeface="Courier New"/>
              </a:rPr>
              <a:t>;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ln /etc/passwd foo</a:t>
            </a: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» να εκτελεστεί </a:t>
            </a:r>
            <a:r>
              <a:rPr b="0" i="1" lang="el-GR" sz="2000" spc="-1" strike="noStrike">
                <a:solidFill>
                  <a:srgbClr val="ffffff"/>
                </a:solidFill>
                <a:latin typeface="Times New Roman"/>
              </a:rPr>
              <a:t>μετά</a:t>
            </a: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 τη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knod </a:t>
            </a: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και </a:t>
            </a:r>
            <a:r>
              <a:rPr b="0" i="1" lang="el-GR" sz="2000" spc="-1" strike="noStrike">
                <a:solidFill>
                  <a:srgbClr val="ffffff"/>
                </a:solidFill>
                <a:latin typeface="Times New Roman"/>
              </a:rPr>
              <a:t>πριν</a:t>
            </a: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 την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how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Λύση: κλήση συστήματος με ατομική υλοποίηση της δημιουργίας καταλόγου (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kdir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ffff00"/>
                </a:solidFill>
                <a:latin typeface="Times New Roman"/>
              </a:rPr>
              <a:t>Συνθήκες ανταγωνισμού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Ο έλεγχος δικαιωμάτων έχει διαχωριστεί από το άνοιγμα αρχείου – σίγουρα το αρχείο δεν έχει αλλάξει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422280" y="2701800"/>
          <a:ext cx="7993080" cy="2779920"/>
        </p:xfrm>
        <a:graphic>
          <a:graphicData uri="http://schemas.openxmlformats.org/drawingml/2006/table">
            <a:tbl>
              <a:tblPr/>
              <a:tblGrid>
                <a:gridCol w="4437000"/>
                <a:gridCol w="3556080"/>
              </a:tblGrid>
              <a:tr h="277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382680"/>
                          <a:tab algn="l" pos="6634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while(1) lpr harmles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382680"/>
                          <a:tab algn="l" pos="6634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382680"/>
                          <a:tab algn="l" pos="6634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f(access(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heFile</a:t>
                      </a: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,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</a:t>
                      </a: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_OK) == 0)</a:t>
                      </a:r>
                      <a:r>
                        <a:rPr b="0" lang="el-GR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{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382680"/>
                          <a:tab algn="l" pos="6634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/* User has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ead</a:t>
                      </a: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permission */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382680"/>
                          <a:tab algn="l" pos="6634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	</a:t>
                      </a: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f((fd = open(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heFile</a:t>
                      </a: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, O_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DONLY</a:t>
                      </a: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)) &lt; 0)    {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error(theFile);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382680"/>
                          <a:tab algn="l" pos="6634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	</a:t>
                      </a: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xit(-1);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382680"/>
                          <a:tab algn="l" pos="6634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	</a:t>
                      </a: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}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382680"/>
                          <a:tab algn="l" pos="6634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/* print the file */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382680"/>
                          <a:tab algn="l" pos="6634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}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382680"/>
                          <a:tab algn="l" pos="6634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lse perror(theFile);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289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while(1) {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289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reat</a:t>
                      </a: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"harmless"</a:t>
                      </a: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,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644</a:t>
                      </a: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)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;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289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unlink("harmless");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289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ymlink("/etc/shadow", "harmless");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289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}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ffff00"/>
                </a:solidFill>
                <a:latin typeface="Times New Roman"/>
              </a:rPr>
              <a:t>Συνθήκες ανταγωνισμού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508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Αντιμετώπιση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χρήση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access </a:t>
            </a: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όπου παρέχεται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buClr>
                <a:srgbClr val="ffffff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Times New Roman"/>
              </a:rPr>
              <a:t>Δυστυχώς όχι σε πολλά συστήματα π.χ. </a:t>
            </a: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Linux, OpenBSD, Solaris and AIX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Χρήση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stat </a:t>
            </a: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για αποκλεισμό συμβολικών συνδέσμων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buClr>
                <a:srgbClr val="ffffff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Times New Roman"/>
              </a:rPr>
              <a:t>Βοηθάει αλλά δεν αντιμετωπίζει τους «κανονικούς» συνδέσμους – περιορίζει το πρόβλημα στα πλαίσια ενός συστήματος αρχείων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buClr>
                <a:srgbClr val="ffffff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Times New Roman"/>
              </a:rPr>
              <a:t>Περιορίζει τη λειτουργικότητα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Χρήση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setegid() and seteuid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buClr>
                <a:srgbClr val="ffffff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Times New Roman"/>
              </a:rPr>
              <a:t>Το πρόγραμμα αποκτά την ενεργό ταυτότητα του χρήστη για να ανοίξει το αρχείο και κατόπιν επανέρχεται στην πρότερη ενεργό ταυτότητα (πρέπει να είναι ορισμένο το </a:t>
            </a:r>
            <a:r>
              <a:rPr b="0" i="1" lang="en-GB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_POSIX_SAVED_IDS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l-GR" sz="1800" spc="-1" strike="noStrike">
                <a:solidFill>
                  <a:srgbClr val="ffffff"/>
                </a:solidFill>
                <a:latin typeface="Arial"/>
              </a:rPr>
              <a:t>στο σύστημα) [επόμενη διαφάνεια]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rk() 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και μεταβίβαση περιγραφέα αρχείου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buClr>
                <a:srgbClr val="ffffff"/>
              </a:buClr>
              <a:buFont typeface="Helvetic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Arial"/>
              </a:rPr>
              <a:t>Δημιουργούμε μία θυγατρική διεργασία με τα προνόμια του πραγματικού χρήστη. Αυτή ανοίγει το αρχείο και στέλνει τον </a:t>
            </a:r>
            <a:r>
              <a:rPr b="0" i="1" lang="el-GR" sz="1800" spc="-1" strike="noStrike">
                <a:solidFill>
                  <a:srgbClr val="ffffff"/>
                </a:solidFill>
                <a:latin typeface="Arial"/>
              </a:rPr>
              <a:t>περιγραφέα αρχείου</a:t>
            </a:r>
            <a:r>
              <a:rPr b="0" lang="el-GR" sz="1800" spc="-1" strike="noStrike">
                <a:solidFill>
                  <a:srgbClr val="ffffff"/>
                </a:solidFill>
                <a:latin typeface="Arial"/>
              </a:rPr>
              <a:t> στη γονική διεργασία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ffff00"/>
                </a:solidFill>
                <a:latin typeface="Times New Roman"/>
              </a:rPr>
              <a:t>Συνθήκες ανταγωνισμού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273320"/>
            <a:ext cx="7772400" cy="54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uid_t euid, ruid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gid_t egid, rgid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euid = geteuid();</a:t>
            </a:r>
            <a:r>
              <a:rPr b="0" lang="el-GR" sz="1800" spc="-1" strike="noStrike">
                <a:solidFill>
                  <a:srgbClr val="ffffff"/>
                </a:solidFill>
                <a:latin typeface="Times New Roman"/>
              </a:rPr>
              <a:t> /* Αποθήκευση τρέχουσας ενεργού ταυτότητας χρήστη *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egid = getegid();</a:t>
            </a:r>
            <a:r>
              <a:rPr b="0" lang="el-GR" sz="1800" spc="-1" strike="noStrike">
                <a:solidFill>
                  <a:srgbClr val="ffffff"/>
                </a:solidFill>
                <a:latin typeface="Times New Roman"/>
              </a:rPr>
              <a:t> /* Αποθήκευση τρέχουσας ενεργού ταυτότητας ομάδας *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ruid = getuid();</a:t>
            </a:r>
            <a:r>
              <a:rPr b="0" lang="el-GR" sz="1800" spc="-1" strike="noStrike">
                <a:solidFill>
                  <a:srgbClr val="ffffff"/>
                </a:solidFill>
                <a:latin typeface="Times New Roman"/>
              </a:rPr>
              <a:t> /* Αποθήκευση τρέχουσας πραγματικής ταυτότητας χρήστη *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rgid = getgid();</a:t>
            </a:r>
            <a:r>
              <a:rPr b="0" lang="el-GR" sz="1800" spc="-1" strike="noStrike">
                <a:solidFill>
                  <a:srgbClr val="ffffff"/>
                </a:solidFill>
                <a:latin typeface="Times New Roman"/>
              </a:rPr>
              <a:t> /* Αποθήκευση τρέχουσας πραγματικής ταυτότητας ομάδας *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if(setegid(rgid) &lt; 0)</a:t>
            </a:r>
            <a:r>
              <a:rPr b="0" lang="el-GR" sz="1800" spc="-1" strike="noStrike">
                <a:solidFill>
                  <a:srgbClr val="ffffff"/>
                </a:solidFill>
                <a:latin typeface="Times New Roman"/>
              </a:rPr>
              <a:t> /* Η πραγματική ταυτότητα χρήστη τίθεται ως ενεργός *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xit(1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if(seteuid(ruid) &lt; 0)</a:t>
            </a:r>
            <a:r>
              <a:rPr b="0" lang="el-GR" sz="1800" spc="-1" strike="noStrike">
                <a:solidFill>
                  <a:srgbClr val="ffffff"/>
                </a:solidFill>
                <a:latin typeface="Times New Roman"/>
              </a:rPr>
              <a:t> /* Η πραγματική ταυτότητα χρήστη τίθεται ως ενεργός *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xit(1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open("...", ...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if(setegid(egid) &lt; 0)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/* </a:t>
            </a:r>
            <a:r>
              <a:rPr b="0" lang="el-GR" sz="1800" spc="-1" strike="noStrike">
                <a:solidFill>
                  <a:srgbClr val="ffffff"/>
                </a:solidFill>
                <a:latin typeface="Times New Roman"/>
              </a:rPr>
              <a:t>Αποκατάσταση αρχικής ενεργού ταυτότητας ομάδας *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xit(1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if(seteuid(euid) &lt; 0)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/* </a:t>
            </a:r>
            <a:r>
              <a:rPr b="0" lang="el-GR" sz="1800" spc="-1" strike="noStrike">
                <a:solidFill>
                  <a:srgbClr val="ffffff"/>
                </a:solidFill>
                <a:latin typeface="Times New Roman"/>
              </a:rPr>
              <a:t>Αποκατάσταση αρχικής ενεργού ταυτότητας χρήστη *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xit(1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ffff00"/>
                </a:solidFill>
                <a:latin typeface="Times New Roman"/>
              </a:rPr>
              <a:t>Προσωρινά αρχεία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Ιδιαίτερα ύποπτα για διαρροή πληροφοριών αλλά και άλλα προβλήματα στην ασφάλεια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Τα προσωρινά αρχεία δημιουργούνται σε καταλόγους που συνήθως είναι εγγράψιμοι απ’ όλου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/tmp, /var/tm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Παλαιότερα ήταν δυνατόν να διαγραφούν από οποιονδήποτ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Αυτό αντιμετωπίσθηκε υποστηρίζοντας τη σημασιολογία του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bit </a:t>
            </a: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δικαιωμάτων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 </a:t>
            </a: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για καταλόγους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hmod +t /tmp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rwxrwxrwt … /tm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Μπορούμε να δημιουργήσουμε οποιοδήποτε αρχείο αλλά να σβήσουμε </a:t>
            </a:r>
            <a:r>
              <a:rPr b="0" i="1" lang="el-GR" sz="2000" spc="-1" strike="noStrike">
                <a:solidFill>
                  <a:srgbClr val="ffffff"/>
                </a:solidFill>
                <a:latin typeface="Times New Roman"/>
              </a:rPr>
              <a:t>μόνο</a:t>
            </a: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 τα δικά μα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ffff00"/>
                </a:solidFill>
                <a:latin typeface="Times New Roman"/>
              </a:rPr>
              <a:t>Προσωρινά αρχεία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Δημιουργία αρχείου με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char *tmp_name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int tmpfd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tmp_name = tmpnam(NULL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if( (tmpfd = open(tmp_name, O_RDWR | O_CREAT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| 0600</a:t>
            </a: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)) &lt; 0)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xit(1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unlink(tmp_name);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/* </a:t>
            </a:r>
            <a:r>
              <a:rPr b="0" lang="el-GR" sz="1800" spc="-1" strike="noStrike">
                <a:solidFill>
                  <a:srgbClr val="ffffff"/>
                </a:solidFill>
                <a:latin typeface="Times New Roman"/>
              </a:rPr>
              <a:t>Αδύνατη η αναφορά στο αρχείο, αυτόματη διαγραφή του όταν τερματίσει το πρόγραμμα */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Πρόβλημα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o tmp_name </a:t>
            </a: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δεν υπάρχει </a:t>
            </a:r>
            <a:r>
              <a:rPr b="0" i="1" lang="el-GR" sz="2000" spc="-1" strike="noStrike">
                <a:solidFill>
                  <a:srgbClr val="ffffff"/>
                </a:solidFill>
                <a:latin typeface="Times New Roman"/>
              </a:rPr>
              <a:t>όταν τερματίζει η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tmpnam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– </a:t>
            </a: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τι συμβαίνει όταν εκτελείται η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pen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ffff00"/>
                </a:solidFill>
                <a:latin typeface="Times New Roman"/>
              </a:rPr>
              <a:t>Προσωρινά αρχεία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69920" y="1641240"/>
            <a:ext cx="880416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ffffff"/>
                </a:solidFill>
                <a:latin typeface="Times New Roman"/>
              </a:rPr>
              <a:t>Λύση1: Χρήση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mkstemp – </a:t>
            </a:r>
            <a:r>
              <a:rPr b="0" lang="el-GR" sz="2200" spc="-1" strike="noStrike">
                <a:solidFill>
                  <a:srgbClr val="ffffff"/>
                </a:solidFill>
                <a:latin typeface="Times New Roman"/>
              </a:rPr>
              <a:t>Δημιουργία και </a:t>
            </a:r>
            <a:r>
              <a:rPr b="0" i="1" lang="el-GR" sz="2200" spc="-1" strike="noStrike">
                <a:solidFill>
                  <a:srgbClr val="ffffff"/>
                </a:solidFill>
                <a:latin typeface="Times New Roman"/>
              </a:rPr>
              <a:t>ταυτόχρονο άνοιγμα</a:t>
            </a:r>
            <a:r>
              <a:rPr b="0" lang="el-GR" sz="2200" spc="-1" strike="noStrike">
                <a:solidFill>
                  <a:srgbClr val="ffffff"/>
                </a:solidFill>
                <a:latin typeface="Times New Roman"/>
              </a:rPr>
              <a:t> αρχείου με ασφαλή τρόπο – </a:t>
            </a:r>
            <a:r>
              <a:rPr b="0" i="1" lang="el-GR" sz="2200" spc="-1" strike="noStrike">
                <a:solidFill>
                  <a:srgbClr val="ffffff"/>
                </a:solidFill>
                <a:latin typeface="Times New Roman"/>
              </a:rPr>
              <a:t>ΑΜΕΣΩΣ ΜΕΤΑ </a:t>
            </a:r>
            <a:r>
              <a:rPr b="0" lang="el-GR" sz="2200" spc="-1" strike="noStrike">
                <a:solidFill>
                  <a:srgbClr val="ffffff"/>
                </a:solidFill>
                <a:latin typeface="Times New Roman"/>
              </a:rPr>
              <a:t>αλλαγή δικαιωμάτων πρόσβασης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buClr>
                <a:srgbClr val="ffffff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fd = mkstemp("/var/tmp/atempFile.XXXXXX"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buClr>
                <a:srgbClr val="ffffff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fchmod(fd, 0600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000" spc="-1" strike="noStrike">
                <a:solidFill>
                  <a:srgbClr val="ffffff"/>
                </a:solidFill>
                <a:latin typeface="Times New Roman"/>
              </a:rPr>
              <a:t>Και αν προλάβει ο «κακός» να ανοίξει το αρχείο πριν το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fchmod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Λύση 2: αξιοποίηση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mask 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για προληπτικό ορισμό δικαιωμάτων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buClr>
                <a:srgbClr val="ffffff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umask(066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buClr>
                <a:srgbClr val="ffffff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fd = mkstemp("/var/tmp/atempFile.XXXXXX"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Λύση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: αξιοποίηση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_EXCL 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στην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p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buClr>
                <a:srgbClr val="ffffff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tmp_name = tmpnam(NULL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buClr>
                <a:srgbClr val="ffffff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if( (tmpfd = open(tmp_name, O_RDWR | O_CREAT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| O_EXCL | 0600</a:t>
            </a: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)) &lt; 0)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buClr>
                <a:srgbClr val="ffffff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xit(1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buClr>
                <a:srgbClr val="ffffff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unlink(tmp_name);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/* </a:t>
            </a:r>
            <a:r>
              <a:rPr b="0" lang="el-GR" sz="1800" spc="-1" strike="noStrike">
                <a:solidFill>
                  <a:srgbClr val="ffffff"/>
                </a:solidFill>
                <a:latin typeface="Times New Roman"/>
              </a:rPr>
              <a:t>Αδύνατη η αναφορά στο αρχείο, αυτόματη διαγραφή του όταν τερματίσει το πρόγραμμα *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ffff00"/>
                </a:solidFill>
                <a:latin typeface="Times New Roman"/>
              </a:rPr>
              <a:t>Εμπιστοσύνη στις μεταβλητές περιβάλλοντος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8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Κάθε πρόγραμμα έχει μεταβλητές περιβάλλοντος που περιέχουν συγκεκριμένες πληροφορίε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Π.χ. το όνομα του χρήστη, τη διαδρομή αναζήτησης εντολών, διαδρομή αναζήτησης βιβλιοθηκών κ.λπ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Οι μεταβλητές είναι προσπελάσιμες μέσω της μεταβλητής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vir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nviron[0] =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"USER=thomas"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nviron[1] = "PATH=/usr/bin:/sbin:/usr/local/bin"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nviron[2] = "LD_LIBRARY_PATH=/oracle/lib:/usr/lib"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Τα προγράμματα (ειδικότερα τα πιο προνομιούχα) </a:t>
            </a:r>
            <a:r>
              <a:rPr b="0" i="1" lang="el-GR" sz="2400" spc="-1" strike="noStrike">
                <a:solidFill>
                  <a:srgbClr val="ffffff"/>
                </a:solidFill>
                <a:latin typeface="Times New Roman"/>
              </a:rPr>
              <a:t>ΔΕΝ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 πρέπει να βασίζονται στις τιμές αυτές, καθώς μπορούν να τροποποιηθούν από τους χρήστε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ER=root; export US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ffff00"/>
                </a:solidFill>
                <a:latin typeface="Times New Roman"/>
              </a:rPr>
              <a:t>Εμπιστοσύνη στις μεταβλητές περιβάλλοντος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Λύσεις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Χρησιμοποιούμε κλήσεις συστήματος όπου είναι διαθέσιμες ως εναλλακτική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g</a:t>
            </a: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etpwuid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(getuid())</a:t>
            </a:r>
            <a:r>
              <a:rPr b="0" lang="el-GR" sz="1800" spc="-1" strike="noStrike">
                <a:solidFill>
                  <a:srgbClr val="ffffff"/>
                </a:solidFill>
                <a:latin typeface="Times New Roman"/>
              </a:rPr>
              <a:t>-&gt;</a:t>
            </a: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pw_name</a:t>
            </a:r>
            <a:r>
              <a:rPr b="0" lang="el-GR" sz="1800" spc="-1" strike="noStrike">
                <a:solidFill>
                  <a:srgbClr val="ffffff"/>
                </a:solidFill>
                <a:latin typeface="Times New Roman"/>
              </a:rPr>
              <a:t> αντί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getenv("USER"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Φροντίζουμε να έχουμε μόνο ασφαλή στοιχεία στο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ATH </a:t>
            </a: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όταν χρησιμοποιούμε τις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xeclp</a:t>
            </a: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xecvp </a:t>
            </a: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από προνομιούχα προγράμματα/χρήστε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ATH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Το σύστημα πρέπει να αγνοεί επανορισμούς κλήσεων συστήματος (και των σχετικών συναρτήσεων βιβλιοθήκης) που εμφανίζονται σε «μη ασφαλείς» βιβλιοθήκε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Times New Roman"/>
              </a:rPr>
              <a:t>Π.χ. αγνοούμε την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getuid</a:t>
            </a:r>
            <a:r>
              <a:rPr b="0" lang="el-GR" sz="1800" spc="-1" strike="noStrike">
                <a:solidFill>
                  <a:srgbClr val="ffffff"/>
                </a:solidFill>
                <a:latin typeface="Times New Roman"/>
              </a:rPr>
              <a:t>() που φαίνεται να ορίζεται σε μία βιβλιοθήκη στον κατάλογο /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home/users/snoopy/lib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ffff00"/>
                </a:solidFill>
                <a:latin typeface="Times New Roman"/>
              </a:rPr>
              <a:t>Η άμυνα έναντι των επιθέσεων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380880" y="1397160"/>
          <a:ext cx="8458200" cy="5186160"/>
        </p:xfrm>
        <a:graphic>
          <a:graphicData uri="http://schemas.openxmlformats.org/drawingml/2006/table">
            <a:tbl>
              <a:tblPr/>
              <a:tblGrid>
                <a:gridCol w="2819520"/>
                <a:gridCol w="2819520"/>
                <a:gridCol w="2819160"/>
              </a:tblGrid>
              <a:tr h="134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Ανάλυση (στατική μέθοδος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Ανίχνευση-επιβολή πολιτικών (δυναμική μέθοδος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2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Προγραμματιστικά σφάλματα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Ανάλυση πρωτογενούς κώδικα για ανίχνευση σφαλμάτων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Παρακολούθηση συμπεριφοράς και επιβολή ασφαλών προτύπων για τα προγράμματα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2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Σφάλματα ολοκλήρωσης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Ανάλυση διαμόρφωσης συστήματος για εντοπισμό αδυναμιών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Ανίχνευση προσπαθειών για εκμετάλλευση αδυναμιών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ffff00"/>
                </a:solidFill>
                <a:latin typeface="Times New Roman"/>
              </a:rPr>
              <a:t>Περιορισμός πόρων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Περιορίζοντας τους πόρους μιας διεργασίας μπορεί να αποφευχθούν ορισμένες επιθέσεις τύπου άρνησης παροχής υπηρεσία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Π.χ. εξάντληση της μνήμης, των καταχωρήσεων του πίνακα διεργασιών, του πλήθους των ανοικτών αρχείων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Περιορίζοντας το μέγεθος του αρχείου αποτύπωσης μνήμης (προτιμότερα: μηδενίζοντάς το) προλαβαίνουμε τυχόν διαρροή πληροφοριών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asswd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pid = 2078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kill –ABRT 2078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stop and core dum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trings core | grep root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extract root ent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ffff00"/>
                </a:solidFill>
                <a:latin typeface="Times New Roman"/>
              </a:rPr>
              <a:t>Ασφάλεια δικτύων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Times New Roman"/>
              </a:rPr>
              <a:t>Ασφάλεια επικοινωνιών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Ιδιωτικότητα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Αυθεντικότητα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Ακεραιότητα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Καταλογισμός και αδυναμία αποκήρυξη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Times New Roman"/>
              </a:rPr>
              <a:t>Προστασία πόρων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ffff00"/>
                </a:solidFill>
                <a:latin typeface="Times New Roman"/>
              </a:rPr>
              <a:t>Κρυπτογραφία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440" y="1641240"/>
            <a:ext cx="807732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800" spc="-1" strike="noStrike">
                <a:solidFill>
                  <a:srgbClr val="ffffff"/>
                </a:solidFill>
                <a:latin typeface="Times New Roman"/>
              </a:rPr>
              <a:t>Αρχικά: </a:t>
            </a: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Δεδομένα σε μη κρυπτογραφημένη μορφή (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laintext, clear text,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re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800" spc="-1" strike="noStrike">
                <a:solidFill>
                  <a:srgbClr val="ffffff"/>
                </a:solidFill>
                <a:latin typeface="Times New Roman"/>
              </a:rPr>
              <a:t>Κρυπτογράφηση</a:t>
            </a: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: απεικόνιση των δεδομένων σε μία ακατάληπτη μορφή (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ipher text,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black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) </a:t>
            </a: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με χρήση ενός </a:t>
            </a:r>
            <a:r>
              <a:rPr b="0" i="1" lang="el-GR" sz="2800" spc="-1" strike="noStrike">
                <a:solidFill>
                  <a:srgbClr val="ffffff"/>
                </a:solidFill>
                <a:latin typeface="Times New Roman"/>
              </a:rPr>
              <a:t>κλειδιού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800" spc="-1" strike="noStrike">
                <a:solidFill>
                  <a:srgbClr val="ffffff"/>
                </a:solidFill>
                <a:latin typeface="Times New Roman"/>
              </a:rPr>
              <a:t>Κλειδί</a:t>
            </a: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: μία ακολουθία από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i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800" spc="-1" strike="noStrike">
                <a:solidFill>
                  <a:srgbClr val="ffffff"/>
                </a:solidFill>
                <a:latin typeface="Times New Roman"/>
              </a:rPr>
              <a:t>Αποκρυπτογράφηση</a:t>
            </a: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: η απεικόνιση της ακατάληπτης μορφής των δεδομένων στην αρχική, με χρήση ενός κλειδιού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Τα κλειδιά μπορούν να είναι κρυπτογραφημένα ή μη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380880" y="2971800"/>
            <a:ext cx="4267440" cy="3733920"/>
          </a:xfrm>
          <a:prstGeom prst="rect">
            <a:avLst/>
          </a:prstGeom>
          <a:solidFill>
            <a:srgbClr val="000080">
              <a:alpha val="50000"/>
            </a:srgbClr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648320" y="2971800"/>
            <a:ext cx="4267080" cy="3733920"/>
          </a:xfrm>
          <a:prstGeom prst="rect">
            <a:avLst/>
          </a:prstGeom>
          <a:solidFill>
            <a:srgbClr val="ff0000">
              <a:alpha val="50000"/>
            </a:srgbClr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ffff00"/>
                </a:solidFill>
                <a:latin typeface="Times New Roman"/>
              </a:rPr>
              <a:t>Γενική ιδέα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178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Times New Roman"/>
              </a:rPr>
              <a:t>Τα δεδομένα κρυπτογραφούνται για να αποθηκευθούν σε χώρο χαμηλής ασφάλειας ή για να μεταδοθούν από ανασφαλές κανάλι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09480" y="4419720"/>
            <a:ext cx="1676520" cy="915840"/>
          </a:xfrm>
          <a:prstGeom prst="rect">
            <a:avLst/>
          </a:prstGeom>
          <a:solidFill>
            <a:srgbClr val="00808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laintex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447920" y="3962520"/>
            <a:ext cx="2286000" cy="457200"/>
          </a:xfrm>
          <a:custGeom>
            <a:avLst/>
            <a:gdLst/>
            <a:ahLst/>
            <a:rect l="l" t="t" r="r" b="b"/>
            <a:pathLst>
              <a:path w="1440" h="480">
                <a:moveTo>
                  <a:pt x="0" y="480"/>
                </a:moveTo>
                <a:lnTo>
                  <a:pt x="0" y="0"/>
                </a:lnTo>
                <a:lnTo>
                  <a:pt x="1440" y="0"/>
                </a:lnTo>
              </a:path>
            </a:pathLst>
          </a:custGeom>
          <a:noFill/>
          <a:ln cap="sq" w="38160">
            <a:solidFill>
              <a:srgbClr val="00808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3048120"/>
            <a:ext cx="1752480" cy="1752480"/>
          </a:xfrm>
          <a:prstGeom prst="diamond">
            <a:avLst/>
          </a:prstGeom>
          <a:solidFill>
            <a:srgbClr val="00808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Κρυπτο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γράφηση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733920" y="4952880"/>
            <a:ext cx="1752480" cy="1752840"/>
          </a:xfrm>
          <a:prstGeom prst="diamond">
            <a:avLst/>
          </a:prstGeom>
          <a:solidFill>
            <a:srgbClr val="00808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Αποκρυπτο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γράφηση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34320" y="4419720"/>
            <a:ext cx="1676160" cy="915840"/>
          </a:xfrm>
          <a:prstGeom prst="rect">
            <a:avLst/>
          </a:prstGeom>
          <a:solidFill>
            <a:srgbClr val="00808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ipher tex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rot="10800000">
            <a:off x="5486400" y="5410080"/>
            <a:ext cx="2286000" cy="457200"/>
          </a:xfrm>
          <a:custGeom>
            <a:avLst/>
            <a:gdLst/>
            <a:ahLst/>
            <a:rect l="l" t="t" r="r" b="b"/>
            <a:pathLst>
              <a:path w="1440" h="480">
                <a:moveTo>
                  <a:pt x="0" y="480"/>
                </a:moveTo>
                <a:lnTo>
                  <a:pt x="0" y="0"/>
                </a:lnTo>
                <a:lnTo>
                  <a:pt x="1440" y="0"/>
                </a:lnTo>
              </a:path>
            </a:pathLst>
          </a:custGeom>
          <a:noFill/>
          <a:ln cap="sq" w="38160">
            <a:solidFill>
              <a:srgbClr val="00808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 rot="10800000">
            <a:off x="5486400" y="3962520"/>
            <a:ext cx="2286000" cy="457200"/>
          </a:xfrm>
          <a:custGeom>
            <a:avLst/>
            <a:gdLst/>
            <a:ahLst/>
            <a:rect l="l" t="t" r="r" b="b"/>
            <a:pathLst>
              <a:path w="1440" h="480">
                <a:moveTo>
                  <a:pt x="0" y="480"/>
                </a:moveTo>
                <a:lnTo>
                  <a:pt x="0" y="0"/>
                </a:lnTo>
                <a:lnTo>
                  <a:pt x="1440" y="0"/>
                </a:lnTo>
              </a:path>
            </a:pathLst>
          </a:custGeom>
          <a:noFill/>
          <a:ln cap="sq" w="38160">
            <a:solidFill>
              <a:srgbClr val="00808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1371600" y="5334120"/>
            <a:ext cx="2286000" cy="457200"/>
          </a:xfrm>
          <a:custGeom>
            <a:avLst/>
            <a:gdLst/>
            <a:ahLst/>
            <a:rect l="l" t="t" r="r" b="b"/>
            <a:pathLst>
              <a:path w="1440" h="480">
                <a:moveTo>
                  <a:pt x="0" y="480"/>
                </a:moveTo>
                <a:lnTo>
                  <a:pt x="0" y="0"/>
                </a:lnTo>
                <a:lnTo>
                  <a:pt x="1440" y="0"/>
                </a:lnTo>
              </a:path>
            </a:pathLst>
          </a:custGeom>
          <a:noFill/>
          <a:ln cap="sq" w="38160">
            <a:solidFill>
              <a:srgbClr val="00808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85800" y="32004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Ασφαλής χώρο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095880" y="32004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Ανασφαλής χώρο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3048120" y="3048120"/>
            <a:ext cx="1066680" cy="65376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2971800" y="6051600"/>
            <a:ext cx="1066680" cy="65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ffff00"/>
                </a:solidFill>
                <a:latin typeface="Times New Roman"/>
              </a:rPr>
              <a:t>Γενικές παρατηρήσεις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Times New Roman"/>
              </a:rPr>
              <a:t>Η κρυπτογραφία δεν λύνει προβλήματα: απλά τους αλλάζει μορφή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Προστασία δεδομένων </a:t>
            </a:r>
            <a:r>
              <a:rPr b="0" lang="el-GR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 Διαχείριση κλειδιών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Times New Roman"/>
              </a:rPr>
              <a:t>Για τη διαφύλαξη ενός μυστικού χρειάζεται ένα άλλο μυστικό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ffff00"/>
                </a:solidFill>
                <a:latin typeface="Times New Roman"/>
              </a:rPr>
              <a:t>Καταλληλότητα κρυπρογραφίας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Times New Roman"/>
              </a:rPr>
              <a:t>Ιδεώδης για διασφάλιση επικοινωνιακών καναλιών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Times New Roman"/>
              </a:rPr>
              <a:t>Καλή για μακρόχρονα αποθηκευόμενα δεδομένα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Times New Roman"/>
              </a:rPr>
              <a:t>Δεν συνηθίζεται για ηλεκτρονική αλληλογραφία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Times New Roman"/>
              </a:rPr>
              <a:t>Μάλλον ακατάλληλη για ενεργές βάσεις δεδομένων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ffff00"/>
                </a:solidFill>
                <a:latin typeface="Times New Roman"/>
              </a:rPr>
              <a:t>Συμμετρική κρυπτογραφία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9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1328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Times New Roman"/>
              </a:rPr>
              <a:t>Το ίδιο κλειδί κρυπτογραφεί και αποκρυπτογραφεί τα δεδομένα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buClr>
                <a:srgbClr val="ffffff"/>
              </a:buClr>
              <a:buFont typeface="Times New Roman"/>
              <a:buChar char="–"/>
              <a:tabLst>
                <a:tab algn="l" pos="1328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c(Enc(D, k), k) = 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buClr>
                <a:srgbClr val="ffffff"/>
              </a:buClr>
              <a:buFont typeface="Times New Roman"/>
              <a:buChar char="–"/>
              <a:tabLst>
                <a:tab algn="l" pos="1328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Παράδειγμα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buNone/>
              <a:tabLst>
                <a:tab algn="l" pos="0"/>
                <a:tab algn="l" pos="1328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har *encrypt(s, k) 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buNone/>
              <a:tabLst>
                <a:tab algn="l" pos="0"/>
                <a:tab algn="l" pos="1328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har *res = malloc(strlen(s) + 1), *w = res, rk = k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buNone/>
              <a:tabLst>
                <a:tab algn="l" pos="0"/>
                <a:tab algn="l" pos="1328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while (*s) 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buNone/>
              <a:tabLst>
                <a:tab algn="l" pos="0"/>
                <a:tab algn="l" pos="1328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*(w++) = *(s++) ^ *(rk++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buNone/>
              <a:tabLst>
                <a:tab algn="l" pos="0"/>
                <a:tab algn="l" pos="1328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f (!*rk) rk = k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buNone/>
              <a:tabLst>
                <a:tab algn="l" pos="0"/>
                <a:tab algn="l" pos="1328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buNone/>
              <a:tabLst>
                <a:tab algn="l" pos="0"/>
                <a:tab algn="l" pos="1328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*w = '\0'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buNone/>
              <a:tabLst>
                <a:tab algn="l" pos="0"/>
                <a:tab algn="l" pos="1328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eturn res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buNone/>
              <a:tabLst>
                <a:tab algn="l" pos="0"/>
                <a:tab algn="l" pos="1328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ffff00"/>
                </a:solidFill>
                <a:latin typeface="Times New Roman"/>
              </a:rPr>
              <a:t>Ασύμμετρη κρυπτογραφία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3200" spc="-1" strike="noStrike">
                <a:solidFill>
                  <a:srgbClr val="ffffff"/>
                </a:solidFill>
                <a:latin typeface="Times New Roman"/>
              </a:rPr>
              <a:t>Δύο</a:t>
            </a:r>
            <a:r>
              <a:rPr b="0" lang="el-GR" sz="3200" spc="-1" strike="noStrike">
                <a:solidFill>
                  <a:srgbClr val="ffffff"/>
                </a:solidFill>
                <a:latin typeface="Times New Roman"/>
              </a:rPr>
              <a:t> κλειδιά, το κλειδί κρυπτογράφησης (δημόσιο κλειδί) και το κλειδί αποκρυπτογράφησης (ιδιωτικό κλειδί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Times New Roman"/>
              </a:rPr>
              <a:t>Δεν υπάρχει υπολογιστικά εφικτός τρόπος υπολογισμού του ενός κλειδιού από το άλλο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ffff00"/>
                </a:solidFill>
                <a:latin typeface="Times New Roman"/>
              </a:rPr>
              <a:t>Λειτουργία ασύμμετρης κρυπτογραφίας (1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457200" y="3200400"/>
            <a:ext cx="1405080" cy="15796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6858000" y="3200400"/>
            <a:ext cx="1852560" cy="145080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3"/>
          <a:stretch/>
        </p:blipFill>
        <p:spPr>
          <a:xfrm>
            <a:off x="457200" y="4876920"/>
            <a:ext cx="1066680" cy="65376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4"/>
          <a:stretch/>
        </p:blipFill>
        <p:spPr>
          <a:xfrm>
            <a:off x="7620120" y="4876920"/>
            <a:ext cx="1066680" cy="65376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762120" y="5562720"/>
            <a:ext cx="680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Κ</a:t>
            </a:r>
            <a:r>
              <a:rPr b="0" lang="el-GR" sz="2400" spc="-1" strike="noStrike" baseline="-25000">
                <a:solidFill>
                  <a:srgbClr val="ffffff"/>
                </a:solidFill>
                <a:latin typeface="Times New Roman"/>
              </a:rPr>
              <a:t>Ι</a:t>
            </a:r>
            <a:r>
              <a:rPr b="0" lang="el-GR" sz="2400" spc="-1" strike="noStrike" baseline="30000">
                <a:solidFill>
                  <a:srgbClr val="ffffff"/>
                </a:solidFill>
                <a:latin typeface="Times New Roman"/>
              </a:rPr>
              <a:t>Α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924680" y="5638680"/>
            <a:ext cx="681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Κ</a:t>
            </a:r>
            <a:r>
              <a:rPr b="0" lang="el-GR" sz="2400" spc="-1" strike="noStrike" baseline="-25000">
                <a:solidFill>
                  <a:srgbClr val="ffffff"/>
                </a:solidFill>
                <a:latin typeface="Times New Roman"/>
              </a:rPr>
              <a:t>Ι</a:t>
            </a:r>
            <a:r>
              <a:rPr b="0" lang="el-GR" sz="2400" spc="-1" strike="noStrike" baseline="30000">
                <a:solidFill>
                  <a:srgbClr val="ffffff"/>
                </a:solidFill>
                <a:latin typeface="Times New Roman"/>
              </a:rPr>
              <a:t>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981080" y="3733920"/>
            <a:ext cx="4724640" cy="0"/>
          </a:xfrm>
          <a:prstGeom prst="line">
            <a:avLst/>
          </a:prstGeom>
          <a:ln cap="sq"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819520" y="3276720"/>
            <a:ext cx="31240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(3) Αποστολή Κωδ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Δ, Κ</a:t>
            </a:r>
            <a:r>
              <a:rPr b="0" lang="el-GR" sz="2000" spc="-1" strike="noStrike" baseline="-25000">
                <a:solidFill>
                  <a:srgbClr val="ffffff"/>
                </a:solidFill>
                <a:latin typeface="Times New Roman"/>
              </a:rPr>
              <a:t>Δ</a:t>
            </a:r>
            <a:r>
              <a:rPr b="0" lang="el-GR" sz="2000" spc="-1" strike="noStrike" baseline="30000">
                <a:solidFill>
                  <a:srgbClr val="ffffff"/>
                </a:solidFill>
                <a:latin typeface="Times New Roman"/>
              </a:rPr>
              <a:t>Β</a:t>
            </a: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981080" y="2819520"/>
            <a:ext cx="4724640" cy="0"/>
          </a:xfrm>
          <a:prstGeom prst="line">
            <a:avLst/>
          </a:prstGeom>
          <a:ln cap="sq"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819520" y="2362320"/>
            <a:ext cx="31240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(1) Αίτηση για Κ</a:t>
            </a:r>
            <a:r>
              <a:rPr b="0" lang="el-GR" sz="2000" spc="-1" strike="noStrike" baseline="-25000">
                <a:solidFill>
                  <a:srgbClr val="ffffff"/>
                </a:solidFill>
                <a:latin typeface="Times New Roman"/>
              </a:rPr>
              <a:t>Δ</a:t>
            </a:r>
            <a:r>
              <a:rPr b="0" lang="el-GR" sz="2000" spc="-1" strike="noStrike" baseline="30000">
                <a:solidFill>
                  <a:srgbClr val="ffffff"/>
                </a:solidFill>
                <a:latin typeface="Times New Roman"/>
              </a:rPr>
              <a:t>Β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19520" y="2819520"/>
            <a:ext cx="31240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(2) Αποστολή Κ</a:t>
            </a:r>
            <a:r>
              <a:rPr b="0" lang="el-GR" sz="2000" spc="-1" strike="noStrike" baseline="-25000">
                <a:solidFill>
                  <a:srgbClr val="ffffff"/>
                </a:solidFill>
                <a:latin typeface="Times New Roman"/>
              </a:rPr>
              <a:t>Δ</a:t>
            </a:r>
            <a:r>
              <a:rPr b="0" lang="el-GR" sz="2000" spc="-1" strike="noStrike" baseline="30000">
                <a:solidFill>
                  <a:srgbClr val="ffffff"/>
                </a:solidFill>
                <a:latin typeface="Times New Roman"/>
              </a:rPr>
              <a:t>Β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1981080" y="3276720"/>
            <a:ext cx="4648320" cy="0"/>
          </a:xfrm>
          <a:prstGeom prst="line">
            <a:avLst/>
          </a:prstGeom>
          <a:ln cap="sq"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1981080" y="5105520"/>
            <a:ext cx="4724640" cy="0"/>
          </a:xfrm>
          <a:prstGeom prst="line">
            <a:avLst/>
          </a:prstGeom>
          <a:ln cap="sq"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819520" y="4648320"/>
            <a:ext cx="31240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(6) Αποστολή Κωδ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Δ’, Κ</a:t>
            </a:r>
            <a:r>
              <a:rPr b="0" lang="el-GR" sz="2000" spc="-1" strike="noStrike" baseline="-25000">
                <a:solidFill>
                  <a:srgbClr val="ffffff"/>
                </a:solidFill>
                <a:latin typeface="Times New Roman"/>
              </a:rPr>
              <a:t>Δ</a:t>
            </a:r>
            <a:r>
              <a:rPr b="0" lang="el-GR" sz="2000" spc="-1" strike="noStrike" baseline="30000">
                <a:solidFill>
                  <a:srgbClr val="ffffff"/>
                </a:solidFill>
                <a:latin typeface="Times New Roman"/>
              </a:rPr>
              <a:t>Β</a:t>
            </a: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H="1">
            <a:off x="1981080" y="4191120"/>
            <a:ext cx="4724640" cy="0"/>
          </a:xfrm>
          <a:prstGeom prst="line">
            <a:avLst/>
          </a:prstGeom>
          <a:ln cap="sq"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819520" y="3733920"/>
            <a:ext cx="31240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(4) Αίτηση για Κ</a:t>
            </a:r>
            <a:r>
              <a:rPr b="0" lang="el-GR" sz="2000" spc="-1" strike="noStrike" baseline="-25000">
                <a:solidFill>
                  <a:srgbClr val="ffffff"/>
                </a:solidFill>
                <a:latin typeface="Times New Roman"/>
              </a:rPr>
              <a:t>Δ</a:t>
            </a:r>
            <a:r>
              <a:rPr b="0" lang="el-GR" sz="2000" spc="-1" strike="noStrike" baseline="30000">
                <a:solidFill>
                  <a:srgbClr val="ffffff"/>
                </a:solidFill>
                <a:latin typeface="Times New Roman"/>
              </a:rPr>
              <a:t>Α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819520" y="4191120"/>
            <a:ext cx="31240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(5) Αποστολή Κ</a:t>
            </a:r>
            <a:r>
              <a:rPr b="0" lang="el-GR" sz="2000" spc="-1" strike="noStrike" baseline="-25000">
                <a:solidFill>
                  <a:srgbClr val="ffffff"/>
                </a:solidFill>
                <a:latin typeface="Times New Roman"/>
              </a:rPr>
              <a:t>Δ</a:t>
            </a:r>
            <a:r>
              <a:rPr b="0" lang="el-GR" sz="2000" spc="-1" strike="noStrike" baseline="30000">
                <a:solidFill>
                  <a:srgbClr val="ffffff"/>
                </a:solidFill>
                <a:latin typeface="Times New Roman"/>
              </a:rPr>
              <a:t>Α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981080" y="4648320"/>
            <a:ext cx="4648320" cy="0"/>
          </a:xfrm>
          <a:prstGeom prst="line">
            <a:avLst/>
          </a:prstGeom>
          <a:ln cap="sq"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ffff00"/>
                </a:solidFill>
                <a:latin typeface="Times New Roman"/>
              </a:rPr>
              <a:t>Λειτουργία ασύμμετρης κρυπτογραφίας (2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152280" y="2514600"/>
            <a:ext cx="1405080" cy="157968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7238880" y="2514600"/>
            <a:ext cx="1852560" cy="145080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3"/>
          <a:stretch/>
        </p:blipFill>
        <p:spPr>
          <a:xfrm>
            <a:off x="152280" y="4191120"/>
            <a:ext cx="1067040" cy="65376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4"/>
          <a:stretch/>
        </p:blipFill>
        <p:spPr>
          <a:xfrm>
            <a:off x="7900920" y="4191120"/>
            <a:ext cx="1067040" cy="65376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>
            <a:off x="457200" y="4876920"/>
            <a:ext cx="681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Κ</a:t>
            </a:r>
            <a:r>
              <a:rPr b="0" lang="el-GR" sz="2400" spc="-1" strike="noStrike" baseline="-25000">
                <a:solidFill>
                  <a:srgbClr val="ffffff"/>
                </a:solidFill>
                <a:latin typeface="Times New Roman"/>
              </a:rPr>
              <a:t>Ι</a:t>
            </a:r>
            <a:r>
              <a:rPr b="0" lang="el-GR" sz="2400" spc="-1" strike="noStrike" baseline="30000">
                <a:solidFill>
                  <a:srgbClr val="ffffff"/>
                </a:solidFill>
                <a:latin typeface="Times New Roman"/>
              </a:rPr>
              <a:t>Α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8205840" y="4952880"/>
            <a:ext cx="681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Κ</a:t>
            </a:r>
            <a:r>
              <a:rPr b="0" lang="el-GR" sz="2400" spc="-1" strike="noStrike" baseline="-25000">
                <a:solidFill>
                  <a:srgbClr val="ffffff"/>
                </a:solidFill>
                <a:latin typeface="Times New Roman"/>
              </a:rPr>
              <a:t>Ι</a:t>
            </a:r>
            <a:r>
              <a:rPr b="0" lang="el-GR" sz="2400" spc="-1" strike="noStrike" baseline="30000">
                <a:solidFill>
                  <a:srgbClr val="ffffff"/>
                </a:solidFill>
                <a:latin typeface="Times New Roman"/>
              </a:rPr>
              <a:t>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3886200" y="5181480"/>
            <a:ext cx="1363680" cy="167652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/>
          <p:nvPr/>
        </p:nvSpPr>
        <p:spPr>
          <a:xfrm>
            <a:off x="1320840" y="2057400"/>
            <a:ext cx="3022560" cy="3048120"/>
          </a:xfrm>
          <a:custGeom>
            <a:avLst/>
            <a:gdLst/>
            <a:ahLst/>
            <a:rect l="l" t="t" r="r" b="b"/>
            <a:pathLst>
              <a:path w="1392" h="2064">
                <a:moveTo>
                  <a:pt x="0" y="0"/>
                </a:moveTo>
                <a:lnTo>
                  <a:pt x="1392" y="0"/>
                </a:lnTo>
                <a:lnTo>
                  <a:pt x="1392" y="2064"/>
                </a:lnTo>
              </a:path>
            </a:pathLst>
          </a:custGeom>
          <a:noFill/>
          <a:ln cap="sq" w="255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447920" y="1584360"/>
            <a:ext cx="2286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(1) Αίτηση για Κ</a:t>
            </a:r>
            <a:r>
              <a:rPr b="0" lang="el-GR" sz="2000" spc="-1" strike="noStrike" baseline="-25000">
                <a:solidFill>
                  <a:srgbClr val="ffffff"/>
                </a:solidFill>
                <a:latin typeface="Times New Roman"/>
              </a:rPr>
              <a:t>Δ</a:t>
            </a:r>
            <a:r>
              <a:rPr b="0" lang="el-GR" sz="2000" spc="-1" strike="noStrike" baseline="30000">
                <a:solidFill>
                  <a:srgbClr val="ffffff"/>
                </a:solidFill>
                <a:latin typeface="Times New Roman"/>
              </a:rPr>
              <a:t>Β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371600" y="2514600"/>
            <a:ext cx="2666880" cy="2514600"/>
          </a:xfrm>
          <a:custGeom>
            <a:avLst/>
            <a:gdLst/>
            <a:ahLst/>
            <a:rect l="l" t="t" r="r" b="b"/>
            <a:pathLst>
              <a:path w="1440" h="1632">
                <a:moveTo>
                  <a:pt x="1440" y="1632"/>
                </a:moveTo>
                <a:lnTo>
                  <a:pt x="1440" y="0"/>
                </a:lnTo>
                <a:lnTo>
                  <a:pt x="0" y="0"/>
                </a:lnTo>
              </a:path>
            </a:pathLst>
          </a:custGeom>
          <a:noFill/>
          <a:ln cap="sq" w="255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447920" y="2057400"/>
            <a:ext cx="2286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(4) Αποστολή Κ</a:t>
            </a:r>
            <a:r>
              <a:rPr b="0" lang="el-GR" sz="2000" spc="-1" strike="noStrike" baseline="-25000">
                <a:solidFill>
                  <a:srgbClr val="ffffff"/>
                </a:solidFill>
                <a:latin typeface="Times New Roman"/>
              </a:rPr>
              <a:t>Δ</a:t>
            </a:r>
            <a:r>
              <a:rPr b="0" lang="el-GR" sz="2000" spc="-1" strike="noStrike" baseline="30000">
                <a:solidFill>
                  <a:srgbClr val="ffffff"/>
                </a:solidFill>
                <a:latin typeface="Times New Roman"/>
              </a:rPr>
              <a:t>Κ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648320" y="2057400"/>
            <a:ext cx="2514600" cy="2971800"/>
          </a:xfrm>
          <a:custGeom>
            <a:avLst/>
            <a:gdLst/>
            <a:ahLst/>
            <a:rect l="l" t="t" r="r" b="b"/>
            <a:pathLst>
              <a:path w="1296" h="1872">
                <a:moveTo>
                  <a:pt x="0" y="1872"/>
                </a:moveTo>
                <a:lnTo>
                  <a:pt x="0" y="0"/>
                </a:lnTo>
                <a:lnTo>
                  <a:pt x="1296" y="0"/>
                </a:lnTo>
              </a:path>
            </a:pathLst>
          </a:custGeom>
          <a:noFill/>
          <a:ln cap="sq" w="255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95680" y="1600200"/>
            <a:ext cx="2286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(2) Αίτηση για Κ</a:t>
            </a:r>
            <a:r>
              <a:rPr b="0" lang="el-GR" sz="2000" spc="-1" strike="noStrike" baseline="-25000">
                <a:solidFill>
                  <a:srgbClr val="ffffff"/>
                </a:solidFill>
                <a:latin typeface="Times New Roman"/>
              </a:rPr>
              <a:t>Δ</a:t>
            </a:r>
            <a:r>
              <a:rPr b="0" lang="el-GR" sz="2000" spc="-1" strike="noStrike" baseline="30000">
                <a:solidFill>
                  <a:srgbClr val="ffffff"/>
                </a:solidFill>
                <a:latin typeface="Times New Roman"/>
              </a:rPr>
              <a:t>Β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6920" y="2514600"/>
            <a:ext cx="2209680" cy="2514600"/>
          </a:xfrm>
          <a:custGeom>
            <a:avLst/>
            <a:gdLst/>
            <a:ahLst/>
            <a:rect l="l" t="t" r="r" b="b"/>
            <a:pathLst>
              <a:path w="1152" h="1584">
                <a:moveTo>
                  <a:pt x="1152" y="0"/>
                </a:moveTo>
                <a:lnTo>
                  <a:pt x="0" y="0"/>
                </a:lnTo>
                <a:lnTo>
                  <a:pt x="0" y="1584"/>
                </a:lnTo>
              </a:path>
            </a:pathLst>
          </a:custGeom>
          <a:noFill/>
          <a:ln cap="sq" w="255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572000" y="2057400"/>
            <a:ext cx="2286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(3) Αποστολή Κ</a:t>
            </a:r>
            <a:r>
              <a:rPr b="0" lang="el-GR" sz="2000" spc="-1" strike="noStrike" baseline="-25000">
                <a:solidFill>
                  <a:srgbClr val="ffffff"/>
                </a:solidFill>
                <a:latin typeface="Times New Roman"/>
              </a:rPr>
              <a:t>Δ</a:t>
            </a:r>
            <a:r>
              <a:rPr b="0" lang="el-GR" sz="2000" spc="-1" strike="noStrike" baseline="30000">
                <a:solidFill>
                  <a:srgbClr val="ffffff"/>
                </a:solidFill>
                <a:latin typeface="Times New Roman"/>
              </a:rPr>
              <a:t>Β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447920" y="2971800"/>
            <a:ext cx="2361960" cy="2133720"/>
          </a:xfrm>
          <a:custGeom>
            <a:avLst/>
            <a:gdLst/>
            <a:ahLst/>
            <a:rect l="l" t="t" r="r" b="b"/>
            <a:pathLst>
              <a:path w="1392" h="2064">
                <a:moveTo>
                  <a:pt x="0" y="0"/>
                </a:moveTo>
                <a:lnTo>
                  <a:pt x="1392" y="0"/>
                </a:lnTo>
                <a:lnTo>
                  <a:pt x="1392" y="2064"/>
                </a:lnTo>
              </a:path>
            </a:pathLst>
          </a:custGeom>
          <a:noFill/>
          <a:ln cap="sq" w="255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752480" y="3048120"/>
            <a:ext cx="167652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(5) Αποστολή Κωδ(Δ, Κ</a:t>
            </a:r>
            <a:r>
              <a:rPr b="0" lang="el-GR" sz="2000" spc="-1" strike="noStrike" baseline="-25000">
                <a:solidFill>
                  <a:srgbClr val="ffffff"/>
                </a:solidFill>
                <a:latin typeface="Times New Roman"/>
              </a:rPr>
              <a:t>Δ</a:t>
            </a:r>
            <a:r>
              <a:rPr b="0" lang="el-GR" sz="2000" spc="-1" strike="noStrike" baseline="30000">
                <a:solidFill>
                  <a:srgbClr val="ffffff"/>
                </a:solidFill>
                <a:latin typeface="Times New Roman"/>
              </a:rPr>
              <a:t>Κ</a:t>
            </a: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6"/>
          <a:stretch/>
        </p:blipFill>
        <p:spPr>
          <a:xfrm>
            <a:off x="5334120" y="5562720"/>
            <a:ext cx="1066680" cy="653760"/>
          </a:xfrm>
          <a:prstGeom prst="rect">
            <a:avLst/>
          </a:prstGeom>
          <a:ln w="0">
            <a:noFill/>
          </a:ln>
        </p:spPr>
      </p:pic>
      <p:sp>
        <p:nvSpPr>
          <p:cNvPr id="263" name=""/>
          <p:cNvSpPr/>
          <p:nvPr/>
        </p:nvSpPr>
        <p:spPr>
          <a:xfrm>
            <a:off x="5638680" y="6248520"/>
            <a:ext cx="681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Κ</a:t>
            </a:r>
            <a:r>
              <a:rPr b="0" lang="el-GR" sz="2400" spc="-1" strike="noStrike" baseline="-25000">
                <a:solidFill>
                  <a:srgbClr val="ffffff"/>
                </a:solidFill>
                <a:latin typeface="Times New Roman"/>
              </a:rPr>
              <a:t>Ι</a:t>
            </a:r>
            <a:r>
              <a:rPr b="0" lang="el-GR" sz="2400" spc="-1" strike="noStrike" baseline="30000">
                <a:solidFill>
                  <a:srgbClr val="ffffff"/>
                </a:solidFill>
                <a:latin typeface="Times New Roman"/>
              </a:rPr>
              <a:t>Κ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105520" y="2819520"/>
            <a:ext cx="2057400" cy="2209680"/>
          </a:xfrm>
          <a:custGeom>
            <a:avLst/>
            <a:gdLst/>
            <a:ahLst/>
            <a:rect l="l" t="t" r="r" b="b"/>
            <a:pathLst>
              <a:path w="1296" h="1872">
                <a:moveTo>
                  <a:pt x="0" y="1872"/>
                </a:moveTo>
                <a:lnTo>
                  <a:pt x="0" y="0"/>
                </a:lnTo>
                <a:lnTo>
                  <a:pt x="1296" y="0"/>
                </a:lnTo>
              </a:path>
            </a:pathLst>
          </a:custGeom>
          <a:noFill/>
          <a:ln cap="sq" w="255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257800" y="3048120"/>
            <a:ext cx="167652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(6) Αποστολή Κωδ(Δ, Κ</a:t>
            </a:r>
            <a:r>
              <a:rPr b="0" lang="el-GR" sz="2000" spc="-1" strike="noStrike" baseline="-25000">
                <a:solidFill>
                  <a:srgbClr val="ffffff"/>
                </a:solidFill>
                <a:latin typeface="Times New Roman"/>
              </a:rPr>
              <a:t>Δ</a:t>
            </a:r>
            <a:r>
              <a:rPr b="0" lang="el-GR" sz="2000" spc="-1" strike="noStrike" baseline="30000">
                <a:solidFill>
                  <a:srgbClr val="ffffff"/>
                </a:solidFill>
                <a:latin typeface="Times New Roman"/>
              </a:rPr>
              <a:t>Β</a:t>
            </a: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ffff00"/>
                </a:solidFill>
                <a:latin typeface="Times New Roman"/>
              </a:rPr>
              <a:t>Προσεγγίσεις στην ανίχνευση εισβολών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Ανίχνευση αδόκιμων τρόπων χρήση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Κωδικοποίηση των αδόκιμων τρόπων χρήσης και ανίχνευση εμφανίσεών των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Ανίχνευση μη φυσιολογικών συμπεριφορών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Μαθαίνουμε τη «φυσιολογική συμπεριφορά» και ανιχνεύουμε παρεκκλίσει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Ανίχνευση βάσει προδιαγραφών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Καθορίζεται η προτιθέμενη συμπεριφορά των προγραμμάτων έναντι της κωδικοποίησης των αδόκιμων τρόπων χρήσης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ffff00"/>
                </a:solidFill>
                <a:latin typeface="Times New Roman"/>
              </a:rPr>
              <a:t>Λειτουργία ασύμμετρης κρυπτογραφίας (3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457200" y="3200400"/>
            <a:ext cx="1405080" cy="157968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2"/>
          <a:stretch/>
        </p:blipFill>
        <p:spPr>
          <a:xfrm>
            <a:off x="6858000" y="3200400"/>
            <a:ext cx="1852560" cy="145080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3"/>
          <a:stretch/>
        </p:blipFill>
        <p:spPr>
          <a:xfrm>
            <a:off x="457200" y="4876920"/>
            <a:ext cx="1066680" cy="65376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4"/>
          <a:stretch/>
        </p:blipFill>
        <p:spPr>
          <a:xfrm>
            <a:off x="7620120" y="4876920"/>
            <a:ext cx="1066680" cy="65376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/>
          <p:nvPr/>
        </p:nvSpPr>
        <p:spPr>
          <a:xfrm>
            <a:off x="762120" y="5562720"/>
            <a:ext cx="680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Κ</a:t>
            </a:r>
            <a:r>
              <a:rPr b="0" lang="el-GR" sz="2400" spc="-1" strike="noStrike" baseline="-25000">
                <a:solidFill>
                  <a:srgbClr val="ffffff"/>
                </a:solidFill>
                <a:latin typeface="Times New Roman"/>
              </a:rPr>
              <a:t>Ι</a:t>
            </a:r>
            <a:r>
              <a:rPr b="0" lang="el-GR" sz="2400" spc="-1" strike="noStrike" baseline="30000">
                <a:solidFill>
                  <a:srgbClr val="ffffff"/>
                </a:solidFill>
                <a:latin typeface="Times New Roman"/>
              </a:rPr>
              <a:t>Α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924680" y="5638680"/>
            <a:ext cx="681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Κ</a:t>
            </a:r>
            <a:r>
              <a:rPr b="0" lang="el-GR" sz="2400" spc="-1" strike="noStrike" baseline="-25000">
                <a:solidFill>
                  <a:srgbClr val="ffffff"/>
                </a:solidFill>
                <a:latin typeface="Times New Roman"/>
              </a:rPr>
              <a:t>Ι</a:t>
            </a:r>
            <a:r>
              <a:rPr b="0" lang="el-GR" sz="2400" spc="-1" strike="noStrike" baseline="30000">
                <a:solidFill>
                  <a:srgbClr val="ffffff"/>
                </a:solidFill>
                <a:latin typeface="Times New Roman"/>
              </a:rPr>
              <a:t>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981080" y="4267080"/>
            <a:ext cx="4724640" cy="0"/>
          </a:xfrm>
          <a:prstGeom prst="line">
            <a:avLst/>
          </a:prstGeom>
          <a:ln cap="sq"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819520" y="3809880"/>
            <a:ext cx="31240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(3) Αποστολή Κωδ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Δ, Κ</a:t>
            </a:r>
            <a:r>
              <a:rPr b="0" lang="el-GR" sz="2000" spc="-1" strike="noStrike" baseline="-25000">
                <a:solidFill>
                  <a:srgbClr val="ffffff"/>
                </a:solidFill>
                <a:latin typeface="Times New Roman"/>
              </a:rPr>
              <a:t>Δ</a:t>
            </a:r>
            <a:r>
              <a:rPr b="0" lang="el-GR" sz="2000" spc="-1" strike="noStrike" baseline="30000">
                <a:solidFill>
                  <a:srgbClr val="ffffff"/>
                </a:solidFill>
                <a:latin typeface="Times New Roman"/>
              </a:rPr>
              <a:t>Β</a:t>
            </a: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981080" y="3352680"/>
            <a:ext cx="4724640" cy="0"/>
          </a:xfrm>
          <a:prstGeom prst="line">
            <a:avLst/>
          </a:prstGeom>
          <a:ln cap="sq"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666880" y="2895480"/>
            <a:ext cx="30481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(1) (Αίτηση για Κ</a:t>
            </a:r>
            <a:r>
              <a:rPr b="0" lang="el-GR" sz="2000" spc="-1" strike="noStrike" baseline="-25000">
                <a:solidFill>
                  <a:srgbClr val="ffffff"/>
                </a:solidFill>
                <a:latin typeface="Times New Roman"/>
              </a:rPr>
              <a:t>Δ</a:t>
            </a:r>
            <a:r>
              <a:rPr b="0" lang="el-GR" sz="2000" spc="-1" strike="noStrike" baseline="30000">
                <a:solidFill>
                  <a:srgbClr val="ffffff"/>
                </a:solidFill>
                <a:latin typeface="Times New Roman"/>
              </a:rPr>
              <a:t>Β</a:t>
            </a: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, Κ</a:t>
            </a:r>
            <a:r>
              <a:rPr b="0" lang="el-GR" sz="2000" spc="-1" strike="noStrike" baseline="-25000">
                <a:solidFill>
                  <a:srgbClr val="ffffff"/>
                </a:solidFill>
                <a:latin typeface="Times New Roman"/>
              </a:rPr>
              <a:t>Δ</a:t>
            </a:r>
            <a:r>
              <a:rPr b="0" lang="el-GR" sz="2000" spc="-1" strike="noStrike" baseline="30000">
                <a:solidFill>
                  <a:srgbClr val="ffffff"/>
                </a:solidFill>
                <a:latin typeface="Times New Roman"/>
              </a:rPr>
              <a:t>Α</a:t>
            </a: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438280" y="3352680"/>
            <a:ext cx="35053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(2) (Αποστολή Κωδ(Κ</a:t>
            </a:r>
            <a:r>
              <a:rPr b="0" lang="el-GR" sz="2000" spc="-1" strike="noStrike" baseline="-25000">
                <a:solidFill>
                  <a:srgbClr val="ffffff"/>
                </a:solidFill>
                <a:latin typeface="Times New Roman"/>
              </a:rPr>
              <a:t>Δ</a:t>
            </a:r>
            <a:r>
              <a:rPr b="0" lang="el-GR" sz="2000" spc="-1" strike="noStrike" baseline="30000">
                <a:solidFill>
                  <a:srgbClr val="ffffff"/>
                </a:solidFill>
                <a:latin typeface="Times New Roman"/>
              </a:rPr>
              <a:t>Β</a:t>
            </a: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, Κ</a:t>
            </a:r>
            <a:r>
              <a:rPr b="0" lang="el-GR" sz="2000" spc="-1" strike="noStrike" baseline="-25000">
                <a:solidFill>
                  <a:srgbClr val="ffffff"/>
                </a:solidFill>
                <a:latin typeface="Times New Roman"/>
              </a:rPr>
              <a:t>Δ</a:t>
            </a:r>
            <a:r>
              <a:rPr b="0" lang="el-GR" sz="2000" spc="-1" strike="noStrike" baseline="30000">
                <a:solidFill>
                  <a:srgbClr val="ffffff"/>
                </a:solidFill>
                <a:latin typeface="Times New Roman"/>
              </a:rPr>
              <a:t>Α</a:t>
            </a: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)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flipH="1">
            <a:off x="1981080" y="3809880"/>
            <a:ext cx="4648320" cy="0"/>
          </a:xfrm>
          <a:prstGeom prst="line">
            <a:avLst/>
          </a:prstGeom>
          <a:ln cap="sq"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5"/>
          <a:stretch/>
        </p:blipFill>
        <p:spPr>
          <a:xfrm>
            <a:off x="3505320" y="4267080"/>
            <a:ext cx="136368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ffff00"/>
                </a:solidFill>
                <a:latin typeface="Times New Roman"/>
              </a:rPr>
              <a:t>Λειτουργία ασύμμετρης κρυπτογραφίας (4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609480" y="4419720"/>
            <a:ext cx="1405080" cy="157932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2"/>
          <a:stretch/>
        </p:blipFill>
        <p:spPr>
          <a:xfrm>
            <a:off x="6858000" y="4419720"/>
            <a:ext cx="1852560" cy="145080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3"/>
          <a:stretch/>
        </p:blipFill>
        <p:spPr>
          <a:xfrm>
            <a:off x="3505320" y="1676520"/>
            <a:ext cx="1828800" cy="163332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4"/>
          <a:stretch/>
        </p:blipFill>
        <p:spPr>
          <a:xfrm>
            <a:off x="457200" y="5943600"/>
            <a:ext cx="762120" cy="46656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457200" y="6400800"/>
            <a:ext cx="6811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Κ</a:t>
            </a:r>
            <a:r>
              <a:rPr b="0" lang="el-GR" sz="2000" spc="-1" strike="noStrike" baseline="-25000">
                <a:solidFill>
                  <a:srgbClr val="ffffff"/>
                </a:solidFill>
                <a:latin typeface="Times New Roman"/>
              </a:rPr>
              <a:t>Ι</a:t>
            </a:r>
            <a:r>
              <a:rPr b="0" lang="el-GR" sz="2000" spc="-1" strike="noStrike" baseline="30000">
                <a:solidFill>
                  <a:srgbClr val="ffffff"/>
                </a:solidFill>
                <a:latin typeface="Times New Roman"/>
              </a:rPr>
              <a:t>Α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5"/>
          <a:stretch/>
        </p:blipFill>
        <p:spPr>
          <a:xfrm>
            <a:off x="5410080" y="1600200"/>
            <a:ext cx="1067040" cy="654120"/>
          </a:xfrm>
          <a:prstGeom prst="rect">
            <a:avLst/>
          </a:prstGeom>
          <a:ln w="0">
            <a:noFill/>
          </a:ln>
        </p:spPr>
      </p:pic>
      <p:sp>
        <p:nvSpPr>
          <p:cNvPr id="287" name=""/>
          <p:cNvSpPr/>
          <p:nvPr/>
        </p:nvSpPr>
        <p:spPr>
          <a:xfrm>
            <a:off x="5486400" y="2209680"/>
            <a:ext cx="681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Κ</a:t>
            </a:r>
            <a:r>
              <a:rPr b="0" lang="el-GR" sz="2400" spc="-1" strike="noStrike" baseline="-25000">
                <a:solidFill>
                  <a:srgbClr val="ffffff"/>
                </a:solidFill>
                <a:latin typeface="Times New Roman"/>
              </a:rPr>
              <a:t>Δ</a:t>
            </a:r>
            <a:r>
              <a:rPr b="0" lang="el-GR" sz="2400" spc="-1" strike="noStrike" baseline="30000">
                <a:solidFill>
                  <a:srgbClr val="ffffff"/>
                </a:solidFill>
                <a:latin typeface="Times New Roman"/>
              </a:rPr>
              <a:t>Α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6"/>
          <a:stretch/>
        </p:blipFill>
        <p:spPr>
          <a:xfrm>
            <a:off x="6629400" y="1600200"/>
            <a:ext cx="1066680" cy="654120"/>
          </a:xfrm>
          <a:prstGeom prst="rect">
            <a:avLst/>
          </a:prstGeom>
          <a:ln w="0">
            <a:noFill/>
          </a:ln>
        </p:spPr>
      </p:pic>
      <p:sp>
        <p:nvSpPr>
          <p:cNvPr id="289" name=""/>
          <p:cNvSpPr/>
          <p:nvPr/>
        </p:nvSpPr>
        <p:spPr>
          <a:xfrm>
            <a:off x="6705720" y="2209680"/>
            <a:ext cx="680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Κ</a:t>
            </a:r>
            <a:r>
              <a:rPr b="0" lang="el-GR" sz="2400" spc="-1" strike="noStrike" baseline="-25000">
                <a:solidFill>
                  <a:srgbClr val="ffffff"/>
                </a:solidFill>
                <a:latin typeface="Times New Roman"/>
              </a:rPr>
              <a:t>Δ</a:t>
            </a:r>
            <a:r>
              <a:rPr b="0" lang="el-GR" sz="2400" spc="-1" strike="noStrike" baseline="30000">
                <a:solidFill>
                  <a:srgbClr val="ffffff"/>
                </a:solidFill>
                <a:latin typeface="Times New Roman"/>
              </a:rPr>
              <a:t>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rot="18900000">
            <a:off x="807480" y="2949120"/>
            <a:ext cx="3327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(1) (Αίτ(Κ</a:t>
            </a:r>
            <a:r>
              <a:rPr b="0" lang="el-GR" sz="2000" spc="-1" strike="noStrike" baseline="-25000">
                <a:solidFill>
                  <a:srgbClr val="ffffff"/>
                </a:solidFill>
                <a:latin typeface="Times New Roman"/>
              </a:rPr>
              <a:t>Δ</a:t>
            </a:r>
            <a:r>
              <a:rPr b="0" lang="el-GR" sz="2000" spc="-1" strike="noStrike" baseline="30000">
                <a:solidFill>
                  <a:srgbClr val="ffffff"/>
                </a:solidFill>
                <a:latin typeface="Times New Roman"/>
              </a:rPr>
              <a:t>Β</a:t>
            </a: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), Κωδ(Κ</a:t>
            </a:r>
            <a:r>
              <a:rPr b="0" lang="el-GR" sz="2000" spc="-1" strike="noStrike" baseline="-25000">
                <a:solidFill>
                  <a:srgbClr val="ffffff"/>
                </a:solidFill>
                <a:latin typeface="Times New Roman"/>
              </a:rPr>
              <a:t>Δ</a:t>
            </a:r>
            <a:r>
              <a:rPr b="0" lang="el-GR" sz="2000" spc="-1" strike="noStrike" baseline="30000">
                <a:solidFill>
                  <a:srgbClr val="ffffff"/>
                </a:solidFill>
                <a:latin typeface="Times New Roman"/>
              </a:rPr>
              <a:t>Α</a:t>
            </a: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, Κ</a:t>
            </a:r>
            <a:r>
              <a:rPr b="0" lang="el-GR" sz="2000" spc="-1" strike="noStrike" baseline="-25000">
                <a:solidFill>
                  <a:srgbClr val="ffffff"/>
                </a:solidFill>
                <a:latin typeface="Times New Roman"/>
              </a:rPr>
              <a:t>Δ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1676520" y="2819520"/>
            <a:ext cx="1752480" cy="1752480"/>
          </a:xfrm>
          <a:prstGeom prst="line">
            <a:avLst/>
          </a:prstGeom>
          <a:ln cap="sq"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1904760" y="3200400"/>
            <a:ext cx="1600200" cy="1600200"/>
          </a:xfrm>
          <a:prstGeom prst="line">
            <a:avLst/>
          </a:prstGeom>
          <a:ln cap="sq"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rot="18900000">
            <a:off x="1920600" y="3803400"/>
            <a:ext cx="21794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(2) Κωδ(Κ</a:t>
            </a:r>
            <a:r>
              <a:rPr b="0" lang="el-GR" sz="2000" spc="-1" strike="noStrike" baseline="-25000">
                <a:solidFill>
                  <a:srgbClr val="ffffff"/>
                </a:solidFill>
                <a:latin typeface="Times New Roman"/>
              </a:rPr>
              <a:t>Δ</a:t>
            </a:r>
            <a:r>
              <a:rPr b="0" lang="el-GR" sz="2000" spc="-1" strike="noStrike" baseline="30000">
                <a:solidFill>
                  <a:srgbClr val="ffffff"/>
                </a:solidFill>
                <a:latin typeface="Times New Roman"/>
              </a:rPr>
              <a:t>Β </a:t>
            </a: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, Κ</a:t>
            </a:r>
            <a:r>
              <a:rPr b="0" lang="el-GR" sz="2000" spc="-1" strike="noStrike" baseline="-25000">
                <a:solidFill>
                  <a:srgbClr val="ffffff"/>
                </a:solidFill>
                <a:latin typeface="Times New Roman"/>
              </a:rPr>
              <a:t>Δ</a:t>
            </a:r>
            <a:r>
              <a:rPr b="0" lang="el-GR" sz="2000" spc="-1" strike="noStrike" baseline="30000">
                <a:solidFill>
                  <a:srgbClr val="ffffff"/>
                </a:solidFill>
                <a:latin typeface="Times New Roman"/>
              </a:rPr>
              <a:t>Α</a:t>
            </a: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133720" y="5181480"/>
            <a:ext cx="4724280" cy="0"/>
          </a:xfrm>
          <a:prstGeom prst="line">
            <a:avLst/>
          </a:prstGeom>
          <a:ln cap="sq"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971800" y="4724280"/>
            <a:ext cx="31240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(3) Αποστολή Κωδ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Δ, Κ</a:t>
            </a:r>
            <a:r>
              <a:rPr b="0" lang="el-GR" sz="2000" spc="-1" strike="noStrike" baseline="-25000">
                <a:solidFill>
                  <a:srgbClr val="ffffff"/>
                </a:solidFill>
                <a:latin typeface="Times New Roman"/>
              </a:rPr>
              <a:t>Δ</a:t>
            </a:r>
            <a:r>
              <a:rPr b="0" lang="el-GR" sz="2000" spc="-1" strike="noStrike" baseline="30000">
                <a:solidFill>
                  <a:srgbClr val="ffffff"/>
                </a:solidFill>
                <a:latin typeface="Times New Roman"/>
              </a:rPr>
              <a:t>Β</a:t>
            </a: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flipH="1" flipV="1">
            <a:off x="5410080" y="2971800"/>
            <a:ext cx="1447920" cy="1447920"/>
          </a:xfrm>
          <a:prstGeom prst="line">
            <a:avLst/>
          </a:prstGeom>
          <a:ln cap="sq"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334120" y="3200400"/>
            <a:ext cx="1447560" cy="1447920"/>
          </a:xfrm>
          <a:prstGeom prst="line">
            <a:avLst/>
          </a:prstGeom>
          <a:ln cap="sq"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 rot="2700000">
            <a:off x="4603680" y="3826440"/>
            <a:ext cx="220968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(5) Κωδ(Κ</a:t>
            </a:r>
            <a:r>
              <a:rPr b="0" lang="el-GR" sz="2000" spc="-1" strike="noStrike" baseline="-25000">
                <a:solidFill>
                  <a:srgbClr val="ffffff"/>
                </a:solidFill>
                <a:latin typeface="Times New Roman"/>
              </a:rPr>
              <a:t>Δ</a:t>
            </a:r>
            <a:r>
              <a:rPr b="0" lang="el-GR" sz="2000" spc="-1" strike="noStrike" baseline="30000">
                <a:solidFill>
                  <a:srgbClr val="ffffff"/>
                </a:solidFill>
                <a:latin typeface="Times New Roman"/>
              </a:rPr>
              <a:t>Α </a:t>
            </a: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, Κ</a:t>
            </a:r>
            <a:r>
              <a:rPr b="0" lang="el-GR" sz="2000" spc="-1" strike="noStrike" baseline="-25000">
                <a:solidFill>
                  <a:srgbClr val="ffffff"/>
                </a:solidFill>
                <a:latin typeface="Times New Roman"/>
              </a:rPr>
              <a:t>Δ</a:t>
            </a:r>
            <a:r>
              <a:rPr b="0" lang="el-GR" sz="2000" spc="-1" strike="noStrike" baseline="30000">
                <a:solidFill>
                  <a:srgbClr val="ffffff"/>
                </a:solidFill>
                <a:latin typeface="Times New Roman"/>
              </a:rPr>
              <a:t>Β</a:t>
            </a: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flipH="1">
            <a:off x="2133360" y="5486400"/>
            <a:ext cx="4647960" cy="0"/>
          </a:xfrm>
          <a:prstGeom prst="line">
            <a:avLst/>
          </a:prstGeom>
          <a:ln cap="sq"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971800" y="5486400"/>
            <a:ext cx="31240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(6) Αποστολή Κωδ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Δ, Κ</a:t>
            </a:r>
            <a:r>
              <a:rPr b="0" lang="el-GR" sz="2000" spc="-1" strike="noStrike" baseline="-25000">
                <a:solidFill>
                  <a:srgbClr val="ffffff"/>
                </a:solidFill>
                <a:latin typeface="Times New Roman"/>
              </a:rPr>
              <a:t>Δ</a:t>
            </a:r>
            <a:r>
              <a:rPr b="0" lang="el-GR" sz="2000" spc="-1" strike="noStrike" baseline="30000">
                <a:solidFill>
                  <a:srgbClr val="ffffff"/>
                </a:solidFill>
                <a:latin typeface="Times New Roman"/>
              </a:rPr>
              <a:t>Α</a:t>
            </a: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1" name="" descr=""/>
          <p:cNvPicPr/>
          <p:nvPr/>
        </p:nvPicPr>
        <p:blipFill>
          <a:blip r:embed="rId7"/>
          <a:stretch/>
        </p:blipFill>
        <p:spPr>
          <a:xfrm>
            <a:off x="7848720" y="1600200"/>
            <a:ext cx="1066680" cy="654120"/>
          </a:xfrm>
          <a:prstGeom prst="rect">
            <a:avLst/>
          </a:prstGeom>
          <a:ln w="0">
            <a:noFill/>
          </a:ln>
        </p:spPr>
      </p:pic>
      <p:sp>
        <p:nvSpPr>
          <p:cNvPr id="302" name=""/>
          <p:cNvSpPr/>
          <p:nvPr/>
        </p:nvSpPr>
        <p:spPr>
          <a:xfrm>
            <a:off x="7924680" y="2209680"/>
            <a:ext cx="681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Κ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 rot="2700000">
            <a:off x="5072040" y="3592440"/>
            <a:ext cx="33271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(4) (Αίτ(Κ</a:t>
            </a:r>
            <a:r>
              <a:rPr b="0" lang="el-GR" sz="2000" spc="-1" strike="noStrike" baseline="-25000">
                <a:solidFill>
                  <a:srgbClr val="ffffff"/>
                </a:solidFill>
                <a:latin typeface="Times New Roman"/>
              </a:rPr>
              <a:t>Δ</a:t>
            </a:r>
            <a:r>
              <a:rPr b="0" lang="el-GR" sz="2000" spc="-1" strike="noStrike" baseline="30000">
                <a:solidFill>
                  <a:srgbClr val="ffffff"/>
                </a:solidFill>
                <a:latin typeface="Times New Roman"/>
              </a:rPr>
              <a:t>Α</a:t>
            </a: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), Κωδ(Κ</a:t>
            </a:r>
            <a:r>
              <a:rPr b="0" lang="el-GR" sz="2000" spc="-1" strike="noStrike" baseline="-25000">
                <a:solidFill>
                  <a:srgbClr val="ffffff"/>
                </a:solidFill>
                <a:latin typeface="Times New Roman"/>
              </a:rPr>
              <a:t>Δ</a:t>
            </a:r>
            <a:r>
              <a:rPr b="0" lang="el-GR" sz="2000" spc="-1" strike="noStrike" baseline="30000">
                <a:solidFill>
                  <a:srgbClr val="ffffff"/>
                </a:solidFill>
                <a:latin typeface="Times New Roman"/>
              </a:rPr>
              <a:t>Β</a:t>
            </a: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, Κ</a:t>
            </a:r>
            <a:r>
              <a:rPr b="0" lang="el-GR" sz="2000" spc="-1" strike="noStrike" baseline="-25000">
                <a:solidFill>
                  <a:srgbClr val="ffffff"/>
                </a:solidFill>
                <a:latin typeface="Times New Roman"/>
              </a:rPr>
              <a:t>Δ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8"/>
          <a:stretch/>
        </p:blipFill>
        <p:spPr>
          <a:xfrm>
            <a:off x="1371600" y="5943600"/>
            <a:ext cx="762120" cy="466560"/>
          </a:xfrm>
          <a:prstGeom prst="rect">
            <a:avLst/>
          </a:prstGeom>
          <a:ln w="0">
            <a:noFill/>
          </a:ln>
        </p:spPr>
      </p:pic>
      <p:sp>
        <p:nvSpPr>
          <p:cNvPr id="305" name=""/>
          <p:cNvSpPr/>
          <p:nvPr/>
        </p:nvSpPr>
        <p:spPr>
          <a:xfrm>
            <a:off x="1371600" y="6400800"/>
            <a:ext cx="6811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Κ</a:t>
            </a:r>
            <a:r>
              <a:rPr b="0" lang="el-GR" sz="2000" spc="-1" strike="noStrike" baseline="-25000">
                <a:solidFill>
                  <a:srgbClr val="ffffff"/>
                </a:solidFill>
                <a:latin typeface="Times New Roman"/>
              </a:rPr>
              <a:t>Δ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9"/>
          <a:stretch/>
        </p:blipFill>
        <p:spPr>
          <a:xfrm>
            <a:off x="7010280" y="5943600"/>
            <a:ext cx="762120" cy="466560"/>
          </a:xfrm>
          <a:prstGeom prst="rect">
            <a:avLst/>
          </a:prstGeom>
          <a:ln w="0">
            <a:noFill/>
          </a:ln>
        </p:spPr>
      </p:pic>
      <p:sp>
        <p:nvSpPr>
          <p:cNvPr id="307" name=""/>
          <p:cNvSpPr/>
          <p:nvPr/>
        </p:nvSpPr>
        <p:spPr>
          <a:xfrm>
            <a:off x="7010280" y="6400800"/>
            <a:ext cx="6811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Κ</a:t>
            </a:r>
            <a:r>
              <a:rPr b="0" lang="el-GR" sz="2000" spc="-1" strike="noStrike" baseline="-25000">
                <a:solidFill>
                  <a:srgbClr val="ffffff"/>
                </a:solidFill>
                <a:latin typeface="Times New Roman"/>
              </a:rPr>
              <a:t>Ι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10"/>
          <a:stretch/>
        </p:blipFill>
        <p:spPr>
          <a:xfrm>
            <a:off x="7924680" y="5943600"/>
            <a:ext cx="762120" cy="466560"/>
          </a:xfrm>
          <a:prstGeom prst="rect">
            <a:avLst/>
          </a:prstGeom>
          <a:ln w="0">
            <a:noFill/>
          </a:ln>
        </p:spPr>
      </p:pic>
      <p:sp>
        <p:nvSpPr>
          <p:cNvPr id="309" name=""/>
          <p:cNvSpPr/>
          <p:nvPr/>
        </p:nvSpPr>
        <p:spPr>
          <a:xfrm>
            <a:off x="7924680" y="6400800"/>
            <a:ext cx="6811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Κ</a:t>
            </a:r>
            <a:r>
              <a:rPr b="0" lang="el-GR" sz="2000" spc="-1" strike="noStrike" baseline="-25000">
                <a:solidFill>
                  <a:srgbClr val="ffffff"/>
                </a:solidFill>
                <a:latin typeface="Times New Roman"/>
              </a:rPr>
              <a:t>Δ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ffff00"/>
                </a:solidFill>
                <a:latin typeface="Times New Roman"/>
              </a:rPr>
              <a:t>Προστασία πόρων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Times New Roman"/>
              </a:rPr>
              <a:t>Μη προστατευμένο δίκτυο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Κάθε υπολογιστής στο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ernet </a:t>
            </a: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μπορεί να επικοινωνήσει με κάθε υπολογιστή του εταιρικού δικτύου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Απαιτείται η προστασία του κάθε υπολογιστή ξεχωριστά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Αν </a:t>
            </a:r>
            <a:r>
              <a:rPr b="0" i="1" lang="el-GR" sz="2800" spc="-1" strike="noStrike">
                <a:solidFill>
                  <a:srgbClr val="ffffff"/>
                </a:solidFill>
                <a:latin typeface="Times New Roman"/>
              </a:rPr>
              <a:t>ένας</a:t>
            </a: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 υπολογιστής είναι ευάλωτος, η ασφάλεια είναι προβληματική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Μη διαχειρίσιμο σύστημα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ffff00"/>
                </a:solidFill>
                <a:latin typeface="Times New Roman"/>
              </a:rPr>
              <a:t>Προστασία πόρων (2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3" name="Cloud"/>
          <p:cNvSpPr/>
          <p:nvPr/>
        </p:nvSpPr>
        <p:spPr>
          <a:xfrm>
            <a:off x="380880" y="1143000"/>
            <a:ext cx="7543800" cy="2590920"/>
          </a:xfrm>
          <a:prstGeom prst="pi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Cloud"/>
          <p:cNvSpPr/>
          <p:nvPr/>
        </p:nvSpPr>
        <p:spPr>
          <a:xfrm>
            <a:off x="609480" y="3962520"/>
            <a:ext cx="8077320" cy="2706480"/>
          </a:xfrm>
          <a:prstGeom prst="pi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3200400" y="1981080"/>
            <a:ext cx="1343160" cy="1098720"/>
          </a:xfrm>
          <a:prstGeom prst="rect">
            <a:avLst/>
          </a:prstGeom>
          <a:ln w="0">
            <a:noFill/>
          </a:ln>
        </p:spPr>
      </p:pic>
      <p:pic>
        <p:nvPicPr>
          <p:cNvPr id="316" name="" descr=""/>
          <p:cNvPicPr/>
          <p:nvPr/>
        </p:nvPicPr>
        <p:blipFill>
          <a:blip r:embed="rId2"/>
          <a:stretch/>
        </p:blipFill>
        <p:spPr>
          <a:xfrm>
            <a:off x="1447920" y="1981080"/>
            <a:ext cx="1371600" cy="1289160"/>
          </a:xfrm>
          <a:prstGeom prst="rect">
            <a:avLst/>
          </a:prstGeom>
          <a:ln w="0">
            <a:noFill/>
          </a:ln>
        </p:spPr>
      </p:pic>
      <p:pic>
        <p:nvPicPr>
          <p:cNvPr id="317" name="" descr=""/>
          <p:cNvPicPr/>
          <p:nvPr/>
        </p:nvPicPr>
        <p:blipFill>
          <a:blip r:embed="rId3"/>
          <a:stretch/>
        </p:blipFill>
        <p:spPr>
          <a:xfrm>
            <a:off x="4952880" y="1676520"/>
            <a:ext cx="1981440" cy="1488960"/>
          </a:xfrm>
          <a:prstGeom prst="rect">
            <a:avLst/>
          </a:prstGeom>
          <a:ln w="0">
            <a:noFill/>
          </a:ln>
        </p:spPr>
      </p:pic>
      <p:sp>
        <p:nvSpPr>
          <p:cNvPr id="318" name=""/>
          <p:cNvSpPr/>
          <p:nvPr/>
        </p:nvSpPr>
        <p:spPr>
          <a:xfrm>
            <a:off x="2286000" y="3276720"/>
            <a:ext cx="0" cy="1295280"/>
          </a:xfrm>
          <a:prstGeom prst="line">
            <a:avLst/>
          </a:prstGeom>
          <a:ln cap="sq"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286000" y="3276720"/>
            <a:ext cx="1846440" cy="1357200"/>
          </a:xfrm>
          <a:prstGeom prst="line">
            <a:avLst/>
          </a:prstGeom>
          <a:ln cap="sq"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flipH="1">
            <a:off x="2819520" y="3124080"/>
            <a:ext cx="1218960" cy="1447920"/>
          </a:xfrm>
          <a:prstGeom prst="line">
            <a:avLst/>
          </a:prstGeom>
          <a:ln cap="sq"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038480" y="3124080"/>
            <a:ext cx="2214720" cy="1220760"/>
          </a:xfrm>
          <a:prstGeom prst="line">
            <a:avLst/>
          </a:prstGeom>
          <a:ln cap="sq"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629400" y="3124080"/>
            <a:ext cx="0" cy="1187640"/>
          </a:xfrm>
          <a:prstGeom prst="line">
            <a:avLst/>
          </a:prstGeom>
          <a:ln cap="sq"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 flipH="1">
            <a:off x="4952520" y="3124080"/>
            <a:ext cx="1676520" cy="1447920"/>
          </a:xfrm>
          <a:prstGeom prst="line">
            <a:avLst/>
          </a:prstGeom>
          <a:ln cap="sq"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24" name="BS00144_" descr=""/>
          <p:cNvPicPr/>
          <p:nvPr/>
        </p:nvPicPr>
        <p:blipFill>
          <a:blip r:embed="rId4"/>
          <a:stretch/>
        </p:blipFill>
        <p:spPr>
          <a:xfrm>
            <a:off x="1863720" y="5006880"/>
            <a:ext cx="1301760" cy="141300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/>
          <p:nvPr/>
        </p:nvSpPr>
        <p:spPr>
          <a:xfrm rot="1679400">
            <a:off x="1704600" y="4071600"/>
            <a:ext cx="685800" cy="406440"/>
          </a:xfrm>
          <a:custGeom>
            <a:avLst/>
            <a:gdLst/>
            <a:ahLst/>
            <a:rect l="l" t="t" r="r" b="b"/>
            <a:pathLst>
              <a:path w="432" h="256">
                <a:moveTo>
                  <a:pt x="432" y="224"/>
                </a:moveTo>
                <a:cubicBezTo>
                  <a:pt x="360" y="240"/>
                  <a:pt x="288" y="256"/>
                  <a:pt x="240" y="224"/>
                </a:cubicBezTo>
                <a:cubicBezTo>
                  <a:pt x="192" y="192"/>
                  <a:pt x="184" y="64"/>
                  <a:pt x="144" y="32"/>
                </a:cubicBezTo>
                <a:cubicBezTo>
                  <a:pt x="104" y="0"/>
                  <a:pt x="52" y="16"/>
                  <a:pt x="0" y="32"/>
                </a:cubicBezTo>
              </a:path>
            </a:pathLst>
          </a:custGeom>
          <a:noFill/>
          <a:ln cap="sq"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rot="3499800">
            <a:off x="2414160" y="3990960"/>
            <a:ext cx="685800" cy="406440"/>
          </a:xfrm>
          <a:custGeom>
            <a:avLst/>
            <a:gdLst/>
            <a:ahLst/>
            <a:rect l="l" t="t" r="r" b="b"/>
            <a:pathLst>
              <a:path w="432" h="256">
                <a:moveTo>
                  <a:pt x="432" y="224"/>
                </a:moveTo>
                <a:cubicBezTo>
                  <a:pt x="360" y="240"/>
                  <a:pt x="288" y="256"/>
                  <a:pt x="240" y="224"/>
                </a:cubicBezTo>
                <a:cubicBezTo>
                  <a:pt x="192" y="192"/>
                  <a:pt x="184" y="64"/>
                  <a:pt x="144" y="32"/>
                </a:cubicBezTo>
                <a:cubicBezTo>
                  <a:pt x="104" y="0"/>
                  <a:pt x="52" y="16"/>
                  <a:pt x="0" y="32"/>
                </a:cubicBezTo>
              </a:path>
            </a:pathLst>
          </a:custGeom>
          <a:noFill/>
          <a:ln cap="sq"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 flipH="1" rot="16399800">
            <a:off x="3731400" y="4187520"/>
            <a:ext cx="541440" cy="329040"/>
          </a:xfrm>
          <a:custGeom>
            <a:avLst/>
            <a:gdLst/>
            <a:ahLst/>
            <a:rect l="l" t="t" r="r" b="b"/>
            <a:pathLst>
              <a:path w="432" h="256">
                <a:moveTo>
                  <a:pt x="432" y="224"/>
                </a:moveTo>
                <a:cubicBezTo>
                  <a:pt x="360" y="240"/>
                  <a:pt x="288" y="256"/>
                  <a:pt x="240" y="224"/>
                </a:cubicBezTo>
                <a:cubicBezTo>
                  <a:pt x="192" y="192"/>
                  <a:pt x="184" y="64"/>
                  <a:pt x="144" y="32"/>
                </a:cubicBezTo>
                <a:cubicBezTo>
                  <a:pt x="104" y="0"/>
                  <a:pt x="52" y="16"/>
                  <a:pt x="0" y="32"/>
                </a:cubicBezTo>
              </a:path>
            </a:pathLst>
          </a:custGeom>
          <a:noFill/>
          <a:ln cap="sq"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28" name="j0092205" descr=""/>
          <p:cNvPicPr/>
          <p:nvPr/>
        </p:nvPicPr>
        <p:blipFill>
          <a:blip r:embed="rId5"/>
          <a:stretch/>
        </p:blipFill>
        <p:spPr>
          <a:xfrm>
            <a:off x="4043520" y="4938840"/>
            <a:ext cx="1627200" cy="100152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 flipH="1" rot="16399800">
            <a:off x="4516200" y="3957480"/>
            <a:ext cx="685800" cy="406440"/>
          </a:xfrm>
          <a:custGeom>
            <a:avLst/>
            <a:gdLst/>
            <a:ahLst/>
            <a:rect l="l" t="t" r="r" b="b"/>
            <a:pathLst>
              <a:path w="432" h="256">
                <a:moveTo>
                  <a:pt x="432" y="224"/>
                </a:moveTo>
                <a:cubicBezTo>
                  <a:pt x="360" y="240"/>
                  <a:pt x="288" y="256"/>
                  <a:pt x="240" y="224"/>
                </a:cubicBezTo>
                <a:cubicBezTo>
                  <a:pt x="192" y="192"/>
                  <a:pt x="184" y="64"/>
                  <a:pt x="144" y="32"/>
                </a:cubicBezTo>
                <a:cubicBezTo>
                  <a:pt x="104" y="0"/>
                  <a:pt x="52" y="16"/>
                  <a:pt x="0" y="32"/>
                </a:cubicBezTo>
              </a:path>
            </a:pathLst>
          </a:custGeom>
          <a:noFill/>
          <a:ln cap="sq"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30" name="j0210690" descr=""/>
          <p:cNvPicPr/>
          <p:nvPr/>
        </p:nvPicPr>
        <p:blipFill>
          <a:blip r:embed="rId6"/>
          <a:stretch/>
        </p:blipFill>
        <p:spPr>
          <a:xfrm>
            <a:off x="6278400" y="4594320"/>
            <a:ext cx="1163880" cy="1230120"/>
          </a:xfrm>
          <a:prstGeom prst="rect">
            <a:avLst/>
          </a:prstGeom>
          <a:ln w="0">
            <a:noFill/>
          </a:ln>
        </p:spPr>
      </p:pic>
      <p:sp>
        <p:nvSpPr>
          <p:cNvPr id="331" name=""/>
          <p:cNvSpPr/>
          <p:nvPr/>
        </p:nvSpPr>
        <p:spPr>
          <a:xfrm flipH="1" rot="19606200">
            <a:off x="6490440" y="3780000"/>
            <a:ext cx="685800" cy="405720"/>
          </a:xfrm>
          <a:custGeom>
            <a:avLst/>
            <a:gdLst/>
            <a:ahLst/>
            <a:rect l="l" t="t" r="r" b="b"/>
            <a:pathLst>
              <a:path w="432" h="256">
                <a:moveTo>
                  <a:pt x="432" y="224"/>
                </a:moveTo>
                <a:cubicBezTo>
                  <a:pt x="360" y="240"/>
                  <a:pt x="288" y="256"/>
                  <a:pt x="240" y="224"/>
                </a:cubicBezTo>
                <a:cubicBezTo>
                  <a:pt x="192" y="192"/>
                  <a:pt x="184" y="64"/>
                  <a:pt x="144" y="32"/>
                </a:cubicBezTo>
                <a:cubicBezTo>
                  <a:pt x="104" y="0"/>
                  <a:pt x="52" y="16"/>
                  <a:pt x="0" y="32"/>
                </a:cubicBezTo>
              </a:path>
            </a:pathLst>
          </a:custGeom>
          <a:noFill/>
          <a:ln cap="sq"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flipH="1" rot="17943600">
            <a:off x="5955840" y="3767040"/>
            <a:ext cx="685800" cy="406440"/>
          </a:xfrm>
          <a:custGeom>
            <a:avLst/>
            <a:gdLst/>
            <a:ahLst/>
            <a:rect l="l" t="t" r="r" b="b"/>
            <a:pathLst>
              <a:path w="432" h="256">
                <a:moveTo>
                  <a:pt x="432" y="224"/>
                </a:moveTo>
                <a:cubicBezTo>
                  <a:pt x="360" y="240"/>
                  <a:pt x="288" y="256"/>
                  <a:pt x="240" y="224"/>
                </a:cubicBezTo>
                <a:cubicBezTo>
                  <a:pt x="192" y="192"/>
                  <a:pt x="184" y="64"/>
                  <a:pt x="144" y="32"/>
                </a:cubicBezTo>
                <a:cubicBezTo>
                  <a:pt x="104" y="0"/>
                  <a:pt x="52" y="16"/>
                  <a:pt x="0" y="32"/>
                </a:cubicBezTo>
              </a:path>
            </a:pathLst>
          </a:custGeom>
          <a:noFill/>
          <a:ln cap="sq"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 flipH="1">
            <a:off x="3106080" y="5176800"/>
            <a:ext cx="1089000" cy="457200"/>
          </a:xfrm>
          <a:custGeom>
            <a:avLst/>
            <a:gdLst>
              <a:gd name="textAreaLeft" fmla="*/ 169920 w 1089000"/>
              <a:gd name="textAreaRight" fmla="*/ 952920 w 108900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313240" y="4960800"/>
            <a:ext cx="1060560" cy="457200"/>
          </a:xfrm>
          <a:custGeom>
            <a:avLst/>
            <a:gdLst>
              <a:gd name="textAreaLeft" fmla="*/ 165600 w 1060560"/>
              <a:gd name="textAreaRight" fmla="*/ 928080 w 106056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7"/>
          <a:stretch/>
        </p:blipFill>
        <p:spPr>
          <a:xfrm>
            <a:off x="1719360" y="4468680"/>
            <a:ext cx="1400040" cy="554040"/>
          </a:xfrm>
          <a:prstGeom prst="rect">
            <a:avLst/>
          </a:prstGeom>
          <a:ln w="0">
            <a:noFill/>
          </a:ln>
        </p:spPr>
      </p:pic>
      <p:pic>
        <p:nvPicPr>
          <p:cNvPr id="336" name="" descr=""/>
          <p:cNvPicPr/>
          <p:nvPr/>
        </p:nvPicPr>
        <p:blipFill>
          <a:blip r:embed="rId8"/>
          <a:stretch/>
        </p:blipFill>
        <p:spPr>
          <a:xfrm>
            <a:off x="4021200" y="4406760"/>
            <a:ext cx="1400040" cy="554040"/>
          </a:xfrm>
          <a:prstGeom prst="rect">
            <a:avLst/>
          </a:prstGeom>
          <a:ln w="0">
            <a:noFill/>
          </a:ln>
        </p:spPr>
      </p:pic>
      <p:sp>
        <p:nvSpPr>
          <p:cNvPr id="337" name=""/>
          <p:cNvSpPr/>
          <p:nvPr/>
        </p:nvSpPr>
        <p:spPr>
          <a:xfrm rot="20317200">
            <a:off x="4154040" y="4598640"/>
            <a:ext cx="563760" cy="1332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038480" y="3124080"/>
            <a:ext cx="554040" cy="2156040"/>
          </a:xfrm>
          <a:prstGeom prst="line">
            <a:avLst/>
          </a:prstGeom>
          <a:ln cap="sq"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9"/>
          <a:stretch/>
        </p:blipFill>
        <p:spPr>
          <a:xfrm>
            <a:off x="6323040" y="4076640"/>
            <a:ext cx="1400040" cy="55404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/>
          <p:nvPr/>
        </p:nvSpPr>
        <p:spPr>
          <a:xfrm>
            <a:off x="3556080" y="5952960"/>
            <a:ext cx="231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ffffff"/>
                </a:solidFill>
                <a:latin typeface="Times New Roman"/>
              </a:rPr>
              <a:t>Εταιρικό δίκτυο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ffff00"/>
                </a:solidFill>
                <a:latin typeface="Times New Roman"/>
              </a:rPr>
              <a:t>Προστατεύοντας το δίκτυο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Times New Roman"/>
              </a:rPr>
              <a:t>Εισαγωγή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rewal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Συστήματα ταυτοποίησης-εξουσιοδότησης που τοποθετούνται στα όρια του προστατευόμενου δικτύου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Αποτελεσματικός έλεγχος πρόσβαση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Φιλτράρισμα των ευάλωτων πρωτοκόλλων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Παρακολούθηση της λειτουργίας του δικτύου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Απλοποιημένη διαχείριση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irewall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Times New Roman"/>
              </a:rPr>
              <a:t>Σκοπός: η προστασία του δικτύου που βρίσκεται πίσω από το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rewal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Times New Roman"/>
              </a:rPr>
              <a:t>Έλεγχος δικτυακής κυκλοφορίας και περιορισμός των επιτρεπόμενων ροών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Times New Roman"/>
              </a:rPr>
              <a:t>Συστατικά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Δρομολογητές με φιλτράρισμα πακέτων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Υπολογιστές με ρόλο αντιπροσώπευσης υπηρεσιών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Υπολογιστές με ρόλο </a:t>
            </a:r>
            <a:r>
              <a:rPr b="0" i="1" lang="el-GR" sz="2800" spc="-1" strike="noStrike">
                <a:solidFill>
                  <a:srgbClr val="ffffff"/>
                </a:solidFill>
                <a:latin typeface="Times New Roman"/>
              </a:rPr>
              <a:t>προμαχώνα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ffff00"/>
                </a:solidFill>
                <a:latin typeface="Times New Roman"/>
              </a:rPr>
              <a:t>Γενικές αρχές για 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irewall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Times New Roman"/>
              </a:rPr>
              <a:t>Όλη η δικτυακή κυκλοφορία διέρχεται μέσω του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rewal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Times New Roman"/>
              </a:rPr>
              <a:t>Μόνο η κυκλοφορία που επιτρέπεται από την πολιτική ασφάλειας διεκπεραιώνεται τελικά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3200" spc="-1" strike="noStrike">
                <a:solidFill>
                  <a:srgbClr val="ffffff"/>
                </a:solidFill>
                <a:latin typeface="Times New Roman"/>
              </a:rPr>
              <a:t>Το ίδιο το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firewall </a:t>
            </a:r>
            <a:r>
              <a:rPr b="0" i="1" lang="el-GR" sz="3200" spc="-1" strike="noStrike">
                <a:solidFill>
                  <a:srgbClr val="ffffff"/>
                </a:solidFill>
                <a:latin typeface="Times New Roman"/>
              </a:rPr>
              <a:t>είναι άτρωτο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Times New Roman"/>
              </a:rPr>
              <a:t>Δύο σχεδιασμοί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επιτρέπονται όσα δεν απαγορεύοντα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απαγορεύονται όσα δεν επιτρέποντα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ffff00"/>
                </a:solidFill>
                <a:latin typeface="Times New Roman"/>
              </a:rPr>
              <a:t>Τα 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irewalls </a:t>
            </a:r>
            <a:r>
              <a:rPr b="0" lang="el-GR" sz="4400" spc="-1" strike="noStrike">
                <a:solidFill>
                  <a:srgbClr val="ffff00"/>
                </a:solidFill>
                <a:latin typeface="Times New Roman"/>
              </a:rPr>
              <a:t>ΔΕΝ είναι πανάκεια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Times New Roman"/>
              </a:rPr>
              <a:t>Δεν αντιμετωπίζουν πλήρως τα ζητήματα του περιεχομένου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Times New Roman"/>
              </a:rPr>
              <a:t>Δεν παρέχουν καμία προστασία έναντι επιθέσεων εκ των έσω ή σε κανάλια διαρροή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Times New Roman"/>
              </a:rPr>
              <a:t>Είναι δυνατόν να αποτελέσουν σημεία συμφόρηση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Times New Roman"/>
              </a:rPr>
              <a:t>Αν καταρρεύσουν, το δίκτυο είναι εκτεθειμένο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irewalls – </a:t>
            </a:r>
            <a:r>
              <a:rPr b="0" lang="el-GR" sz="4400" spc="-1" strike="noStrike">
                <a:solidFill>
                  <a:srgbClr val="ffff00"/>
                </a:solidFill>
                <a:latin typeface="Times New Roman"/>
              </a:rPr>
              <a:t>Φιλτράρισμα πακέτων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0" name="Cloud"/>
          <p:cNvSpPr/>
          <p:nvPr/>
        </p:nvSpPr>
        <p:spPr>
          <a:xfrm>
            <a:off x="208080" y="1197000"/>
            <a:ext cx="3844800" cy="2590920"/>
          </a:xfrm>
          <a:prstGeom prst="pi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51" name="" descr=""/>
          <p:cNvPicPr/>
          <p:nvPr/>
        </p:nvPicPr>
        <p:blipFill>
          <a:blip r:embed="rId1"/>
          <a:stretch/>
        </p:blipFill>
        <p:spPr>
          <a:xfrm>
            <a:off x="1389240" y="1932120"/>
            <a:ext cx="1981080" cy="1488960"/>
          </a:xfrm>
          <a:prstGeom prst="rect">
            <a:avLst/>
          </a:prstGeom>
          <a:ln w="0">
            <a:noFill/>
          </a:ln>
        </p:spPr>
      </p:pic>
      <p:sp>
        <p:nvSpPr>
          <p:cNvPr id="352" name="Cloud"/>
          <p:cNvSpPr/>
          <p:nvPr/>
        </p:nvSpPr>
        <p:spPr>
          <a:xfrm>
            <a:off x="4805280" y="3962520"/>
            <a:ext cx="3881520" cy="2706480"/>
          </a:xfrm>
          <a:prstGeom prst="pi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ffffff"/>
                </a:solidFill>
                <a:latin typeface="Times New Roman"/>
              </a:rPr>
              <a:t>Εταιρικό δίκτυο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53" name="BS00144_" descr=""/>
          <p:cNvPicPr/>
          <p:nvPr/>
        </p:nvPicPr>
        <p:blipFill>
          <a:blip r:embed="rId2"/>
          <a:stretch/>
        </p:blipFill>
        <p:spPr>
          <a:xfrm>
            <a:off x="6504120" y="4402080"/>
            <a:ext cx="1301760" cy="1413000"/>
          </a:xfrm>
          <a:prstGeom prst="rect">
            <a:avLst/>
          </a:prstGeom>
          <a:ln w="0">
            <a:noFill/>
          </a:ln>
        </p:spPr>
      </p:pic>
      <p:sp>
        <p:nvSpPr>
          <p:cNvPr id="354" name=""/>
          <p:cNvSpPr/>
          <p:nvPr/>
        </p:nvSpPr>
        <p:spPr>
          <a:xfrm flipH="1" flipV="1">
            <a:off x="3926520" y="3465360"/>
            <a:ext cx="7504200" cy="6119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588" y="10293"/>
                </a:moveTo>
                <a:arcTo wR="10800" hR="10800" stAng="-161533" swAng="6845000"/>
                <a:lnTo>
                  <a:pt x="10800" y="10800"/>
                </a:lnTo>
                <a:close/>
              </a:path>
              <a:path fill="none" w="21600" h="21600">
                <a:moveTo>
                  <a:pt x="21588" y="10293"/>
                </a:moveTo>
                <a:arcTo wR="10800" hR="10800" stAng="-161533" swAng="6845000"/>
              </a:path>
            </a:pathLst>
          </a:custGeom>
          <a:noFill/>
          <a:ln cap="sq"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Cloud"/>
          <p:cNvSpPr/>
          <p:nvPr/>
        </p:nvSpPr>
        <p:spPr>
          <a:xfrm>
            <a:off x="3914640" y="3656160"/>
            <a:ext cx="2028960" cy="1414440"/>
          </a:xfrm>
          <a:prstGeom prst="pi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irewal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483000" y="3416400"/>
            <a:ext cx="604800" cy="604800"/>
          </a:xfrm>
          <a:prstGeom prst="line">
            <a:avLst/>
          </a:prstGeom>
          <a:ln cap="sq"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935600" y="4773600"/>
            <a:ext cx="604800" cy="604800"/>
          </a:xfrm>
          <a:prstGeom prst="line">
            <a:avLst/>
          </a:prstGeom>
          <a:ln cap="sq"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303200" y="4033800"/>
            <a:ext cx="25020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TTP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www </a:t>
            </a:r>
            <a:r>
              <a:rPr b="0" lang="en-US" sz="3000" spc="-1" strike="noStrike">
                <a:solidFill>
                  <a:srgbClr val="33cc33"/>
                </a:solidFill>
                <a:latin typeface="Wingdings"/>
                <a:ea typeface="Wingdings"/>
              </a:rPr>
              <a:t>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MTP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mail </a:t>
            </a:r>
            <a:r>
              <a:rPr b="0" lang="en-US" sz="3000" spc="-1" strike="noStrike">
                <a:solidFill>
                  <a:srgbClr val="33cc33"/>
                </a:solidFill>
                <a:latin typeface="Wingdings"/>
                <a:ea typeface="Wingdings"/>
              </a:rPr>
              <a:t>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TP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ftp </a:t>
            </a:r>
            <a:r>
              <a:rPr b="0" lang="en-US" sz="3000" spc="-1" strike="noStrike">
                <a:solidFill>
                  <a:srgbClr val="33cc33"/>
                </a:solidFill>
                <a:latin typeface="Wingdings"/>
                <a:ea typeface="Wingdings"/>
              </a:rPr>
              <a:t>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72000" y="1465200"/>
            <a:ext cx="25020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PD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print </a:t>
            </a:r>
            <a:r>
              <a:rPr b="0" lang="en-US" sz="3000" spc="-1" strike="noStrike">
                <a:solidFill>
                  <a:srgbClr val="ff0000"/>
                </a:solidFill>
                <a:latin typeface="Wingdings"/>
                <a:ea typeface="Wingdings"/>
              </a:rPr>
              <a:t>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MB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filesrv </a:t>
            </a:r>
            <a:r>
              <a:rPr b="0" lang="en-US" sz="3000" spc="-1" strike="noStrike">
                <a:solidFill>
                  <a:srgbClr val="ff0000"/>
                </a:solidFill>
                <a:latin typeface="Wingdings"/>
                <a:ea typeface="Wingdings"/>
              </a:rPr>
              <a:t>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FS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filesrv </a:t>
            </a:r>
            <a:r>
              <a:rPr b="0" lang="en-US" sz="3000" spc="-1" strike="noStrike">
                <a:solidFill>
                  <a:srgbClr val="ff0000"/>
                </a:solidFill>
                <a:latin typeface="Wingdings"/>
                <a:ea typeface="Wingdings"/>
              </a:rPr>
              <a:t>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3711600" y="3048120"/>
            <a:ext cx="838080" cy="711000"/>
          </a:xfrm>
          <a:prstGeom prst="line">
            <a:avLst/>
          </a:prstGeom>
          <a:ln cap="sq"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flipH="1" rot="17455800">
            <a:off x="4254840" y="3299040"/>
            <a:ext cx="541440" cy="328320"/>
          </a:xfrm>
          <a:custGeom>
            <a:avLst/>
            <a:gdLst/>
            <a:ahLst/>
            <a:rect l="l" t="t" r="r" b="b"/>
            <a:pathLst>
              <a:path w="432" h="256">
                <a:moveTo>
                  <a:pt x="432" y="224"/>
                </a:moveTo>
                <a:cubicBezTo>
                  <a:pt x="360" y="240"/>
                  <a:pt x="288" y="256"/>
                  <a:pt x="240" y="224"/>
                </a:cubicBezTo>
                <a:cubicBezTo>
                  <a:pt x="192" y="192"/>
                  <a:pt x="184" y="64"/>
                  <a:pt x="144" y="32"/>
                </a:cubicBezTo>
                <a:cubicBezTo>
                  <a:pt x="104" y="0"/>
                  <a:pt x="52" y="16"/>
                  <a:pt x="0" y="32"/>
                </a:cubicBezTo>
              </a:path>
            </a:pathLst>
          </a:custGeom>
          <a:noFill/>
          <a:ln cap="sq"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ffff00"/>
                </a:solidFill>
                <a:latin typeface="Times New Roman"/>
              </a:rPr>
              <a:t>Φιλτράρισμα πακέτων – Οι κανόνες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Φυσική συσκευή λήψης του πακέτου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Διεύθυνση αφετηρίας (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P, Port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Διεύθυνση προορισμού (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P, Port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Πρωτόκολλο ανώτερου επιπέδου (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CP/UDP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Δικτυακές ενδείξεις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π.χ. αίτηση εγκαθίδρυσης σύνδεσης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Τελική απόφαση (επιτρέπεται, απαγορεύεται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ffff00"/>
                </a:solidFill>
                <a:latin typeface="Times New Roman"/>
              </a:rPr>
              <a:t>Κανάλια διαρροής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Times New Roman"/>
              </a:rPr>
              <a:t>Με αποθήκευση δεδομένων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Π.χ. τιμή ενός σημαφόρου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Times New Roman"/>
              </a:rPr>
              <a:t>Με χρονισμό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Ο χρόνος διεκπεραίωσης μιας εργασίας διαρρέει πληροφορία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Times New Roman"/>
              </a:rPr>
              <a:t>Με οποιουδήποτε άλλου είδους συμπεριφορά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αυξομείωση μνήμης ή μεγέθους αρχείων, κλειδώματα σε πόρους, χρήση ΚΜ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ffff00"/>
                </a:solidFill>
                <a:latin typeface="Times New Roman"/>
              </a:rPr>
              <a:t>Παράδειγμα κανόνων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365" name=""/>
          <p:cNvGraphicFramePr/>
          <p:nvPr/>
        </p:nvGraphicFramePr>
        <p:xfrm>
          <a:off x="344520" y="1357200"/>
          <a:ext cx="8502480" cy="3027600"/>
        </p:xfrm>
        <a:graphic>
          <a:graphicData uri="http://schemas.openxmlformats.org/drawingml/2006/table">
            <a:tbl>
              <a:tblPr/>
              <a:tblGrid>
                <a:gridCol w="1312920"/>
                <a:gridCol w="1520640"/>
                <a:gridCol w="1586160"/>
                <a:gridCol w="1461960"/>
                <a:gridCol w="1203480"/>
                <a:gridCol w="1417320"/>
              </a:tblGrid>
              <a:tr h="60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hyde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r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es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rot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Op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cti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er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ranch1/*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*/*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*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*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eny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*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*/*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ailsrv/25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CP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*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llow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*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*/*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srv/</a:t>
                      </a: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43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CP UDP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*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llow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0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er1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ranch1/*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orasrv/1525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CP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*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llow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66" name="BS00144_" descr=""/>
          <p:cNvPicPr/>
          <p:nvPr/>
        </p:nvPicPr>
        <p:blipFill>
          <a:blip r:embed="rId1"/>
          <a:stretch/>
        </p:blipFill>
        <p:spPr>
          <a:xfrm>
            <a:off x="563400" y="4659480"/>
            <a:ext cx="1078200" cy="117000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2"/>
          <a:stretch/>
        </p:blipFill>
        <p:spPr>
          <a:xfrm>
            <a:off x="5478480" y="4662360"/>
            <a:ext cx="1425600" cy="1071720"/>
          </a:xfrm>
          <a:prstGeom prst="rect">
            <a:avLst/>
          </a:prstGeom>
          <a:ln w="0">
            <a:noFill/>
          </a:ln>
        </p:spPr>
      </p:pic>
      <p:pic>
        <p:nvPicPr>
          <p:cNvPr id="368" name="j0210690" descr=""/>
          <p:cNvPicPr/>
          <p:nvPr/>
        </p:nvPicPr>
        <p:blipFill>
          <a:blip r:embed="rId3"/>
          <a:stretch/>
        </p:blipFill>
        <p:spPr>
          <a:xfrm>
            <a:off x="5716440" y="5748480"/>
            <a:ext cx="884520" cy="934920"/>
          </a:xfrm>
          <a:prstGeom prst="rect">
            <a:avLst/>
          </a:prstGeom>
          <a:ln w="0">
            <a:noFill/>
          </a:ln>
        </p:spPr>
      </p:pic>
      <p:sp>
        <p:nvSpPr>
          <p:cNvPr id="369" name=""/>
          <p:cNvSpPr/>
          <p:nvPr/>
        </p:nvSpPr>
        <p:spPr>
          <a:xfrm>
            <a:off x="243720" y="5859360"/>
            <a:ext cx="113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ter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76560" y="6226200"/>
            <a:ext cx="12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ranch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7022520" y="4908600"/>
            <a:ext cx="113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flipH="1" flipV="1">
            <a:off x="-529200" y="4634280"/>
            <a:ext cx="3339720" cy="3981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909" y="21433"/>
                </a:moveTo>
                <a:arcTo wR="10800" hR="10800" stAng="6005148" swAng="4872842"/>
                <a:lnTo>
                  <a:pt x="10800" y="10800"/>
                </a:lnTo>
                <a:close/>
              </a:path>
              <a:path fill="none" w="21600" h="21600">
                <a:moveTo>
                  <a:pt x="8909" y="21433"/>
                </a:moveTo>
                <a:arcTo wR="10800" hR="10800" stAng="6005148" swAng="4872842"/>
              </a:path>
            </a:pathLst>
          </a:custGeom>
          <a:noFill/>
          <a:ln cap="sq"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Cloud"/>
          <p:cNvSpPr/>
          <p:nvPr/>
        </p:nvSpPr>
        <p:spPr>
          <a:xfrm>
            <a:off x="1816200" y="5092560"/>
            <a:ext cx="1698480" cy="1067040"/>
          </a:xfrm>
          <a:prstGeom prst="pi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rewal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468600" y="5284800"/>
            <a:ext cx="1936800" cy="0"/>
          </a:xfrm>
          <a:prstGeom prst="line">
            <a:avLst/>
          </a:prstGeom>
          <a:ln cap="sq"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468600" y="5918040"/>
            <a:ext cx="2233800" cy="336600"/>
          </a:xfrm>
          <a:prstGeom prst="line">
            <a:avLst/>
          </a:prstGeom>
          <a:ln cap="sq"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350880" y="477036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148920" y="600696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ffff00"/>
                </a:solidFill>
                <a:latin typeface="Times New Roman"/>
              </a:rPr>
              <a:t>Φιλτράρισμα πακέτων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379" name=""/>
          <p:cNvGraphicFramePr/>
          <p:nvPr/>
        </p:nvGraphicFramePr>
        <p:xfrm>
          <a:off x="744480" y="1397160"/>
          <a:ext cx="7790040" cy="4689360"/>
        </p:xfrm>
        <a:graphic>
          <a:graphicData uri="http://schemas.openxmlformats.org/drawingml/2006/table">
            <a:tbl>
              <a:tblPr/>
              <a:tblGrid>
                <a:gridCol w="3895920"/>
                <a:gridCol w="3894120"/>
              </a:tblGrid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Υπέρ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Κατά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33cc33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r>
                        <a:rPr b="0" lang="el-GR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l-GR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Απλό στην υλοποίηση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33cc33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r>
                        <a:rPr b="0" lang="el-GR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l-GR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Εξαιρετικές επιδόσει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76200" indent="-376200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Wingdings"/>
                          <a:ea typeface="Wingdings"/>
                        </a:rPr>
                        <a:t></a:t>
                      </a:r>
                      <a:r>
                        <a:rPr b="0" lang="el-GR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l-GR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Απουσία καταγραφή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76200" indent="-376200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Wingdings"/>
                          <a:ea typeface="Wingdings"/>
                        </a:rPr>
                        <a:t></a:t>
                      </a:r>
                      <a:r>
                        <a:rPr b="0" lang="el-GR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l-GR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Δύσκολο στη ρύθμιση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76200" indent="-376200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Wingdings"/>
                          <a:ea typeface="Wingdings"/>
                        </a:rPr>
                        <a:t></a:t>
                      </a:r>
                      <a:r>
                        <a:rPr b="0" lang="el-GR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l-GR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Απουσία ευελιξίας και επεκτασιμότητα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76200" indent="-376200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Wingdings"/>
                          <a:ea typeface="Wingdings"/>
                        </a:rPr>
                        <a:t></a:t>
                      </a:r>
                      <a:r>
                        <a:rPr b="0" lang="el-GR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l-GR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Μπορεί να παρακαμφθεί μέσω «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unneling</a:t>
                      </a:r>
                      <a:r>
                        <a:rPr b="0" lang="el-GR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»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76200" indent="-37620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ffff00"/>
                </a:solidFill>
                <a:latin typeface="Times New Roman"/>
              </a:rPr>
              <a:t>Δυναμικό φιλτράρισμα πακέτων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Times New Roman"/>
              </a:rPr>
              <a:t>Παράλληλα με τους κανόνες πρόσβασης, εξετάζουμε τους κανόνες του πρωτοκόλλου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Όχι πακέτα δεδομένων χωρίς εγκαθίδρυση σύνδεση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Όχι πακέτα δεδομένων μετά την καταστροφή της σύνδεση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Όχι απαντήσεις σε ερωτήσεις που δεν έγιναν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Times New Roman"/>
              </a:rPr>
              <a:t>Εξαιρετικός υποψήφιος για επιθέσεις με στόχο την εξάντληση των πόρων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63440" y="139320"/>
            <a:ext cx="8817120" cy="79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800" spc="-1" strike="noStrike">
                <a:solidFill>
                  <a:srgbClr val="ffff00"/>
                </a:solidFill>
                <a:latin typeface="Times New Roman"/>
              </a:rPr>
              <a:t>Αρχιτεκτονική με φιλτράρισμα πακέτων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383" name="BS00144_" descr=""/>
          <p:cNvPicPr/>
          <p:nvPr/>
        </p:nvPicPr>
        <p:blipFill>
          <a:blip r:embed="rId1"/>
          <a:stretch/>
        </p:blipFill>
        <p:spPr>
          <a:xfrm>
            <a:off x="7893000" y="4334040"/>
            <a:ext cx="1077840" cy="1170000"/>
          </a:xfrm>
          <a:prstGeom prst="rect">
            <a:avLst/>
          </a:prstGeom>
          <a:ln w="0">
            <a:noFill/>
          </a:ln>
        </p:spPr>
      </p:pic>
      <p:sp>
        <p:nvSpPr>
          <p:cNvPr id="384" name=""/>
          <p:cNvSpPr/>
          <p:nvPr/>
        </p:nvSpPr>
        <p:spPr>
          <a:xfrm flipV="1">
            <a:off x="4809960" y="3916800"/>
            <a:ext cx="7588800" cy="4876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590" y="21571"/>
                </a:moveTo>
                <a:arcTo wR="10800" hR="10800" stAng="5148465" swAng="5544889"/>
                <a:lnTo>
                  <a:pt x="10800" y="10800"/>
                </a:lnTo>
                <a:close/>
              </a:path>
              <a:path fill="none" w="21600" h="21600">
                <a:moveTo>
                  <a:pt x="11590" y="21571"/>
                </a:moveTo>
                <a:arcTo wR="10800" hR="10800" stAng="5148465" swAng="5544889"/>
              </a:path>
            </a:pathLst>
          </a:custGeom>
          <a:noFill/>
          <a:ln cap="sq"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Cloud"/>
          <p:cNvSpPr/>
          <p:nvPr/>
        </p:nvSpPr>
        <p:spPr>
          <a:xfrm>
            <a:off x="2354400" y="3389400"/>
            <a:ext cx="4016160" cy="1066680"/>
          </a:xfrm>
          <a:prstGeom prst="pi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rewal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Cloud"/>
          <p:cNvSpPr/>
          <p:nvPr/>
        </p:nvSpPr>
        <p:spPr>
          <a:xfrm>
            <a:off x="2652840" y="879480"/>
            <a:ext cx="3193920" cy="2152800"/>
          </a:xfrm>
          <a:prstGeom prst="pi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2"/>
          <a:stretch/>
        </p:blipFill>
        <p:spPr>
          <a:xfrm>
            <a:off x="3432240" y="1353960"/>
            <a:ext cx="1981080" cy="1489320"/>
          </a:xfrm>
          <a:prstGeom prst="rect">
            <a:avLst/>
          </a:prstGeom>
          <a:ln w="0">
            <a:noFill/>
          </a:ln>
        </p:spPr>
      </p:pic>
      <p:pic>
        <p:nvPicPr>
          <p:cNvPr id="388" name="BS00144_" descr=""/>
          <p:cNvPicPr/>
          <p:nvPr/>
        </p:nvPicPr>
        <p:blipFill>
          <a:blip r:embed="rId3"/>
          <a:stretch/>
        </p:blipFill>
        <p:spPr>
          <a:xfrm>
            <a:off x="6040440" y="4786200"/>
            <a:ext cx="1077840" cy="117000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 flipV="1" rot="5394600">
            <a:off x="-2285280" y="2563200"/>
            <a:ext cx="4825080" cy="7585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482" y="21595"/>
                </a:moveTo>
                <a:arcTo wR="10800" hR="10800" stAng="5501357" swAng="5191997"/>
                <a:lnTo>
                  <a:pt x="10800" y="10800"/>
                </a:lnTo>
                <a:close/>
              </a:path>
              <a:path fill="none" w="21600" h="21600">
                <a:moveTo>
                  <a:pt x="10482" y="21595"/>
                </a:moveTo>
                <a:arcTo wR="10800" hR="10800" stAng="5501357" swAng="5191997"/>
              </a:path>
            </a:pathLst>
          </a:custGeom>
          <a:noFill/>
          <a:ln cap="sq"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90" name="BS00144_" descr=""/>
          <p:cNvPicPr/>
          <p:nvPr/>
        </p:nvPicPr>
        <p:blipFill>
          <a:blip r:embed="rId4"/>
          <a:stretch/>
        </p:blipFill>
        <p:spPr>
          <a:xfrm>
            <a:off x="7292880" y="5110200"/>
            <a:ext cx="1077840" cy="117000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/>
          <p:nvPr/>
        </p:nvSpPr>
        <p:spPr>
          <a:xfrm>
            <a:off x="5222160" y="6084720"/>
            <a:ext cx="3867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Εσωτερικό δίκτυο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Πρόσβαση παντού, αόρατο από έξω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-1800" y="6049800"/>
            <a:ext cx="4237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Αποστρατιωτικοποιημένη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ζώνη – Δέχεται και εξυπηρετεί αιτήσει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93" name="BS00144_" descr=""/>
          <p:cNvPicPr/>
          <p:nvPr/>
        </p:nvPicPr>
        <p:blipFill>
          <a:blip r:embed="rId5"/>
          <a:stretch/>
        </p:blipFill>
        <p:spPr>
          <a:xfrm>
            <a:off x="228600" y="4284720"/>
            <a:ext cx="1077840" cy="1170000"/>
          </a:xfrm>
          <a:prstGeom prst="rect">
            <a:avLst/>
          </a:prstGeom>
          <a:ln w="0">
            <a:noFill/>
          </a:ln>
        </p:spPr>
      </p:pic>
      <p:pic>
        <p:nvPicPr>
          <p:cNvPr id="394" name="BS00144_" descr=""/>
          <p:cNvPicPr/>
          <p:nvPr/>
        </p:nvPicPr>
        <p:blipFill>
          <a:blip r:embed="rId6"/>
          <a:stretch/>
        </p:blipFill>
        <p:spPr>
          <a:xfrm>
            <a:off x="1781280" y="4886280"/>
            <a:ext cx="1077840" cy="1170000"/>
          </a:xfrm>
          <a:prstGeom prst="rect">
            <a:avLst/>
          </a:prstGeom>
          <a:ln w="0">
            <a:noFill/>
          </a:ln>
        </p:spPr>
      </p:pic>
      <p:sp>
        <p:nvSpPr>
          <p:cNvPr id="395" name=""/>
          <p:cNvSpPr/>
          <p:nvPr/>
        </p:nvSpPr>
        <p:spPr>
          <a:xfrm>
            <a:off x="4915080" y="2325600"/>
            <a:ext cx="1439640" cy="2594160"/>
          </a:xfrm>
          <a:custGeom>
            <a:avLst/>
            <a:gdLst/>
            <a:ahLst/>
            <a:rect l="l" t="t" r="r" b="b"/>
            <a:pathLst>
              <a:path w="907" h="1634">
                <a:moveTo>
                  <a:pt x="726" y="1634"/>
                </a:moveTo>
                <a:cubicBezTo>
                  <a:pt x="594" y="1372"/>
                  <a:pt x="462" y="1110"/>
                  <a:pt x="347" y="868"/>
                </a:cubicBezTo>
                <a:cubicBezTo>
                  <a:pt x="232" y="626"/>
                  <a:pt x="78" y="324"/>
                  <a:pt x="39" y="182"/>
                </a:cubicBezTo>
                <a:cubicBezTo>
                  <a:pt x="0" y="40"/>
                  <a:pt x="84" y="32"/>
                  <a:pt x="110" y="16"/>
                </a:cubicBezTo>
                <a:cubicBezTo>
                  <a:pt x="136" y="0"/>
                  <a:pt x="150" y="7"/>
                  <a:pt x="197" y="87"/>
                </a:cubicBezTo>
                <a:cubicBezTo>
                  <a:pt x="244" y="167"/>
                  <a:pt x="276" y="264"/>
                  <a:pt x="394" y="498"/>
                </a:cubicBezTo>
                <a:cubicBezTo>
                  <a:pt x="512" y="732"/>
                  <a:pt x="709" y="1112"/>
                  <a:pt x="907" y="1492"/>
                </a:cubicBezTo>
              </a:path>
            </a:pathLst>
          </a:custGeom>
          <a:noFill/>
          <a:ln cap="sq" w="38160">
            <a:solidFill>
              <a:srgbClr val="33cc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741760" y="4116240"/>
            <a:ext cx="3193920" cy="1094040"/>
          </a:xfrm>
          <a:custGeom>
            <a:avLst/>
            <a:gdLst/>
            <a:ahLst/>
            <a:rect l="l" t="t" r="r" b="b"/>
            <a:pathLst>
              <a:path w="2187" h="689">
                <a:moveTo>
                  <a:pt x="2187" y="539"/>
                </a:moveTo>
                <a:cubicBezTo>
                  <a:pt x="2051" y="376"/>
                  <a:pt x="1915" y="213"/>
                  <a:pt x="1824" y="129"/>
                </a:cubicBezTo>
                <a:cubicBezTo>
                  <a:pt x="1733" y="45"/>
                  <a:pt x="1741" y="56"/>
                  <a:pt x="1642" y="35"/>
                </a:cubicBezTo>
                <a:cubicBezTo>
                  <a:pt x="1543" y="14"/>
                  <a:pt x="1387" y="6"/>
                  <a:pt x="1232" y="3"/>
                </a:cubicBezTo>
                <a:cubicBezTo>
                  <a:pt x="1077" y="0"/>
                  <a:pt x="845" y="2"/>
                  <a:pt x="711" y="19"/>
                </a:cubicBezTo>
                <a:cubicBezTo>
                  <a:pt x="577" y="36"/>
                  <a:pt x="535" y="35"/>
                  <a:pt x="427" y="106"/>
                </a:cubicBezTo>
                <a:cubicBezTo>
                  <a:pt x="319" y="177"/>
                  <a:pt x="128" y="362"/>
                  <a:pt x="64" y="445"/>
                </a:cubicBezTo>
                <a:cubicBezTo>
                  <a:pt x="0" y="528"/>
                  <a:pt x="25" y="574"/>
                  <a:pt x="41" y="603"/>
                </a:cubicBezTo>
                <a:cubicBezTo>
                  <a:pt x="57" y="632"/>
                  <a:pt x="57" y="689"/>
                  <a:pt x="159" y="618"/>
                </a:cubicBezTo>
                <a:cubicBezTo>
                  <a:pt x="261" y="547"/>
                  <a:pt x="488" y="258"/>
                  <a:pt x="656" y="177"/>
                </a:cubicBezTo>
                <a:cubicBezTo>
                  <a:pt x="824" y="96"/>
                  <a:pt x="1039" y="135"/>
                  <a:pt x="1168" y="130"/>
                </a:cubicBezTo>
                <a:cubicBezTo>
                  <a:pt x="1297" y="125"/>
                  <a:pt x="1342" y="129"/>
                  <a:pt x="1429" y="145"/>
                </a:cubicBezTo>
                <a:cubicBezTo>
                  <a:pt x="1516" y="161"/>
                  <a:pt x="1581" y="145"/>
                  <a:pt x="1690" y="224"/>
                </a:cubicBezTo>
                <a:cubicBezTo>
                  <a:pt x="1799" y="303"/>
                  <a:pt x="2002" y="536"/>
                  <a:pt x="2084" y="618"/>
                </a:cubicBezTo>
              </a:path>
            </a:pathLst>
          </a:custGeom>
          <a:noFill/>
          <a:ln cap="sq" w="38160">
            <a:solidFill>
              <a:srgbClr val="33cc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2473200" y="2792520"/>
            <a:ext cx="1536840" cy="2011320"/>
          </a:xfrm>
          <a:custGeom>
            <a:avLst/>
            <a:gdLst/>
            <a:ahLst/>
            <a:rect l="l" t="t" r="r" b="b"/>
            <a:pathLst>
              <a:path w="968" h="1267">
                <a:moveTo>
                  <a:pt x="968" y="0"/>
                </a:moveTo>
                <a:cubicBezTo>
                  <a:pt x="853" y="199"/>
                  <a:pt x="738" y="399"/>
                  <a:pt x="653" y="545"/>
                </a:cubicBezTo>
                <a:cubicBezTo>
                  <a:pt x="568" y="691"/>
                  <a:pt x="533" y="765"/>
                  <a:pt x="455" y="876"/>
                </a:cubicBezTo>
                <a:cubicBezTo>
                  <a:pt x="377" y="987"/>
                  <a:pt x="255" y="1149"/>
                  <a:pt x="187" y="1208"/>
                </a:cubicBezTo>
                <a:cubicBezTo>
                  <a:pt x="119" y="1267"/>
                  <a:pt x="71" y="1245"/>
                  <a:pt x="45" y="1231"/>
                </a:cubicBezTo>
                <a:cubicBezTo>
                  <a:pt x="19" y="1217"/>
                  <a:pt x="0" y="1183"/>
                  <a:pt x="29" y="1121"/>
                </a:cubicBezTo>
                <a:cubicBezTo>
                  <a:pt x="58" y="1059"/>
                  <a:pt x="91" y="1048"/>
                  <a:pt x="219" y="861"/>
                </a:cubicBezTo>
                <a:cubicBezTo>
                  <a:pt x="347" y="674"/>
                  <a:pt x="571" y="337"/>
                  <a:pt x="795" y="0"/>
                </a:cubicBezTo>
              </a:path>
            </a:pathLst>
          </a:custGeom>
          <a:noFill/>
          <a:ln cap="sq" w="38160">
            <a:solidFill>
              <a:srgbClr val="33cc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464080" y="2484360"/>
            <a:ext cx="561960" cy="1049400"/>
          </a:xfrm>
          <a:prstGeom prst="line">
            <a:avLst/>
          </a:prstGeom>
          <a:ln cap="sq"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 flipH="1" rot="19368000">
            <a:off x="5896080" y="3110040"/>
            <a:ext cx="541080" cy="327960"/>
          </a:xfrm>
          <a:custGeom>
            <a:avLst/>
            <a:gdLst/>
            <a:ahLst/>
            <a:rect l="l" t="t" r="r" b="b"/>
            <a:pathLst>
              <a:path w="432" h="256">
                <a:moveTo>
                  <a:pt x="432" y="224"/>
                </a:moveTo>
                <a:cubicBezTo>
                  <a:pt x="360" y="240"/>
                  <a:pt x="288" y="256"/>
                  <a:pt x="240" y="224"/>
                </a:cubicBezTo>
                <a:cubicBezTo>
                  <a:pt x="192" y="192"/>
                  <a:pt x="184" y="64"/>
                  <a:pt x="144" y="32"/>
                </a:cubicBezTo>
                <a:cubicBezTo>
                  <a:pt x="104" y="0"/>
                  <a:pt x="52" y="16"/>
                  <a:pt x="0" y="32"/>
                </a:cubicBezTo>
              </a:path>
            </a:pathLst>
          </a:custGeom>
          <a:noFill/>
          <a:ln cap="sq"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 flipH="1" rot="12379200">
            <a:off x="2038680" y="3824640"/>
            <a:ext cx="541440" cy="329040"/>
          </a:xfrm>
          <a:custGeom>
            <a:avLst/>
            <a:gdLst/>
            <a:ahLst/>
            <a:rect l="l" t="t" r="r" b="b"/>
            <a:pathLst>
              <a:path w="432" h="256">
                <a:moveTo>
                  <a:pt x="432" y="224"/>
                </a:moveTo>
                <a:cubicBezTo>
                  <a:pt x="360" y="240"/>
                  <a:pt x="288" y="256"/>
                  <a:pt x="240" y="224"/>
                </a:cubicBezTo>
                <a:cubicBezTo>
                  <a:pt x="192" y="192"/>
                  <a:pt x="184" y="64"/>
                  <a:pt x="144" y="32"/>
                </a:cubicBezTo>
                <a:cubicBezTo>
                  <a:pt x="104" y="0"/>
                  <a:pt x="52" y="16"/>
                  <a:pt x="0" y="32"/>
                </a:cubicBezTo>
              </a:path>
            </a:pathLst>
          </a:custGeom>
          <a:noFill/>
          <a:ln cap="sq"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1805400" y="4032360"/>
            <a:ext cx="816480" cy="866520"/>
          </a:xfrm>
          <a:prstGeom prst="line">
            <a:avLst/>
          </a:prstGeom>
          <a:ln cap="sq"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704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ffff00"/>
                </a:solidFill>
                <a:latin typeface="Times New Roman"/>
              </a:rPr>
              <a:t>Παράδειγμα κανόνων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-28800" y="1152000"/>
            <a:ext cx="9172440" cy="541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Courier New"/>
                <a:ea typeface="Courier New"/>
              </a:rPr>
              <a:t>iptables -s 10.30.19.0/24 –i ! eth0 –j </a:t>
            </a:r>
            <a:r>
              <a:rPr b="1" lang="en-GB" sz="1700" spc="-1" strike="noStrike">
                <a:solidFill>
                  <a:srgbClr val="ffffff"/>
                </a:solidFill>
                <a:latin typeface="Courier New"/>
                <a:ea typeface="Courier New"/>
              </a:rPr>
              <a:t>DENY –l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Courier New"/>
                <a:ea typeface="Courier New"/>
              </a:rPr>
              <a:t>iptables -s 195.134.65.128/26 –i ! eth2 –j </a:t>
            </a:r>
            <a:r>
              <a:rPr b="1" lang="en-GB" sz="1700" spc="-1" strike="noStrike">
                <a:solidFill>
                  <a:srgbClr val="ffffff"/>
                </a:solidFill>
                <a:latin typeface="Courier New"/>
                <a:ea typeface="Courier New"/>
              </a:rPr>
              <a:t>DENY –l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Courier New"/>
                <a:ea typeface="Courier New"/>
              </a:rPr>
              <a:t> 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Courier New"/>
                <a:ea typeface="Courier New"/>
              </a:rPr>
              <a:t>iptables -A forward -s 10.30.19.0/24 -i eth0 –o eth2 -j good-dmz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Courier New"/>
                <a:ea typeface="Courier New"/>
              </a:rPr>
              <a:t>iptables -A forward -s 10.30.19.0/24 -i eth0 –o eth1 -j good-bad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Courier New"/>
                <a:ea typeface="Courier New"/>
              </a:rPr>
              <a:t>iptables -A forward -s 195.134.65.128/26 -i eth2 –o eth1 -j dmz-bad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Courier New"/>
                <a:ea typeface="Courier New"/>
              </a:rPr>
              <a:t>iptables -A forward -s 195.134.65.128/26 -i eth2 –o eth0 -j dmz-good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Courier New"/>
                <a:ea typeface="Courier New"/>
              </a:rPr>
              <a:t>iptables -A forward -i eth0 -j bad-dmz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Courier New"/>
                <a:ea typeface="Courier New"/>
              </a:rPr>
              <a:t>iptables -A forward -i eth2 -j bad-good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Courier New"/>
                <a:ea typeface="Courier New"/>
              </a:rPr>
              <a:t>iptables -A forward -j DENY -l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Courier New"/>
                <a:ea typeface="Courier New"/>
              </a:rPr>
              <a:t> 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Courier New"/>
                <a:ea typeface="Courier New"/>
              </a:rPr>
              <a:t>iptables -A good-dmz -p tcp -d 195.134.65.183 smtp -j ACCEPT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Courier New"/>
                <a:ea typeface="Courier New"/>
              </a:rPr>
              <a:t>iptables -A good-dmz -p tcp -d 195.134.65.183 pop3 -j ACCEPT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Courier New"/>
                <a:ea typeface="Courier New"/>
              </a:rPr>
              <a:t>iptables -A good-dmz -j DENY -l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ffff00"/>
                </a:solidFill>
                <a:latin typeface="Times New Roman"/>
              </a:rPr>
              <a:t>Παράδειγμα κανόνων - συνέχεια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96920" y="1641240"/>
            <a:ext cx="875016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Courier New"/>
                <a:ea typeface="Courier New"/>
              </a:rPr>
              <a:t>iptables -A dmz-good -p tcp ! -y -s 195.134.65.183 smtp -j ACCEPT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Courier New"/>
                <a:ea typeface="Courier New"/>
              </a:rPr>
              <a:t>iptables -A dmz-good -p tcp ! -y -s 195.134.65.183 pop3 -j ACCEPT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Courier New"/>
                <a:ea typeface="Courier New"/>
              </a:rPr>
              <a:t>iptables -A dmz-good -j DENY –l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Courier New"/>
                <a:ea typeface="Courier New"/>
              </a:rPr>
              <a:t>iptables </a:t>
            </a:r>
            <a:r>
              <a:rPr b="1" lang="en-GB" sz="1700" spc="-1" strike="noStrike">
                <a:solidFill>
                  <a:srgbClr val="ffffff"/>
                </a:solidFill>
                <a:latin typeface="Courier New"/>
                <a:ea typeface="Courier New"/>
              </a:rPr>
              <a:t>-A bad-dmz -p tcp -d 195.134.65.183 smtp -j ACCEPT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Courier New"/>
                <a:ea typeface="Courier New"/>
              </a:rPr>
              <a:t>iptables </a:t>
            </a:r>
            <a:r>
              <a:rPr b="1" lang="en-GB" sz="1700" spc="-1" strike="noStrike">
                <a:solidFill>
                  <a:srgbClr val="ffffff"/>
                </a:solidFill>
                <a:latin typeface="Courier New"/>
                <a:ea typeface="Courier New"/>
              </a:rPr>
              <a:t>-A bad-dmz -p tcp ! -y --sport 25 -d 195.134.65.183 -j ACCEPT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Courier New"/>
                <a:ea typeface="Courier New"/>
              </a:rPr>
              <a:t>iptables </a:t>
            </a:r>
            <a:r>
              <a:rPr b="1" lang="en-GB" sz="1700" spc="-1" strike="noStrike">
                <a:solidFill>
                  <a:srgbClr val="ffffff"/>
                </a:solidFill>
                <a:latin typeface="Courier New"/>
                <a:ea typeface="Courier New"/>
              </a:rPr>
              <a:t>-A bad-dmz -j DENY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ffffff"/>
                </a:solidFill>
                <a:latin typeface="Courier New"/>
                <a:ea typeface="Courier New"/>
              </a:rPr>
              <a:t> 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Courier New"/>
                <a:ea typeface="Courier New"/>
              </a:rPr>
              <a:t>iptables </a:t>
            </a:r>
            <a:r>
              <a:rPr b="1" lang="en-GB" sz="1700" spc="-1" strike="noStrike">
                <a:solidFill>
                  <a:srgbClr val="ffffff"/>
                </a:solidFill>
                <a:latin typeface="Courier New"/>
                <a:ea typeface="Courier New"/>
              </a:rPr>
              <a:t>-A dmz-bad -p tcp -s 195.134.65.183 ––dport smtp -j ACCEPT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Courier New"/>
                <a:ea typeface="Courier New"/>
              </a:rPr>
              <a:t>iptables </a:t>
            </a:r>
            <a:r>
              <a:rPr b="1" lang="en-GB" sz="1700" spc="-1" strike="noStrike">
                <a:solidFill>
                  <a:srgbClr val="ffffff"/>
                </a:solidFill>
                <a:latin typeface="Courier New"/>
                <a:ea typeface="Courier New"/>
              </a:rPr>
              <a:t>-A dmz-bad -p tcp ! –y -s 195.134.65.183 smtp -j ACCEPT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Courier New"/>
                <a:ea typeface="Courier New"/>
              </a:rPr>
              <a:t>iptables </a:t>
            </a:r>
            <a:r>
              <a:rPr b="1" lang="en-GB" sz="1700" spc="-1" strike="noStrike">
                <a:solidFill>
                  <a:srgbClr val="ffffff"/>
                </a:solidFill>
                <a:latin typeface="Courier New"/>
                <a:ea typeface="Courier New"/>
              </a:rPr>
              <a:t>-A dmz-bad -j DENY –l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Courier New"/>
                <a:ea typeface="Courier New"/>
              </a:rPr>
              <a:t> 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Courier New"/>
                <a:ea typeface="Courier New"/>
              </a:rPr>
              <a:t>iptables -A good-bad -p tcp --dport www -j MASQ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Courier New"/>
                <a:ea typeface="Courier New"/>
              </a:rPr>
              <a:t>iptables –A good-bad </a:t>
            </a:r>
            <a:r>
              <a:rPr b="1" lang="en-GB" sz="1700" spc="-1" strike="noStrike">
                <a:solidFill>
                  <a:srgbClr val="ffffff"/>
                </a:solidFill>
                <a:latin typeface="Courier New"/>
                <a:ea typeface="Courier New"/>
              </a:rPr>
              <a:t>-j DENY –l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ffffff"/>
                </a:solidFill>
                <a:latin typeface="Courier New"/>
                <a:ea typeface="Courier New"/>
              </a:rPr>
              <a:t> 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Courier New"/>
                <a:ea typeface="Courier New"/>
              </a:rPr>
              <a:t>iptables –A bad-good </a:t>
            </a:r>
            <a:r>
              <a:rPr b="1" lang="en-GB" sz="1700" spc="-1" strike="noStrike">
                <a:solidFill>
                  <a:srgbClr val="ffffff"/>
                </a:solidFill>
                <a:latin typeface="Courier New"/>
                <a:ea typeface="Courier New"/>
              </a:rPr>
              <a:t>-j DENY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ffff00"/>
                </a:solidFill>
                <a:latin typeface="Times New Roman"/>
              </a:rPr>
              <a:t>Αντιπροσώπευση υπηρεσιών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407" name="BS00144_" descr=""/>
          <p:cNvPicPr/>
          <p:nvPr/>
        </p:nvPicPr>
        <p:blipFill>
          <a:blip r:embed="rId1"/>
          <a:stretch/>
        </p:blipFill>
        <p:spPr>
          <a:xfrm>
            <a:off x="173160" y="2387520"/>
            <a:ext cx="1077840" cy="117000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/>
          <p:nvPr/>
        </p:nvSpPr>
        <p:spPr>
          <a:xfrm>
            <a:off x="164520" y="3830760"/>
            <a:ext cx="113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ter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 flipH="1" flipV="1">
            <a:off x="-2823120" y="1483200"/>
            <a:ext cx="4644360" cy="4832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824" y="21182"/>
                </a:moveTo>
                <a:arcTo wR="10800" hR="10800" stAng="6359734" swAng="8850015"/>
                <a:lnTo>
                  <a:pt x="10800" y="10800"/>
                </a:lnTo>
                <a:close/>
              </a:path>
              <a:path fill="none" w="21600" h="21600">
                <a:moveTo>
                  <a:pt x="7824" y="21182"/>
                </a:moveTo>
                <a:arcTo wR="10800" hR="10800" stAng="6359734" swAng="8850015"/>
              </a:path>
            </a:pathLst>
          </a:custGeom>
          <a:noFill/>
          <a:ln cap="sq"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10" name="j0210690" descr=""/>
          <p:cNvPicPr/>
          <p:nvPr/>
        </p:nvPicPr>
        <p:blipFill>
          <a:blip r:embed="rId2"/>
          <a:stretch/>
        </p:blipFill>
        <p:spPr>
          <a:xfrm>
            <a:off x="189000" y="4311720"/>
            <a:ext cx="1036440" cy="1095480"/>
          </a:xfrm>
          <a:prstGeom prst="rect">
            <a:avLst/>
          </a:prstGeom>
          <a:ln w="0">
            <a:noFill/>
          </a:ln>
        </p:spPr>
      </p:pic>
      <p:sp>
        <p:nvSpPr>
          <p:cNvPr id="411" name="Cloud"/>
          <p:cNvSpPr/>
          <p:nvPr/>
        </p:nvSpPr>
        <p:spPr>
          <a:xfrm>
            <a:off x="1359000" y="3211560"/>
            <a:ext cx="1670040" cy="1066680"/>
          </a:xfrm>
          <a:prstGeom prst="pi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rewal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12" name="" descr=""/>
          <p:cNvPicPr/>
          <p:nvPr/>
        </p:nvPicPr>
        <p:blipFill>
          <a:blip r:embed="rId3"/>
          <a:stretch/>
        </p:blipFill>
        <p:spPr>
          <a:xfrm>
            <a:off x="5815080" y="1325520"/>
            <a:ext cx="1425600" cy="1071720"/>
          </a:xfrm>
          <a:prstGeom prst="rect">
            <a:avLst/>
          </a:prstGeom>
          <a:ln w="0">
            <a:noFill/>
          </a:ln>
        </p:spPr>
      </p:pic>
      <p:sp>
        <p:nvSpPr>
          <p:cNvPr id="413" name=""/>
          <p:cNvSpPr/>
          <p:nvPr/>
        </p:nvSpPr>
        <p:spPr>
          <a:xfrm>
            <a:off x="7224120" y="2943360"/>
            <a:ext cx="113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4"/>
          <a:stretch/>
        </p:blipFill>
        <p:spPr>
          <a:xfrm>
            <a:off x="1665360" y="1938240"/>
            <a:ext cx="1249200" cy="1501920"/>
          </a:xfrm>
          <a:prstGeom prst="rect">
            <a:avLst/>
          </a:prstGeom>
          <a:ln w="0">
            <a:noFill/>
          </a:ln>
        </p:spPr>
      </p:pic>
      <p:pic>
        <p:nvPicPr>
          <p:cNvPr id="415" name="" descr=""/>
          <p:cNvPicPr/>
          <p:nvPr/>
        </p:nvPicPr>
        <p:blipFill>
          <a:blip r:embed="rId5"/>
          <a:stretch/>
        </p:blipFill>
        <p:spPr>
          <a:xfrm>
            <a:off x="5931000" y="4059360"/>
            <a:ext cx="1177920" cy="132372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/>
          <p:nvPr/>
        </p:nvSpPr>
        <p:spPr>
          <a:xfrm flipH="1">
            <a:off x="3106440" y="1758960"/>
            <a:ext cx="2608200" cy="1225440"/>
          </a:xfrm>
          <a:prstGeom prst="line">
            <a:avLst/>
          </a:prstGeom>
          <a:ln cap="sq"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3240000" y="3887640"/>
            <a:ext cx="2622600" cy="703440"/>
          </a:xfrm>
          <a:prstGeom prst="line">
            <a:avLst/>
          </a:prstGeom>
          <a:ln cap="sq"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 rot="17455800">
            <a:off x="2829240" y="2465640"/>
            <a:ext cx="541440" cy="328320"/>
          </a:xfrm>
          <a:custGeom>
            <a:avLst/>
            <a:gdLst/>
            <a:ahLst/>
            <a:rect l="l" t="t" r="r" b="b"/>
            <a:pathLst>
              <a:path w="432" h="256">
                <a:moveTo>
                  <a:pt x="432" y="224"/>
                </a:moveTo>
                <a:cubicBezTo>
                  <a:pt x="360" y="240"/>
                  <a:pt x="288" y="256"/>
                  <a:pt x="240" y="224"/>
                </a:cubicBezTo>
                <a:cubicBezTo>
                  <a:pt x="192" y="192"/>
                  <a:pt x="184" y="64"/>
                  <a:pt x="144" y="32"/>
                </a:cubicBezTo>
                <a:cubicBezTo>
                  <a:pt x="104" y="0"/>
                  <a:pt x="52" y="16"/>
                  <a:pt x="0" y="32"/>
                </a:cubicBezTo>
              </a:path>
            </a:pathLst>
          </a:custGeom>
          <a:noFill/>
          <a:ln cap="sq"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1963800" y="4678200"/>
            <a:ext cx="793800" cy="309600"/>
          </a:xfrm>
          <a:prstGeom prst="ellipse">
            <a:avLst/>
          </a:prstGeom>
          <a:solidFill>
            <a:srgbClr val="969696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2340000" y="4383000"/>
            <a:ext cx="0" cy="417600"/>
          </a:xfrm>
          <a:prstGeom prst="line">
            <a:avLst/>
          </a:prstGeom>
          <a:ln cap="sq"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1527120" y="5295960"/>
            <a:ext cx="162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Καταγραφή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ffff00"/>
                </a:solidFill>
                <a:latin typeface="Times New Roman"/>
              </a:rPr>
              <a:t>Ζητήματα αντιπροσώπευσης</a:t>
            </a:r>
            <a:br>
              <a:rPr sz="4400"/>
            </a:br>
            <a:r>
              <a:rPr b="0" lang="el-GR" sz="4400" spc="-1" strike="noStrike">
                <a:solidFill>
                  <a:srgbClr val="ffff00"/>
                </a:solidFill>
                <a:latin typeface="Times New Roman"/>
              </a:rPr>
              <a:t>υπηρεσιών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423" name=""/>
          <p:cNvGraphicFramePr/>
          <p:nvPr/>
        </p:nvGraphicFramePr>
        <p:xfrm>
          <a:off x="434880" y="1652760"/>
          <a:ext cx="8407440" cy="4778280"/>
        </p:xfrm>
        <a:graphic>
          <a:graphicData uri="http://schemas.openxmlformats.org/drawingml/2006/table">
            <a:tbl>
              <a:tblPr/>
              <a:tblGrid>
                <a:gridCol w="4205520"/>
                <a:gridCol w="4201920"/>
              </a:tblGrid>
              <a:tr h="820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Υπέρ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Κατά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57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76200" indent="-376200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33cc33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r>
                        <a:rPr b="0" lang="el-GR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l-GR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Απλό στην υλοποίηση, χαμηλού κόστου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76200" indent="-376200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33cc33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r>
                        <a:rPr b="0" lang="el-GR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l-GR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Δυνατότητα καταγραφής υπόπτων αιτήσεω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76200" indent="-376200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33cc33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r>
                        <a:rPr b="0" lang="el-GR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l-GR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Το εσωτερικό δίκτυο είναι αόρατο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76200" indent="-376200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Wingdings"/>
                          <a:ea typeface="Wingdings"/>
                        </a:rPr>
                        <a:t></a:t>
                      </a:r>
                      <a:r>
                        <a:rPr b="0" lang="el-GR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l-GR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Πιθανή εισαγωγή σημείων συμφόρησης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76200" indent="-376200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Wingdings"/>
                          <a:ea typeface="Wingdings"/>
                        </a:rPr>
                        <a:t></a:t>
                      </a:r>
                      <a:r>
                        <a:rPr b="0" lang="el-GR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l-GR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Ευελιξία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76200" indent="-376200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Wingdings"/>
                          <a:ea typeface="Wingdings"/>
                        </a:rPr>
                        <a:t></a:t>
                      </a:r>
                      <a:r>
                        <a:rPr b="0" lang="el-GR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l-GR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Μερικές υπηρεσίες δεν είναι εύκολο να αντιπροσωπευθού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76200" indent="-376200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Wingdings"/>
                          <a:ea typeface="Wingdings"/>
                        </a:rPr>
                        <a:t></a:t>
                      </a:r>
                      <a:r>
                        <a:rPr b="0" lang="el-GR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l-GR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Κάθε υπηρεσία είναι «διπλή»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ffff00"/>
                </a:solidFill>
                <a:latin typeface="Times New Roman"/>
              </a:rPr>
              <a:t>Φιλτράρισμα με αντιπροσώπευση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Times New Roman"/>
              </a:rPr>
              <a:t>Φιλτράρισμα ώστε να επιτρέπεται η σύνδεση από το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ernet </a:t>
            </a:r>
            <a:r>
              <a:rPr b="0" lang="el-GR" sz="3200" spc="-1" strike="noStrike">
                <a:solidFill>
                  <a:srgbClr val="ffffff"/>
                </a:solidFill>
                <a:latin typeface="Times New Roman"/>
              </a:rPr>
              <a:t>μόνο προς τον εξυπηρέτη αντιπροσώπευση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Times New Roman"/>
              </a:rPr>
              <a:t>Ο εξυπηρέτης αντιπροσώπευσης προωθεί τις αιτήσεις στους «πραγματικούς» εξυπηρέτε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Σε μερικές περιπτώσεις μπορεί να επιτρέπεται απευθείας πρόσβαση στους εσωτερικούς εξυπηρέτες (απόδοση, «ακίνδυνες» υπηρεσίες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ffff00"/>
                </a:solidFill>
                <a:latin typeface="Times New Roman"/>
              </a:rPr>
              <a:t>Πρόσβαση από εσωτερικούς χρήστες σε εξωτερικές υπηρεσίες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685800" y="1641600"/>
            <a:ext cx="7772400" cy="15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Times New Roman"/>
              </a:rPr>
              <a:t>Απ’ ευθείας πρόσβαση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Times New Roman"/>
              </a:rPr>
              <a:t>Με </a:t>
            </a:r>
            <a:r>
              <a:rPr b="0" i="1" lang="el-GR" sz="3200" spc="-1" strike="noStrike">
                <a:solidFill>
                  <a:srgbClr val="ffffff"/>
                </a:solidFill>
                <a:latin typeface="Times New Roman"/>
              </a:rPr>
              <a:t>μετάφραση διευθύνσεων δικτύου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28" name="BS00144_" descr=""/>
          <p:cNvPicPr/>
          <p:nvPr/>
        </p:nvPicPr>
        <p:blipFill>
          <a:blip r:embed="rId1"/>
          <a:stretch/>
        </p:blipFill>
        <p:spPr>
          <a:xfrm>
            <a:off x="322200" y="3328920"/>
            <a:ext cx="1077840" cy="1170000"/>
          </a:xfrm>
          <a:prstGeom prst="rect">
            <a:avLst/>
          </a:prstGeom>
          <a:ln w="0">
            <a:noFill/>
          </a:ln>
        </p:spPr>
      </p:pic>
      <p:sp>
        <p:nvSpPr>
          <p:cNvPr id="429" name=""/>
          <p:cNvSpPr/>
          <p:nvPr/>
        </p:nvSpPr>
        <p:spPr>
          <a:xfrm flipH="1" flipV="1">
            <a:off x="491040" y="2684520"/>
            <a:ext cx="3339720" cy="2896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5371" y="20136"/>
                </a:moveTo>
                <a:arcTo wR="10800" hR="10800" stAng="7210831" swAng="6352256"/>
                <a:lnTo>
                  <a:pt x="10800" y="10800"/>
                </a:lnTo>
                <a:close/>
              </a:path>
              <a:path fill="none" w="21600" h="21600">
                <a:moveTo>
                  <a:pt x="5371" y="20136"/>
                </a:moveTo>
                <a:arcTo wR="10800" hR="10800" stAng="7210831" swAng="6352256"/>
              </a:path>
            </a:pathLst>
          </a:custGeom>
          <a:noFill/>
          <a:ln cap="sq"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Cloud"/>
          <p:cNvSpPr/>
          <p:nvPr/>
        </p:nvSpPr>
        <p:spPr>
          <a:xfrm>
            <a:off x="3092400" y="3425760"/>
            <a:ext cx="1698840" cy="1067040"/>
          </a:xfrm>
          <a:prstGeom prst="pi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rewal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1044720" y="3510000"/>
            <a:ext cx="2017440" cy="0"/>
          </a:xfrm>
          <a:prstGeom prst="line">
            <a:avLst/>
          </a:prstGeom>
          <a:ln cap="sq"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927360" y="2981160"/>
            <a:ext cx="239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192.168.4.2, 204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33" name="" descr=""/>
          <p:cNvPicPr/>
          <p:nvPr/>
        </p:nvPicPr>
        <p:blipFill>
          <a:blip r:embed="rId2"/>
          <a:stretch/>
        </p:blipFill>
        <p:spPr>
          <a:xfrm>
            <a:off x="7877160" y="2878200"/>
            <a:ext cx="1266840" cy="2163600"/>
          </a:xfrm>
          <a:prstGeom prst="rect">
            <a:avLst/>
          </a:prstGeom>
          <a:ln w="0">
            <a:noFill/>
          </a:ln>
        </p:spPr>
      </p:pic>
      <p:sp>
        <p:nvSpPr>
          <p:cNvPr id="434" name=""/>
          <p:cNvSpPr/>
          <p:nvPr/>
        </p:nvSpPr>
        <p:spPr>
          <a:xfrm>
            <a:off x="4946760" y="3510000"/>
            <a:ext cx="2824200" cy="0"/>
          </a:xfrm>
          <a:prstGeom prst="line">
            <a:avLst/>
          </a:prstGeom>
          <a:ln cap="sq"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829040" y="298116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195.134.65.119, 60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4946760" y="4370400"/>
            <a:ext cx="2824200" cy="0"/>
          </a:xfrm>
          <a:prstGeom prst="line">
            <a:avLst/>
          </a:prstGeom>
          <a:ln cap="sq" w="381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829040" y="458136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195.134.65.119, 60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 flipH="1">
            <a:off x="1133640" y="4437000"/>
            <a:ext cx="2017440" cy="0"/>
          </a:xfrm>
          <a:prstGeom prst="line">
            <a:avLst/>
          </a:prstGeom>
          <a:ln cap="sq"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1016280" y="4460760"/>
            <a:ext cx="239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192.168.4.2, 204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685800" y="5151600"/>
            <a:ext cx="77724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Times New Roman"/>
              </a:rPr>
              <a:t>Με χρήση αντιπροσώπευση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Times New Roman"/>
              </a:rPr>
              <a:t>Με </a:t>
            </a:r>
            <a:r>
              <a:rPr b="0" i="1" lang="el-GR" sz="3200" spc="-1" strike="noStrike">
                <a:solidFill>
                  <a:srgbClr val="ffffff"/>
                </a:solidFill>
                <a:latin typeface="Times New Roman"/>
              </a:rPr>
              <a:t>υπολογιστές-προμαχώνε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ffff00"/>
                </a:solidFill>
                <a:latin typeface="Times New Roman"/>
              </a:rPr>
              <a:t>Ασφάλεια στον προγραμματισμό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Τα λάθη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«Η συγγραφή κώδικα δεν έχει σχέση με την ασφάλεια»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«Το μόνο που θέλω είναι να τελειώνω με το πρόγραμμά μου»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«Μεθαύριο το παραδίδουμε στον πελάτη – τι μου λες για ασφάλεια τώρα;»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Τα αποτελέσματα (όταν αναδειχθούν τα προβλήματα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Οι προγραμματιστές σταματάνε τη δουλειά τους και ασχολούνται με την επιδιόρθωση του προβλήματο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Ειδοποιούνται οι πελάτες/χρήστε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Αποστέλλεται η νέα έκδοση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Εγκαθίσταται η νέα έκδοση (με πιθανή συνδρομή τεχνικών της εταιρείας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Ζημιά στην εικόνα της εταιρεία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buClr>
                <a:srgbClr val="ffffff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Times New Roman"/>
              </a:rPr>
              <a:t>Ειδικά αν πρόκειται για τράπεζες και παρόμοιους οργανισμού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ffff00"/>
                </a:solidFill>
                <a:latin typeface="Times New Roman"/>
              </a:rPr>
              <a:t>Γενική αρχιτεκτονική 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irewall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442" name="BS00144_" descr=""/>
          <p:cNvPicPr/>
          <p:nvPr/>
        </p:nvPicPr>
        <p:blipFill>
          <a:blip r:embed="rId1"/>
          <a:stretch/>
        </p:blipFill>
        <p:spPr>
          <a:xfrm>
            <a:off x="282600" y="2400480"/>
            <a:ext cx="1077840" cy="1169640"/>
          </a:xfrm>
          <a:prstGeom prst="rect">
            <a:avLst/>
          </a:prstGeom>
          <a:ln w="0">
            <a:noFill/>
          </a:ln>
        </p:spPr>
      </p:pic>
      <p:sp>
        <p:nvSpPr>
          <p:cNvPr id="443" name=""/>
          <p:cNvSpPr/>
          <p:nvPr/>
        </p:nvSpPr>
        <p:spPr>
          <a:xfrm>
            <a:off x="273960" y="3843360"/>
            <a:ext cx="113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ter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 flipH="1" flipV="1">
            <a:off x="-2714040" y="1495080"/>
            <a:ext cx="4645080" cy="4833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824" y="21182"/>
                </a:moveTo>
                <a:arcTo wR="10800" hR="10800" stAng="6359734" swAng="8850015"/>
                <a:lnTo>
                  <a:pt x="10800" y="10800"/>
                </a:lnTo>
                <a:close/>
              </a:path>
              <a:path fill="none" w="21600" h="21600">
                <a:moveTo>
                  <a:pt x="7824" y="21182"/>
                </a:moveTo>
                <a:arcTo wR="10800" hR="10800" stAng="6359734" swAng="8850015"/>
              </a:path>
            </a:pathLst>
          </a:custGeom>
          <a:noFill/>
          <a:ln cap="sq"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45" name="j0210690" descr=""/>
          <p:cNvPicPr/>
          <p:nvPr/>
        </p:nvPicPr>
        <p:blipFill>
          <a:blip r:embed="rId2"/>
          <a:stretch/>
        </p:blipFill>
        <p:spPr>
          <a:xfrm>
            <a:off x="298440" y="4324320"/>
            <a:ext cx="1036800" cy="1095480"/>
          </a:xfrm>
          <a:prstGeom prst="rect">
            <a:avLst/>
          </a:prstGeom>
          <a:ln w="0">
            <a:noFill/>
          </a:ln>
        </p:spPr>
      </p:pic>
      <p:sp>
        <p:nvSpPr>
          <p:cNvPr id="446" name="Cloud"/>
          <p:cNvSpPr/>
          <p:nvPr/>
        </p:nvSpPr>
        <p:spPr>
          <a:xfrm>
            <a:off x="1332000" y="3049560"/>
            <a:ext cx="1590480" cy="1066680"/>
          </a:xfrm>
          <a:prstGeom prst="pi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Φιλτρά-ρισμα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 flipH="1" flipV="1">
            <a:off x="519840" y="1082520"/>
            <a:ext cx="4644360" cy="5705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403" y="20664"/>
                </a:moveTo>
                <a:arcTo wR="10800" hR="10800" stAng="6841452" swAng="8091855"/>
                <a:lnTo>
                  <a:pt x="10800" y="10800"/>
                </a:lnTo>
                <a:close/>
              </a:path>
              <a:path fill="none" w="21600" h="21600">
                <a:moveTo>
                  <a:pt x="6403" y="20664"/>
                </a:moveTo>
                <a:arcTo wR="10800" hR="10800" stAng="6841452" swAng="8091855"/>
              </a:path>
            </a:pathLst>
          </a:custGeom>
          <a:noFill/>
          <a:ln cap="sq"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Cloud"/>
          <p:cNvSpPr/>
          <p:nvPr/>
        </p:nvSpPr>
        <p:spPr>
          <a:xfrm>
            <a:off x="4511520" y="3129120"/>
            <a:ext cx="1590840" cy="1066680"/>
          </a:xfrm>
          <a:prstGeom prst="pi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Φιλτρά-ρισμα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49" name="" descr=""/>
          <p:cNvPicPr/>
          <p:nvPr/>
        </p:nvPicPr>
        <p:blipFill>
          <a:blip r:embed="rId3"/>
          <a:stretch/>
        </p:blipFill>
        <p:spPr>
          <a:xfrm>
            <a:off x="7101000" y="1633680"/>
            <a:ext cx="1425600" cy="1071360"/>
          </a:xfrm>
          <a:prstGeom prst="rect">
            <a:avLst/>
          </a:prstGeom>
          <a:ln w="0">
            <a:noFill/>
          </a:ln>
        </p:spPr>
      </p:pic>
      <p:sp>
        <p:nvSpPr>
          <p:cNvPr id="450" name=""/>
          <p:cNvSpPr/>
          <p:nvPr/>
        </p:nvSpPr>
        <p:spPr>
          <a:xfrm>
            <a:off x="7298640" y="3251160"/>
            <a:ext cx="113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51" name="" descr=""/>
          <p:cNvPicPr/>
          <p:nvPr/>
        </p:nvPicPr>
        <p:blipFill>
          <a:blip r:embed="rId4"/>
          <a:stretch/>
        </p:blipFill>
        <p:spPr>
          <a:xfrm>
            <a:off x="7216920" y="4367160"/>
            <a:ext cx="1177920" cy="1324080"/>
          </a:xfrm>
          <a:prstGeom prst="rect">
            <a:avLst/>
          </a:prstGeom>
          <a:ln w="0">
            <a:noFill/>
          </a:ln>
        </p:spPr>
      </p:pic>
      <p:pic>
        <p:nvPicPr>
          <p:cNvPr id="452" name="" descr=""/>
          <p:cNvPicPr/>
          <p:nvPr/>
        </p:nvPicPr>
        <p:blipFill>
          <a:blip r:embed="rId5"/>
          <a:stretch/>
        </p:blipFill>
        <p:spPr>
          <a:xfrm>
            <a:off x="2755800" y="1736640"/>
            <a:ext cx="1249560" cy="150192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1359000" y="1666800"/>
            <a:ext cx="793800" cy="309600"/>
          </a:xfrm>
          <a:prstGeom prst="ellipse">
            <a:avLst/>
          </a:prstGeom>
          <a:solidFill>
            <a:srgbClr val="969696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 flipH="1">
            <a:off x="2300040" y="2070000"/>
            <a:ext cx="415800" cy="0"/>
          </a:xfrm>
          <a:prstGeom prst="line">
            <a:avLst/>
          </a:prstGeom>
          <a:ln cap="sq"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2316960" y="1139760"/>
            <a:ext cx="232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Αντιπροσώπευση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 rot="8583600">
            <a:off x="5955840" y="2703240"/>
            <a:ext cx="1263600" cy="253800"/>
          </a:xfrm>
          <a:custGeom>
            <a:avLst/>
            <a:gdLst>
              <a:gd name="textAreaLeft" fmla="*/ 197280 w 1263600"/>
              <a:gd name="textAreaRight" fmla="*/ 1105920 w 1263600"/>
              <a:gd name="textAreaTop" fmla="*/ 63360 h 253800"/>
              <a:gd name="textAreaBottom" fmla="*/ 190440 h 253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808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rot="10800000">
            <a:off x="4731840" y="3093840"/>
            <a:ext cx="1263960" cy="253800"/>
          </a:xfrm>
          <a:custGeom>
            <a:avLst/>
            <a:gdLst>
              <a:gd name="textAreaLeft" fmla="*/ 197280 w 1263960"/>
              <a:gd name="textAreaRight" fmla="*/ 1106280 w 1263960"/>
              <a:gd name="textAreaTop" fmla="*/ 63360 h 253800"/>
              <a:gd name="textAreaBottom" fmla="*/ 190440 h 253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808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rot="13267800">
            <a:off x="3911760" y="2759040"/>
            <a:ext cx="863280" cy="247680"/>
          </a:xfrm>
          <a:custGeom>
            <a:avLst/>
            <a:gdLst>
              <a:gd name="textAreaLeft" fmla="*/ 134640 w 863280"/>
              <a:gd name="textAreaRight" fmla="*/ 755640 w 863280"/>
              <a:gd name="textAreaTop" fmla="*/ 61920 h 247680"/>
              <a:gd name="textAreaBottom" fmla="*/ 185760 h 2476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808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rot="8583600">
            <a:off x="1914120" y="2882880"/>
            <a:ext cx="892080" cy="254160"/>
          </a:xfrm>
          <a:custGeom>
            <a:avLst/>
            <a:gdLst>
              <a:gd name="textAreaLeft" fmla="*/ 139320 w 892080"/>
              <a:gd name="textAreaRight" fmla="*/ 780840 w 892080"/>
              <a:gd name="textAreaTop" fmla="*/ 63360 h 254160"/>
              <a:gd name="textAreaBottom" fmla="*/ 190800 h 2541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808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rot="12600000">
            <a:off x="1038240" y="2882520"/>
            <a:ext cx="892080" cy="254160"/>
          </a:xfrm>
          <a:custGeom>
            <a:avLst/>
            <a:gdLst>
              <a:gd name="textAreaLeft" fmla="*/ 139320 w 892080"/>
              <a:gd name="textAreaRight" fmla="*/ 780840 w 892080"/>
              <a:gd name="textAreaTop" fmla="*/ 63360 h 254160"/>
              <a:gd name="textAreaBottom" fmla="*/ 190800 h 2541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808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61" name="" descr=""/>
          <p:cNvPicPr/>
          <p:nvPr/>
        </p:nvPicPr>
        <p:blipFill>
          <a:blip r:embed="rId6"/>
          <a:stretch/>
        </p:blipFill>
        <p:spPr>
          <a:xfrm>
            <a:off x="2760840" y="4024440"/>
            <a:ext cx="1116000" cy="2039760"/>
          </a:xfrm>
          <a:prstGeom prst="rect">
            <a:avLst/>
          </a:prstGeom>
          <a:ln w="0">
            <a:noFill/>
          </a:ln>
        </p:spPr>
      </p:pic>
      <p:sp>
        <p:nvSpPr>
          <p:cNvPr id="462" name=""/>
          <p:cNvSpPr/>
          <p:nvPr/>
        </p:nvSpPr>
        <p:spPr>
          <a:xfrm>
            <a:off x="2326680" y="5999040"/>
            <a:ext cx="178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Προμαχώνα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 rot="19800000">
            <a:off x="1227240" y="4094280"/>
            <a:ext cx="892080" cy="253800"/>
          </a:xfrm>
          <a:custGeom>
            <a:avLst/>
            <a:gdLst>
              <a:gd name="textAreaLeft" fmla="*/ 139320 w 892080"/>
              <a:gd name="textAreaRight" fmla="*/ 780840 w 892080"/>
              <a:gd name="textAreaTop" fmla="*/ 63360 h 253800"/>
              <a:gd name="textAreaBottom" fmla="*/ 190440 h 253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808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 rot="2700000">
            <a:off x="2092320" y="4179600"/>
            <a:ext cx="838440" cy="254160"/>
          </a:xfrm>
          <a:custGeom>
            <a:avLst/>
            <a:gdLst>
              <a:gd name="textAreaLeft" fmla="*/ 131040 w 838440"/>
              <a:gd name="textAreaRight" fmla="*/ 733680 w 838440"/>
              <a:gd name="textAreaTop" fmla="*/ 63360 h 254160"/>
              <a:gd name="textAreaBottom" fmla="*/ 190800 h 2541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808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 rot="19800000">
            <a:off x="3876840" y="4295520"/>
            <a:ext cx="993600" cy="253800"/>
          </a:xfrm>
          <a:custGeom>
            <a:avLst/>
            <a:gdLst>
              <a:gd name="textAreaLeft" fmla="*/ 155160 w 993600"/>
              <a:gd name="textAreaRight" fmla="*/ 869400 w 993600"/>
              <a:gd name="textAreaTop" fmla="*/ 63360 h 253800"/>
              <a:gd name="textAreaBottom" fmla="*/ 190440 h 253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808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867200" y="3952800"/>
            <a:ext cx="993960" cy="254160"/>
          </a:xfrm>
          <a:custGeom>
            <a:avLst/>
            <a:gdLst>
              <a:gd name="textAreaLeft" fmla="*/ 155160 w 993960"/>
              <a:gd name="textAreaRight" fmla="*/ 869760 w 993960"/>
              <a:gd name="textAreaTop" fmla="*/ 63360 h 254160"/>
              <a:gd name="textAreaBottom" fmla="*/ 190800 h 2541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808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 rot="1658400">
            <a:off x="5878080" y="4302000"/>
            <a:ext cx="1405080" cy="254160"/>
          </a:xfrm>
          <a:custGeom>
            <a:avLst/>
            <a:gdLst>
              <a:gd name="textAreaLeft" fmla="*/ 219600 w 1405080"/>
              <a:gd name="textAreaRight" fmla="*/ 1229760 w 1405080"/>
              <a:gd name="textAreaTop" fmla="*/ 63360 h 254160"/>
              <a:gd name="textAreaBottom" fmla="*/ 190800 h 2541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808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ffff00"/>
                </a:solidFill>
                <a:latin typeface="Times New Roman"/>
              </a:rPr>
              <a:t>«Περιτυλίγματα» Υπηρεσιών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72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3200" spc="-1" strike="noStrike">
                <a:solidFill>
                  <a:srgbClr val="ffffff"/>
                </a:solidFill>
                <a:latin typeface="Times New Roman"/>
              </a:rPr>
              <a:t>Περιτύλιγμα:</a:t>
            </a:r>
            <a:r>
              <a:rPr b="0" lang="el-GR" sz="3200" spc="-1" strike="noStrike">
                <a:solidFill>
                  <a:srgbClr val="ffffff"/>
                </a:solidFill>
                <a:latin typeface="Times New Roman"/>
              </a:rPr>
              <a:t> ένα πρόγραμμα που χρησιμοποιείται για να ελέγχει την πρόσβαση σε ένα άλλο πρόγραμμα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Times New Roman"/>
              </a:rPr>
              <a:t>Συνήθως απλό και εύκολο να ελεγχθεί ως προς την ορθότητά του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Times New Roman"/>
              </a:rPr>
              <a:t>Αναπτύσσεται-συντηρείται ανεξάρτητα από το ελεγχόμενο πρόγραμμα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Times New Roman"/>
              </a:rPr>
              <a:t>Ένα «περιτύλιγμα» ελέγχει την πρόσβαση σε πολλά προγράμματα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ffff00"/>
                </a:solidFill>
                <a:latin typeface="Times New Roman"/>
              </a:rPr>
              <a:t>«Περιτυλίγματα»: Στόχοι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73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Καταγραφή συνδέσεων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Διενέργεια ελέγχων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Διεύθυνση σύνδεση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Ονοματολογία συνδεόμενου υπολογιστή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Εξέταση της ταυτότητας του συνδεόμενου χρήστη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Π.χ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cp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Καλείται </a:t>
            </a:r>
            <a:r>
              <a:rPr b="0" i="1" lang="el-GR" sz="2400" spc="-1" strike="noStrike">
                <a:solidFill>
                  <a:srgbClr val="ffffff"/>
                </a:solidFill>
                <a:latin typeface="Times New Roman"/>
              </a:rPr>
              <a:t>πριν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 από τη σχετική υπηρεσία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μέσω διαμόρφωσης του αρχείου καθορισμού εκκίνησης προγραμμάτων εξυπηρέτησης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etd.con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Αφού διενεργήσει τους ελέγχους επιτυχώς, παραδίδει τον έλεγχο στο πρόγραμμα παροχής υπηρεσία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Αν οι έλεγχοι αποτύχουν, υπάρχει η δυνατότητα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ffff00"/>
                </a:solidFill>
                <a:latin typeface="Times New Roman"/>
              </a:rPr>
              <a:t>Περιτυλίγματα υπηρεσιών - Παράδειγμα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22200" y="1641600"/>
            <a:ext cx="8499600" cy="48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sts.allow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imapd: .mycom.com .affliatecom.com LOC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in.telnetd: .mycom.com .affliatecom.co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in.telnetd: 195.170.21.138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sshd: 60.70.80. 10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ALL: .mycom.com .affliatecom.co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sts.den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ALL: UNKNOWN: (/usr/sbin/safe_finger -l @%a | \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               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/usr/ucb/mail -s %H-%d-%h root)&amp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ALL: 143.233.160.99: (/usr/sbin/safe_finger -l @%a | \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               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/usr/ucb/mail -s %H-%d-%h root)&amp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ALL: PARANOI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ALL: .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hackers.org .rivals.com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 195.134.79.7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imapd: AL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ffff00"/>
                </a:solidFill>
                <a:latin typeface="Times New Roman"/>
              </a:rPr>
              <a:t>Ασφάλεια στον προγραμματισμό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Times New Roman"/>
              </a:rPr>
              <a:t>Απαραίτητο συστατικό της διαδικασίας διασφάλισης ποιότητας του λογισμικού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Γνώση από τους προγραμματιστές όλων των πιθανών ευπαθειών ασφάλειας της γλώσσας και του περιβάλλοντος προγραμματισμού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Επιθεωρήσεις ασφαλείας για τον κώδικα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Από προγράμματα ανίχνευσης ευπαθειών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Από εξειδικευμένους προγραμματιστέ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ffff00"/>
                </a:solidFill>
                <a:latin typeface="Times New Roman"/>
              </a:rPr>
              <a:t>Παράδειγμα προγράμματος ελέγχου ευπαθειών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1068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ffffff"/>
                </a:solidFill>
                <a:latin typeface="Times New Roman"/>
              </a:rPr>
              <a:t>Πρόγραμμα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ffffff"/>
                </a:solidFill>
                <a:latin typeface="Times New Roman"/>
              </a:rPr>
              <a:t>#include &lt;stdio.h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ffffff"/>
                </a:solidFill>
                <a:latin typeface="Times New Roman"/>
              </a:rPr>
              <a:t>#include &lt;string.h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</a:rPr>
              <a:t>int main(void) {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</a:rPr>
              <a:t>char s1[100], s2[80]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</a:rPr>
              <a:t>puts("Enter a string: "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</a:rPr>
              <a:t>gets(s1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</a:rPr>
              <a:t>strcpy(s2, s1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</a:rPr>
              <a:t>printf(s2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</a:rPr>
              <a:t>return 0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021200" y="1641600"/>
            <a:ext cx="4368600" cy="44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ffffff"/>
                </a:solidFill>
                <a:latin typeface="Times New Roman"/>
              </a:rPr>
              <a:t>Ανάλυση ευπαθειών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</a:rPr>
              <a:t>its4 probs.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</a:rPr>
              <a:t>probs.c:8:(Urgent) get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</a:rPr>
              <a:t>The input buffer can almost always be overflowed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</a:rPr>
              <a:t>Use fgets(buf,size,stdin) instead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</a:rPr>
              <a:t>---------------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</a:rPr>
              <a:t>probs.c:10:(Urgent) printf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</a:rPr>
              <a:t>Non-constant format strings can often be attacked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</a:rPr>
              <a:t>Use a constant format string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</a:rPr>
              <a:t>---------------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</a:rPr>
              <a:t>probs.c:9:(Very Risky) strcp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</a:rPr>
              <a:t>This function is high risk for buffer overflow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</a:rPr>
              <a:t>Use strncpy instead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</a:rPr>
              <a:t>---------------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ffff00"/>
                </a:solidFill>
                <a:latin typeface="Times New Roman"/>
              </a:rPr>
              <a:t>Ευπάθειες στη 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</a:t>
            </a:r>
            <a:r>
              <a:rPr b="0" lang="el-GR" sz="4400" spc="-1" strike="noStrike">
                <a:solidFill>
                  <a:srgbClr val="ffff00"/>
                </a:solidFill>
                <a:latin typeface="Times New Roman"/>
              </a:rPr>
              <a:t>/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++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Τα περισσότερα προβλήματα ασφάλειας έχουν εντοπισθεί σε κώδικα που γράφηκε σε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Η ευρεία χρήση της γλώσσας βοηθάει σ’ αυτ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Λειτουργικά συστήματα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Βάσεις δεδομένων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Παραθυρικά συστήματα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Αλλά και η «εμπιστοσύνη» που δείχνει στον προγραμματιστή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8T09:13:34Z</dcterms:created>
  <dc:creator>Dept. of Informatics</dc:creator>
  <dc:description/>
  <dc:language>en-US</dc:language>
  <cp:lastModifiedBy>Costas Vassilakis</cp:lastModifiedBy>
  <dcterms:modified xsi:type="dcterms:W3CDTF">2006-03-02T21:32:56Z</dcterms:modified>
  <cp:revision>314</cp:revision>
  <dc:subject/>
  <dc:title>ΕΠΙΣΚΟΠΗΣΗ</dc:title>
</cp:coreProperties>
</file>