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9A1-4E22-4943-ADB5-3B6B596B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0F9-4107-4D63-9002-53AC92A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41C-B875-4FC1-B3D1-A28BAC4F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098-838E-44D4-92CE-C8CE9E05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61B8-9783-4325-9B4A-A4C316D3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06D-A994-475C-BEB4-9076B2E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CCD-26AC-4633-8F71-0BDB9EB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AB1-83C9-474F-95D2-F48F9A0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93DE-D539-4C22-89EC-1764A0CE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DF0C-3CB7-430A-A8FC-052A8663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F3F6-6C38-413B-AECC-CE13573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65B-09DA-4D39-95E0-9C27351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CE9-CF5A-4475-B1A6-DC53595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87F-D04A-4DEF-BAA6-041F749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360F-FE8E-4125-A7E9-CDD1A100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697-30FD-49A4-8202-3DC65F66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E4CE-F5CC-499C-9BDC-778D077C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CD3-46A7-41E5-9680-09DE075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ECC-8444-4062-AE0E-99086572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EC2-7F31-40D1-BE96-7D0D3A5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5B2-9624-455B-836F-4A3B7E5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3A9-FCC8-413D-8C2F-9EB6E1D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AE6-C16B-492E-9252-EF7DA6C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82C-59A4-42D7-8F27-44A9146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F59-E708-42EC-A1E6-8D003B34A8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A50B-47F5-4F2B-B55A-C7A6E3C792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.png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9.wmf"/><Relationship Id="rId19" Type="http://schemas.openxmlformats.org/officeDocument/2006/relationships/image" Target="../media/image7.wmf"/><Relationship Id="rId20" Type="http://schemas.openxmlformats.org/officeDocument/2006/relationships/image" Target="../media/image9.wmf"/><Relationship Id="rId21" Type="http://schemas.openxmlformats.org/officeDocument/2006/relationships/image" Target="../media/image6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1.png"/><Relationship Id="rId26" Type="http://schemas.openxmlformats.org/officeDocument/2006/relationships/image" Target="../media/image2.wmf"/><Relationship Id="rId27" Type="http://schemas.openxmlformats.org/officeDocument/2006/relationships/image" Target="../media/image3.wmf"/><Relationship Id="rId28" Type="http://schemas.openxmlformats.org/officeDocument/2006/relationships/image" Target="../media/image4.wmf"/><Relationship Id="rId29" Type="http://schemas.openxmlformats.org/officeDocument/2006/relationships/image" Target="../media/image1.png"/><Relationship Id="rId30" Type="http://schemas.openxmlformats.org/officeDocument/2006/relationships/image" Target="../media/image2.wmf"/><Relationship Id="rId31" Type="http://schemas.openxmlformats.org/officeDocument/2006/relationships/image" Target="../media/image3.wmf"/><Relationship Id="rId32" Type="http://schemas.openxmlformats.org/officeDocument/2006/relationships/image" Target="../media/image4.wmf"/><Relationship Id="rId33" Type="http://schemas.openxmlformats.org/officeDocument/2006/relationships/image" Target="../media/image1.png"/><Relationship Id="rId34" Type="http://schemas.openxmlformats.org/officeDocument/2006/relationships/image" Target="../media/image2.wmf"/><Relationship Id="rId35" Type="http://schemas.openxmlformats.org/officeDocument/2006/relationships/image" Target="../media/image3.wmf"/><Relationship Id="rId36" Type="http://schemas.openxmlformats.org/officeDocument/2006/relationships/image" Target="../media/image4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1.png"/><Relationship Id="rId40" Type="http://schemas.openxmlformats.org/officeDocument/2006/relationships/image" Target="../media/image2.wmf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1.png"/><Relationship Id="rId44" Type="http://schemas.openxmlformats.org/officeDocument/2006/relationships/image" Target="../media/image2.wmf"/><Relationship Id="rId45" Type="http://schemas.openxmlformats.org/officeDocument/2006/relationships/image" Target="../media/image3.wmf"/><Relationship Id="rId46" Type="http://schemas.openxmlformats.org/officeDocument/2006/relationships/image" Target="../media/image4.wmf"/><Relationship Id="rId47" Type="http://schemas.openxmlformats.org/officeDocument/2006/relationships/image" Target="../media/image1.png"/><Relationship Id="rId48" Type="http://schemas.openxmlformats.org/officeDocument/2006/relationships/image" Target="../media/image2.wmf"/><Relationship Id="rId49" Type="http://schemas.openxmlformats.org/officeDocument/2006/relationships/image" Target="../media/image3.wmf"/><Relationship Id="rId50" Type="http://schemas.openxmlformats.org/officeDocument/2006/relationships/image" Target="../media/image4.wmf"/><Relationship Id="rId5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.png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1.png"/><Relationship Id="rId25" Type="http://schemas.openxmlformats.org/officeDocument/2006/relationships/image" Target="../media/image2.wmf"/><Relationship Id="rId26" Type="http://schemas.openxmlformats.org/officeDocument/2006/relationships/image" Target="../media/image3.wmf"/><Relationship Id="rId27" Type="http://schemas.openxmlformats.org/officeDocument/2006/relationships/image" Target="../media/image4.wmf"/><Relationship Id="rId28" Type="http://schemas.openxmlformats.org/officeDocument/2006/relationships/image" Target="../media/image1.png"/><Relationship Id="rId29" Type="http://schemas.openxmlformats.org/officeDocument/2006/relationships/image" Target="../media/image2.wmf"/><Relationship Id="rId30" Type="http://schemas.openxmlformats.org/officeDocument/2006/relationships/image" Target="../media/image3.wmf"/><Relationship Id="rId31" Type="http://schemas.openxmlformats.org/officeDocument/2006/relationships/image" Target="../media/image4.wmf"/><Relationship Id="rId32" Type="http://schemas.openxmlformats.org/officeDocument/2006/relationships/image" Target="../media/image1.png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image" Target="../media/image4.wmf"/><Relationship Id="rId36" Type="http://schemas.openxmlformats.org/officeDocument/2006/relationships/image" Target="../media/image1.png"/><Relationship Id="rId37" Type="http://schemas.openxmlformats.org/officeDocument/2006/relationships/image" Target="../media/image2.wmf"/><Relationship Id="rId38" Type="http://schemas.openxmlformats.org/officeDocument/2006/relationships/image" Target="../media/image3.wmf"/><Relationship Id="rId39" Type="http://schemas.openxmlformats.org/officeDocument/2006/relationships/image" Target="../media/image4.wmf"/><Relationship Id="rId40" Type="http://schemas.openxmlformats.org/officeDocument/2006/relationships/image" Target="../media/image1.png"/><Relationship Id="rId41" Type="http://schemas.openxmlformats.org/officeDocument/2006/relationships/image" Target="../media/image2.wmf"/><Relationship Id="rId42" Type="http://schemas.openxmlformats.org/officeDocument/2006/relationships/image" Target="../media/image3.wmf"/><Relationship Id="rId43" Type="http://schemas.openxmlformats.org/officeDocument/2006/relationships/image" Target="../media/image4.wmf"/><Relationship Id="rId44" Type="http://schemas.openxmlformats.org/officeDocument/2006/relationships/image" Target="../media/image1.png"/><Relationship Id="rId45" Type="http://schemas.openxmlformats.org/officeDocument/2006/relationships/image" Target="../media/image2.wmf"/><Relationship Id="rId46" Type="http://schemas.openxmlformats.org/officeDocument/2006/relationships/image" Target="../media/image3.wmf"/><Relationship Id="rId47" Type="http://schemas.openxmlformats.org/officeDocument/2006/relationships/image" Target="../media/image4.wmf"/><Relationship Id="rId4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.png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10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png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png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png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png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1.png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image" Target="../media/image6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1.png"/><Relationship Id="rId26" Type="http://schemas.openxmlformats.org/officeDocument/2006/relationships/image" Target="../media/image2.wmf"/><Relationship Id="rId27" Type="http://schemas.openxmlformats.org/officeDocument/2006/relationships/image" Target="../media/image3.wmf"/><Relationship Id="rId28" Type="http://schemas.openxmlformats.org/officeDocument/2006/relationships/image" Target="../media/image4.wmf"/><Relationship Id="rId29" Type="http://schemas.openxmlformats.org/officeDocument/2006/relationships/image" Target="../media/image1.png"/><Relationship Id="rId30" Type="http://schemas.openxmlformats.org/officeDocument/2006/relationships/image" Target="../media/image2.wmf"/><Relationship Id="rId31" Type="http://schemas.openxmlformats.org/officeDocument/2006/relationships/image" Target="../media/image3.wmf"/><Relationship Id="rId32" Type="http://schemas.openxmlformats.org/officeDocument/2006/relationships/image" Target="../media/image4.wmf"/><Relationship Id="rId33" Type="http://schemas.openxmlformats.org/officeDocument/2006/relationships/image" Target="../media/image1.png"/><Relationship Id="rId34" Type="http://schemas.openxmlformats.org/officeDocument/2006/relationships/image" Target="../media/image2.wmf"/><Relationship Id="rId35" Type="http://schemas.openxmlformats.org/officeDocument/2006/relationships/image" Target="../media/image3.wmf"/><Relationship Id="rId36" Type="http://schemas.openxmlformats.org/officeDocument/2006/relationships/image" Target="../media/image4.wmf"/><Relationship Id="rId37" Type="http://schemas.openxmlformats.org/officeDocument/2006/relationships/image" Target="../media/image1.png"/><Relationship Id="rId38" Type="http://schemas.openxmlformats.org/officeDocument/2006/relationships/image" Target="../media/image2.wmf"/><Relationship Id="rId39" Type="http://schemas.openxmlformats.org/officeDocument/2006/relationships/image" Target="../media/image3.wmf"/><Relationship Id="rId40" Type="http://schemas.openxmlformats.org/officeDocument/2006/relationships/image" Target="../media/image4.wmf"/><Relationship Id="rId41" Type="http://schemas.openxmlformats.org/officeDocument/2006/relationships/image" Target="../media/image1.png"/><Relationship Id="rId42" Type="http://schemas.openxmlformats.org/officeDocument/2006/relationships/image" Target="../media/image2.wmf"/><Relationship Id="rId43" Type="http://schemas.openxmlformats.org/officeDocument/2006/relationships/image" Target="../media/image3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2.wmf"/><Relationship Id="rId47" Type="http://schemas.openxmlformats.org/officeDocument/2006/relationships/image" Target="../media/image3.wmf"/><Relationship Id="rId48" Type="http://schemas.openxmlformats.org/officeDocument/2006/relationships/image" Target="../media/image4.wmf"/><Relationship Id="rId4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στήματα Ανίχνευσης Εισβολ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ίχνευση εισβολ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αρακολούθηση και ανάλυση των συμβάντων σε υπολογιστές ή δίκτυα για εντοπισμό ενδείξεων εισβολή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ισβολή: απόπειρα παραβίασης 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εραιότητ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μπιστευτικότητ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αθεσιμότητ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παράκαμψης των μηχανισμών ασφαλε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εισβολές προέρχο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 εξωτερικούς χρήστες χωρίς δικαίωμα πρόσβα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 εσωτερικούς χρήστες με περιορισμένα δικαιώ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 εσωτερικούς χρήστες που καταχρώνται τα δικαιώ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υστήματα: λογισμικό ή/και υλικό για αυτοματοποίηση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μιαποκεντρωμένος έλεγχος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Cloud"/>
          <p:cNvSpPr/>
          <p:nvPr/>
        </p:nvSpPr>
        <p:spPr>
          <a:xfrm>
            <a:off x="7162920" y="3352680"/>
            <a:ext cx="1698480" cy="10670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80880" y="2209680"/>
            <a:ext cx="852480" cy="730440"/>
            <a:chOff x="380880" y="2209680"/>
            <a:chExt cx="852480" cy="730440"/>
          </a:xfrm>
        </p:grpSpPr>
        <p:sp>
          <p:nvSpPr>
            <p:cNvPr id="676" name=""/>
            <p:cNvSpPr/>
            <p:nvPr/>
          </p:nvSpPr>
          <p:spPr>
            <a:xfrm>
              <a:off x="380880" y="22096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63400" y="2452680"/>
              <a:ext cx="401760" cy="397800"/>
              <a:chOff x="563400" y="2452680"/>
              <a:chExt cx="401760" cy="397800"/>
            </a:xfrm>
          </p:grpSpPr>
          <p:sp>
            <p:nvSpPr>
              <p:cNvPr id="678" name=""/>
              <p:cNvSpPr/>
              <p:nvPr/>
            </p:nvSpPr>
            <p:spPr>
              <a:xfrm>
                <a:off x="570600" y="2472480"/>
                <a:ext cx="357120" cy="35964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41600" y="2513520"/>
                <a:ext cx="211680" cy="23184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39080" y="2495880"/>
                <a:ext cx="195480" cy="21240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7720" y="253224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0600" y="268668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080" y="255276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31160" y="248112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8600" y="2495880"/>
                <a:ext cx="140760" cy="17316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3400" y="265032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34040" y="253728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62040" y="27730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2360" y="245268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2971800" y="1143000"/>
            <a:ext cx="852480" cy="730080"/>
            <a:chOff x="2971800" y="1143000"/>
            <a:chExt cx="852480" cy="730080"/>
          </a:xfrm>
        </p:grpSpPr>
        <p:sp>
          <p:nvSpPr>
            <p:cNvPr id="691" name=""/>
            <p:cNvSpPr/>
            <p:nvPr/>
          </p:nvSpPr>
          <p:spPr>
            <a:xfrm>
              <a:off x="2971800" y="11430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3237840" y="1499040"/>
              <a:ext cx="203040" cy="184680"/>
              <a:chOff x="3237840" y="1499040"/>
              <a:chExt cx="203040" cy="184680"/>
            </a:xfrm>
          </p:grpSpPr>
          <p:sp>
            <p:nvSpPr>
              <p:cNvPr id="693" name=""/>
              <p:cNvSpPr/>
              <p:nvPr/>
            </p:nvSpPr>
            <p:spPr>
              <a:xfrm>
                <a:off x="3412800" y="16066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37840" y="16077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60160" y="16066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85360" y="16174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3418560" y="16066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37840" y="16272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37840" y="16272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37840" y="167220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37840" y="167220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377160" y="16416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303000" y="16372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03000" y="16372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15240" y="16372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23520" y="16372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243240" y="16322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238920" y="16297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38920" y="16272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303720" y="16390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95880" y="1499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95880" y="1499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260160" y="1499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260160" y="1499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60160" y="15195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382560" y="16066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7800" y="1532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7800" y="1532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0240" y="15285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3260160" y="16131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360600" y="16347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360600" y="16380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348000" y="16390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240000" y="16311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243960" y="16311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7560" y="16311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51520" y="16311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255120" y="16311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259080" y="16311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237840" y="149904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76360" y="152784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3321720" y="1559520"/>
              <a:ext cx="203040" cy="185040"/>
              <a:chOff x="3321720" y="1559520"/>
              <a:chExt cx="203040" cy="185040"/>
            </a:xfrm>
          </p:grpSpPr>
          <p:sp>
            <p:nvSpPr>
              <p:cNvPr id="733" name=""/>
              <p:cNvSpPr/>
              <p:nvPr/>
            </p:nvSpPr>
            <p:spPr>
              <a:xfrm>
                <a:off x="3496680" y="16671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21720" y="166860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44040" y="16671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69240" y="167832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3502440" y="16671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321720" y="168804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720" y="168804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21720" y="173304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321720" y="173304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461040" y="17020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386880" y="169812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86880" y="16981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99120" y="16981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407400" y="169812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27120" y="169308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22800" y="16902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22800" y="16880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387600" y="169992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79760" y="15595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79760" y="15595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344040" y="15595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44040" y="15595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040" y="15800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66440" y="16671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61680" y="15926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61680" y="15926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4120" y="15890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3344040" y="16736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4480" y="16952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444480" y="169884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31880" y="169992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23880" y="169200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27840" y="169200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31440" y="169200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35400" y="169200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39000" y="169200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42960" y="169200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321720" y="155952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360240" y="158868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420720" y="1635840"/>
              <a:ext cx="203040" cy="185040"/>
              <a:chOff x="3420720" y="1635840"/>
              <a:chExt cx="203040" cy="185040"/>
            </a:xfrm>
          </p:grpSpPr>
          <p:sp>
            <p:nvSpPr>
              <p:cNvPr id="773" name=""/>
              <p:cNvSpPr/>
              <p:nvPr/>
            </p:nvSpPr>
            <p:spPr>
              <a:xfrm>
                <a:off x="3595680" y="17434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20720" y="17449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443040" y="17434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7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68240" y="17546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3601440" y="17434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420720" y="17643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0720" y="17643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420720" y="18093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20720" y="18093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560040" y="17784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485880" y="17744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85880" y="17744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98120" y="17744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506400" y="17744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26120" y="17694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21800" y="17665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421800" y="17643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86600" y="17762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78760" y="1635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578760" y="1635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43040" y="1635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43040" y="1635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443040" y="16563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65440" y="17434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9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60680" y="1668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60680" y="1668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53120" y="16653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3443040" y="17499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43480" y="17715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43480" y="17751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530880" y="17762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422880" y="17683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426840" y="17683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430440" y="17683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434400" y="17683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438000" y="17683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41960" y="17683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420720" y="16358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459240" y="16650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3657600" y="3408480"/>
            <a:ext cx="838080" cy="718920"/>
            <a:chOff x="3657600" y="3408480"/>
            <a:chExt cx="838080" cy="718920"/>
          </a:xfrm>
        </p:grpSpPr>
        <p:sp>
          <p:nvSpPr>
            <p:cNvPr id="813" name=""/>
            <p:cNvSpPr/>
            <p:nvPr/>
          </p:nvSpPr>
          <p:spPr>
            <a:xfrm>
              <a:off x="3657600" y="3408480"/>
              <a:ext cx="838080" cy="718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4" name="j0249067" descr=""/>
            <p:cNvPicPr/>
            <p:nvPr/>
          </p:nvPicPr>
          <p:blipFill>
            <a:blip r:embed="rId13"/>
            <a:stretch/>
          </p:blipFill>
          <p:spPr>
            <a:xfrm>
              <a:off x="3905640" y="3705480"/>
              <a:ext cx="3402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"/>
          <p:cNvSpPr/>
          <p:nvPr/>
        </p:nvSpPr>
        <p:spPr>
          <a:xfrm>
            <a:off x="5105520" y="2390760"/>
            <a:ext cx="623880" cy="27612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4"/>
          <a:stretch/>
        </p:blipFill>
        <p:spPr>
          <a:xfrm>
            <a:off x="3733920" y="2209680"/>
            <a:ext cx="892080" cy="594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5396040" y="2971800"/>
            <a:ext cx="0" cy="26028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77120" y="3765600"/>
            <a:ext cx="609480" cy="1206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666880" y="2359080"/>
            <a:ext cx="685800" cy="536400"/>
            <a:chOff x="2666880" y="2359080"/>
            <a:chExt cx="685800" cy="536400"/>
          </a:xfrm>
        </p:grpSpPr>
        <p:sp>
          <p:nvSpPr>
            <p:cNvPr id="820" name=""/>
            <p:cNvSpPr/>
            <p:nvPr/>
          </p:nvSpPr>
          <p:spPr>
            <a:xfrm>
              <a:off x="2666880" y="235908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66880" y="235908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66880" y="251712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66880" y="251712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18240" y="240012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18240" y="240012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18240" y="240012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18240" y="240012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72000" y="251712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72000" y="251712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72000" y="251712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72000" y="251712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83880" y="239544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83880" y="239544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83880" y="239544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83880" y="239544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11040" y="252684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11040" y="252684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11040" y="252684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11040" y="252684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22920" y="240624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22920" y="240624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22920" y="240624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22920" y="240624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75600" y="252180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75600" y="252180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75600" y="252180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75600" y="252180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90000" y="240012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90000" y="240012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90000" y="240012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90000" y="240012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15000" y="253296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15000" y="253296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15000" y="253296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5000" y="253296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4495680" y="2895480"/>
            <a:ext cx="685800" cy="6415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5"/>
          <a:stretch/>
        </p:blipFill>
        <p:spPr>
          <a:xfrm>
            <a:off x="16765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16"/>
          <a:stretch/>
        </p:blipFill>
        <p:spPr>
          <a:xfrm>
            <a:off x="16765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17"/>
          <a:stretch/>
        </p:blipFill>
        <p:spPr>
          <a:xfrm>
            <a:off x="1676520" y="2971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209680" y="2133720"/>
            <a:ext cx="38124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2209320" y="266688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209320" y="2895480"/>
            <a:ext cx="38124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3428640" y="266688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938840" y="1143000"/>
            <a:ext cx="852480" cy="730080"/>
            <a:chOff x="4938840" y="1143000"/>
            <a:chExt cx="852480" cy="730080"/>
          </a:xfrm>
        </p:grpSpPr>
        <p:sp>
          <p:nvSpPr>
            <p:cNvPr id="865" name=""/>
            <p:cNvSpPr/>
            <p:nvPr/>
          </p:nvSpPr>
          <p:spPr>
            <a:xfrm>
              <a:off x="4938840" y="11430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6" name="HM00429_" descr=""/>
            <p:cNvPicPr/>
            <p:nvPr/>
          </p:nvPicPr>
          <p:blipFill>
            <a:blip r:embed="rId18"/>
            <a:stretch/>
          </p:blipFill>
          <p:spPr>
            <a:xfrm>
              <a:off x="5167440" y="152388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"/>
          <p:cNvSpPr/>
          <p:nvPr/>
        </p:nvSpPr>
        <p:spPr>
          <a:xfrm flipV="1">
            <a:off x="5243400" y="19803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 rot="1399200">
            <a:off x="3068640" y="197604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19320" y="25146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495680" y="3657600"/>
            <a:ext cx="609840" cy="228600"/>
          </a:xfrm>
          <a:custGeom>
            <a:avLst/>
            <a:gdLst>
              <a:gd name="textAreaLeft" fmla="*/ 0 w 609840"/>
              <a:gd name="textAreaRight" fmla="*/ 610200 w 609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0877400">
            <a:off x="2208960" y="3276000"/>
            <a:ext cx="1676520" cy="2286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9"/>
          <a:stretch/>
        </p:blipFill>
        <p:spPr>
          <a:xfrm>
            <a:off x="5943600" y="2397240"/>
            <a:ext cx="422280" cy="5745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19920" y="198036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791320" y="1143000"/>
            <a:ext cx="852480" cy="730080"/>
            <a:chOff x="5791320" y="1143000"/>
            <a:chExt cx="852480" cy="730080"/>
          </a:xfrm>
        </p:grpSpPr>
        <p:sp>
          <p:nvSpPr>
            <p:cNvPr id="876" name=""/>
            <p:cNvSpPr/>
            <p:nvPr/>
          </p:nvSpPr>
          <p:spPr>
            <a:xfrm>
              <a:off x="5791320" y="11430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7" name="HM00429_" descr=""/>
            <p:cNvPicPr/>
            <p:nvPr/>
          </p:nvPicPr>
          <p:blipFill>
            <a:blip r:embed="rId20"/>
            <a:stretch/>
          </p:blipFill>
          <p:spPr>
            <a:xfrm>
              <a:off x="6019920" y="152388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8" name=""/>
          <p:cNvSpPr/>
          <p:nvPr/>
        </p:nvSpPr>
        <p:spPr>
          <a:xfrm flipV="1">
            <a:off x="6324480" y="4648320"/>
            <a:ext cx="838440" cy="7617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1"/>
          <a:stretch/>
        </p:blipFill>
        <p:spPr>
          <a:xfrm>
            <a:off x="3809880" y="5105520"/>
            <a:ext cx="892440" cy="5936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724280" y="5486400"/>
            <a:ext cx="45720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666880" y="5257800"/>
            <a:ext cx="685800" cy="536400"/>
            <a:chOff x="2666880" y="5257800"/>
            <a:chExt cx="685800" cy="536400"/>
          </a:xfrm>
        </p:grpSpPr>
        <p:sp>
          <p:nvSpPr>
            <p:cNvPr id="882" name=""/>
            <p:cNvSpPr/>
            <p:nvPr/>
          </p:nvSpPr>
          <p:spPr>
            <a:xfrm>
              <a:off x="2666880" y="52578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666880" y="52578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66880" y="54158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666880" y="54158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18240" y="52988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18240" y="52988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18240" y="52988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18240" y="52988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72000" y="54158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72000" y="54158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72000" y="54158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72000" y="54158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83880" y="52941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83880" y="52941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83880" y="52941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83880" y="52941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11040" y="54255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11040" y="54255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11040" y="54255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11040" y="54255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22920" y="53049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22920" y="53049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22920" y="53049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22920" y="53049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75600" y="54205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75600" y="54205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75600" y="54205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75600" y="54205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90000" y="52988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90000" y="52988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90000" y="52988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90000" y="52988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15000" y="54316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15000" y="54316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15000" y="54316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15000" y="54316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 flipH="1">
            <a:off x="3428640" y="55627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80880" y="5105520"/>
            <a:ext cx="852480" cy="730080"/>
            <a:chOff x="380880" y="5105520"/>
            <a:chExt cx="852480" cy="730080"/>
          </a:xfrm>
        </p:grpSpPr>
        <p:sp>
          <p:nvSpPr>
            <p:cNvPr id="920" name=""/>
            <p:cNvSpPr/>
            <p:nvPr/>
          </p:nvSpPr>
          <p:spPr>
            <a:xfrm>
              <a:off x="380880" y="51055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63400" y="5348520"/>
              <a:ext cx="401760" cy="397440"/>
              <a:chOff x="563400" y="5348520"/>
              <a:chExt cx="401760" cy="397440"/>
            </a:xfrm>
          </p:grpSpPr>
          <p:sp>
            <p:nvSpPr>
              <p:cNvPr id="922" name=""/>
              <p:cNvSpPr/>
              <p:nvPr/>
            </p:nvSpPr>
            <p:spPr>
              <a:xfrm>
                <a:off x="570600" y="5368320"/>
                <a:ext cx="357120" cy="35928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1600" y="5409360"/>
                <a:ext cx="211680" cy="231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39080" y="5391720"/>
                <a:ext cx="195480" cy="21204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7720" y="542808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0600" y="558216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57080" y="544860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31160" y="537696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8600" y="5391720"/>
                <a:ext cx="140760" cy="17280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63400" y="554580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34040" y="543312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62040" y="566856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2360" y="534852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34" name="" descr=""/>
          <p:cNvPicPr/>
          <p:nvPr/>
        </p:nvPicPr>
        <p:blipFill>
          <a:blip r:embed="rId22"/>
          <a:stretch/>
        </p:blipFill>
        <p:spPr>
          <a:xfrm>
            <a:off x="167652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23"/>
          <a:stretch/>
        </p:blipFill>
        <p:spPr>
          <a:xfrm>
            <a:off x="167652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4"/>
          <a:stretch/>
        </p:blipFill>
        <p:spPr>
          <a:xfrm>
            <a:off x="1676520" y="5867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209680" y="5029200"/>
            <a:ext cx="38124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209320" y="55627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209320" y="5791320"/>
            <a:ext cx="38124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19320" y="5334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352680" y="5683320"/>
            <a:ext cx="838440" cy="717480"/>
            <a:chOff x="3352680" y="5683320"/>
            <a:chExt cx="838440" cy="717480"/>
          </a:xfrm>
        </p:grpSpPr>
        <p:sp>
          <p:nvSpPr>
            <p:cNvPr id="942" name=""/>
            <p:cNvSpPr/>
            <p:nvPr/>
          </p:nvSpPr>
          <p:spPr>
            <a:xfrm>
              <a:off x="3352680" y="5683320"/>
              <a:ext cx="838440" cy="7174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3614400" y="6033240"/>
              <a:ext cx="199440" cy="181440"/>
              <a:chOff x="3614400" y="6033240"/>
              <a:chExt cx="199440" cy="181440"/>
            </a:xfrm>
          </p:grpSpPr>
          <p:sp>
            <p:nvSpPr>
              <p:cNvPr id="944" name=""/>
              <p:cNvSpPr/>
              <p:nvPr/>
            </p:nvSpPr>
            <p:spPr>
              <a:xfrm>
                <a:off x="3786120" y="613908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14400" y="614016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636360" y="613908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4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61200" y="6149520"/>
                <a:ext cx="99720" cy="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"/>
              <p:cNvSpPr/>
              <p:nvPr/>
            </p:nvSpPr>
            <p:spPr>
              <a:xfrm>
                <a:off x="3791880" y="6139080"/>
                <a:ext cx="21960" cy="7560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614400" y="6159240"/>
                <a:ext cx="177480" cy="4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14400" y="6159240"/>
                <a:ext cx="177480" cy="4392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14400" y="6203520"/>
                <a:ext cx="17748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14400" y="6203520"/>
                <a:ext cx="17748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51200" y="61732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678120" y="6169320"/>
                <a:ext cx="2880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678120" y="61693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690720" y="61693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98640" y="6169320"/>
                <a:ext cx="828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19800" y="6164280"/>
                <a:ext cx="128160" cy="1656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15480" y="6161400"/>
                <a:ext cx="174960" cy="5040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15480" y="6159240"/>
                <a:ext cx="174960" cy="5256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78840" y="6171120"/>
                <a:ext cx="5040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69560" y="6033240"/>
                <a:ext cx="21960" cy="11808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769560" y="6033240"/>
                <a:ext cx="21960" cy="11808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636360" y="603324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36360" y="603324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36360" y="6053400"/>
                <a:ext cx="133200" cy="97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756600" y="61390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6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53640" y="606564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653640" y="606564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646080" y="6062040"/>
                <a:ext cx="110880" cy="7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>
                <a:off x="3636360" y="6145200"/>
                <a:ext cx="133200" cy="576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35000" y="6166440"/>
                <a:ext cx="1836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735000" y="6169680"/>
                <a:ext cx="1836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722760" y="6171120"/>
                <a:ext cx="38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16560" y="6163200"/>
                <a:ext cx="3600" cy="972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620520" y="6163200"/>
                <a:ext cx="3600" cy="972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24120" y="6163200"/>
                <a:ext cx="3600" cy="972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627720" y="6163200"/>
                <a:ext cx="3600" cy="972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31320" y="6163200"/>
                <a:ext cx="3600" cy="972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635280" y="6163200"/>
                <a:ext cx="3600" cy="972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14400" y="6033240"/>
                <a:ext cx="199440" cy="1814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652560" y="6061680"/>
                <a:ext cx="106920" cy="7164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3696840" y="6092640"/>
              <a:ext cx="199440" cy="181800"/>
              <a:chOff x="3696840" y="6092640"/>
              <a:chExt cx="199440" cy="181800"/>
            </a:xfrm>
          </p:grpSpPr>
          <p:sp>
            <p:nvSpPr>
              <p:cNvPr id="984" name=""/>
              <p:cNvSpPr/>
              <p:nvPr/>
            </p:nvSpPr>
            <p:spPr>
              <a:xfrm>
                <a:off x="3868560" y="619848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696840" y="61995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718800" y="619848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8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743640" y="6209280"/>
                <a:ext cx="99720" cy="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8" name=""/>
              <p:cNvSpPr/>
              <p:nvPr/>
            </p:nvSpPr>
            <p:spPr>
              <a:xfrm>
                <a:off x="3874320" y="6198480"/>
                <a:ext cx="21960" cy="7560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696840" y="6219000"/>
                <a:ext cx="17748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96840" y="6219000"/>
                <a:ext cx="177480" cy="4428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96840" y="6263280"/>
                <a:ext cx="17748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696840" y="6263280"/>
                <a:ext cx="17748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833640" y="62326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60560" y="6228720"/>
                <a:ext cx="2880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760560" y="62287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773160" y="62287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1080" y="6228720"/>
                <a:ext cx="828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02240" y="6224040"/>
                <a:ext cx="128160" cy="1656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697920" y="6221160"/>
                <a:ext cx="174960" cy="5040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697920" y="6219000"/>
                <a:ext cx="174960" cy="5256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61280" y="6230520"/>
                <a:ext cx="5040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52000" y="6092640"/>
                <a:ext cx="21960" cy="1184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852000" y="6092640"/>
                <a:ext cx="21960" cy="1184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718800" y="609264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718800" y="609264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18800" y="6112800"/>
                <a:ext cx="133200" cy="97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839040" y="61984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0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736080" y="612504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736080" y="612504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28520" y="6121800"/>
                <a:ext cx="110880" cy="7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3718800" y="6204960"/>
                <a:ext cx="133200" cy="576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817440" y="6226200"/>
                <a:ext cx="1836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817440" y="6229440"/>
                <a:ext cx="1836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805200" y="6230520"/>
                <a:ext cx="38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99000" y="6222600"/>
                <a:ext cx="3600" cy="972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702960" y="6222600"/>
                <a:ext cx="3600" cy="972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706560" y="6222600"/>
                <a:ext cx="3600" cy="972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10160" y="6222600"/>
                <a:ext cx="3600" cy="972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713760" y="6222600"/>
                <a:ext cx="3600" cy="972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17720" y="6222600"/>
                <a:ext cx="3600" cy="972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696840" y="6092640"/>
                <a:ext cx="199440" cy="18180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735000" y="6121080"/>
                <a:ext cx="106920" cy="7164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3794040" y="6167520"/>
              <a:ext cx="199440" cy="181800"/>
              <a:chOff x="3794040" y="6167520"/>
              <a:chExt cx="199440" cy="181800"/>
            </a:xfrm>
          </p:grpSpPr>
          <p:sp>
            <p:nvSpPr>
              <p:cNvPr id="1024" name=""/>
              <p:cNvSpPr/>
              <p:nvPr/>
            </p:nvSpPr>
            <p:spPr>
              <a:xfrm>
                <a:off x="3965760" y="627336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94040" y="62744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816000" y="627336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27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3840840" y="6284160"/>
                <a:ext cx="99720" cy="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"/>
              <p:cNvSpPr/>
              <p:nvPr/>
            </p:nvSpPr>
            <p:spPr>
              <a:xfrm>
                <a:off x="3971520" y="6273360"/>
                <a:ext cx="21960" cy="7560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794040" y="6293880"/>
                <a:ext cx="177480" cy="44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94040" y="6293880"/>
                <a:ext cx="177480" cy="4428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94040" y="6338160"/>
                <a:ext cx="17748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94040" y="6338160"/>
                <a:ext cx="17748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30840" y="630756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57760" y="6303600"/>
                <a:ext cx="2880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857760" y="63036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70360" y="63036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878280" y="6303600"/>
                <a:ext cx="828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799440" y="6298920"/>
                <a:ext cx="128160" cy="1656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795120" y="6296040"/>
                <a:ext cx="174960" cy="5040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95120" y="6293880"/>
                <a:ext cx="174960" cy="5256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858480" y="6305400"/>
                <a:ext cx="5040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949200" y="6167520"/>
                <a:ext cx="21960" cy="1184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949200" y="6167520"/>
                <a:ext cx="21960" cy="1184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816000" y="616752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816000" y="6167520"/>
                <a:ext cx="155160" cy="2016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816000" y="6187680"/>
                <a:ext cx="133200" cy="97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936240" y="62733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4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3833280" y="619992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833280" y="6199920"/>
                <a:ext cx="96120" cy="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825720" y="6196680"/>
                <a:ext cx="110880" cy="7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"/>
              <p:cNvSpPr/>
              <p:nvPr/>
            </p:nvSpPr>
            <p:spPr>
              <a:xfrm>
                <a:off x="3816000" y="6279840"/>
                <a:ext cx="133200" cy="576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914640" y="6301080"/>
                <a:ext cx="1836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914640" y="6304320"/>
                <a:ext cx="1836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902400" y="6305400"/>
                <a:ext cx="38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796200" y="6297480"/>
                <a:ext cx="3600" cy="972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00160" y="6297480"/>
                <a:ext cx="3600" cy="972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03760" y="6297480"/>
                <a:ext cx="3600" cy="972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807360" y="6297480"/>
                <a:ext cx="3600" cy="972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810960" y="6297480"/>
                <a:ext cx="3600" cy="972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814920" y="6297480"/>
                <a:ext cx="3600" cy="972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794040" y="6167520"/>
                <a:ext cx="199440" cy="18180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832200" y="6195960"/>
                <a:ext cx="106920" cy="7164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" name=""/>
          <p:cNvSpPr/>
          <p:nvPr/>
        </p:nvSpPr>
        <p:spPr>
          <a:xfrm flipV="1" rot="8670000">
            <a:off x="3067920" y="586692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590920" y="3962520"/>
            <a:ext cx="838080" cy="718920"/>
            <a:chOff x="2590920" y="3962520"/>
            <a:chExt cx="838080" cy="718920"/>
          </a:xfrm>
        </p:grpSpPr>
        <p:sp>
          <p:nvSpPr>
            <p:cNvPr id="1065" name=""/>
            <p:cNvSpPr/>
            <p:nvPr/>
          </p:nvSpPr>
          <p:spPr>
            <a:xfrm>
              <a:off x="2590920" y="3962520"/>
              <a:ext cx="838080" cy="718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6" name="j0249067" descr=""/>
            <p:cNvPicPr/>
            <p:nvPr/>
          </p:nvPicPr>
          <p:blipFill>
            <a:blip r:embed="rId37"/>
            <a:stretch/>
          </p:blipFill>
          <p:spPr>
            <a:xfrm>
              <a:off x="2838960" y="4259520"/>
              <a:ext cx="3402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7" name=""/>
          <p:cNvSpPr/>
          <p:nvPr/>
        </p:nvSpPr>
        <p:spPr>
          <a:xfrm rot="16200000">
            <a:off x="3886200" y="304776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2952600">
            <a:off x="3291120" y="4937760"/>
            <a:ext cx="533520" cy="258840"/>
          </a:xfrm>
          <a:custGeom>
            <a:avLst/>
            <a:gdLst>
              <a:gd name="textAreaLeft" fmla="*/ 0 w 533520"/>
              <a:gd name="textAreaRight" fmla="*/ 533880 w 533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559400">
            <a:off x="3524040" y="4868640"/>
            <a:ext cx="1752480" cy="2286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9611400">
            <a:off x="2133720" y="4647960"/>
            <a:ext cx="387360" cy="228600"/>
          </a:xfrm>
          <a:custGeom>
            <a:avLst/>
            <a:gdLst>
              <a:gd name="textAreaLeft" fmla="*/ 0 w 387360"/>
              <a:gd name="textAreaRight" fmla="*/ 387720 w 387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2280" y="914400"/>
            <a:ext cx="617220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320" y="990720"/>
            <a:ext cx="152280" cy="2814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814480"/>
              <a:gd name="textAreaBottom" fmla="*/ 2792160 h 2814480"/>
            </a:gdLst>
            <a:ahLst/>
            <a:rect l="textAreaLeft" t="textAreaTop" r="textAreaRight" b="textAreaBottom"/>
            <a:pathLst>
              <a:path w="21600" h="398326">
                <a:moveTo>
                  <a:pt x="10800" y="0"/>
                </a:moveTo>
                <a:arcTo wR="10800" hR="10800" stAng="16200000" swAng="-5400000"/>
                <a:lnTo>
                  <a:pt x="0" y="387526"/>
                </a:lnTo>
                <a:arcTo wR="10800" hR="10800" stAng="10800000" swAng="-5400000"/>
                <a:lnTo>
                  <a:pt x="10800" y="3983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90360" y="3657600"/>
            <a:ext cx="356724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280" y="6477120"/>
            <a:ext cx="365760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8920" y="4038480"/>
            <a:ext cx="139680" cy="2586240"/>
          </a:xfrm>
          <a:custGeom>
            <a:avLst/>
            <a:gdLst>
              <a:gd name="textAreaLeft" fmla="*/ 20160 w 139680"/>
              <a:gd name="textAreaRight" fmla="*/ 119520 w 139680"/>
              <a:gd name="textAreaTop" fmla="*/ 20160 h 2586240"/>
              <a:gd name="textAreaBottom" fmla="*/ 2566080 h 2586240"/>
            </a:gdLst>
            <a:ahLst/>
            <a:rect l="textAreaLeft" t="textAreaTop" r="textAreaRight" b="textAreaBottom"/>
            <a:pathLst>
              <a:path w="21600" h="398961">
                <a:moveTo>
                  <a:pt x="10800" y="0"/>
                </a:moveTo>
                <a:arcTo wR="10800" hR="10800" stAng="16200000" swAng="-5400000"/>
                <a:lnTo>
                  <a:pt x="0" y="388161"/>
                </a:lnTo>
                <a:arcTo wR="10800" hR="10800" stAng="10800000" swAng="-5400000"/>
                <a:lnTo>
                  <a:pt x="10800" y="39896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90360" y="4038480"/>
            <a:ext cx="2729160" cy="15264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7543800" y="5475240"/>
            <a:ext cx="1294920" cy="1110960"/>
            <a:chOff x="7543800" y="5475240"/>
            <a:chExt cx="1294920" cy="1110960"/>
          </a:xfrm>
        </p:grpSpPr>
        <p:sp>
          <p:nvSpPr>
            <p:cNvPr id="1078" name=""/>
            <p:cNvSpPr/>
            <p:nvPr/>
          </p:nvSpPr>
          <p:spPr>
            <a:xfrm>
              <a:off x="7543800" y="5475240"/>
              <a:ext cx="1294920" cy="1110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9" name="j0249067" descr=""/>
            <p:cNvPicPr/>
            <p:nvPr/>
          </p:nvPicPr>
          <p:blipFill>
            <a:blip r:embed="rId38"/>
            <a:stretch/>
          </p:blipFill>
          <p:spPr>
            <a:xfrm>
              <a:off x="7927200" y="5934600"/>
              <a:ext cx="525960" cy="56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0" name=""/>
          <p:cNvSpPr/>
          <p:nvPr/>
        </p:nvSpPr>
        <p:spPr>
          <a:xfrm>
            <a:off x="4648320" y="4038480"/>
            <a:ext cx="3581280" cy="15264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429000" y="4267080"/>
            <a:ext cx="4800600" cy="15264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077320" y="4038480"/>
            <a:ext cx="152280" cy="129564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1295640"/>
              <a:gd name="textAreaBottom" fmla="*/ 1273320 h 1295640"/>
            </a:gdLst>
            <a:ahLst/>
            <a:rect l="textAreaLeft" t="textAreaTop" r="textAreaRight" b="textAreaBottom"/>
            <a:pathLst>
              <a:path w="21600" h="183396">
                <a:moveTo>
                  <a:pt x="10800" y="0"/>
                </a:moveTo>
                <a:arcTo wR="10800" hR="10800" stAng="16200000" swAng="-5400000"/>
                <a:lnTo>
                  <a:pt x="0" y="172596"/>
                </a:lnTo>
                <a:arcTo wR="10800" hR="10800" stAng="10800000" swAng="-5400000"/>
                <a:lnTo>
                  <a:pt x="10800" y="1833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216400" y="3352680"/>
            <a:ext cx="1071720" cy="612720"/>
            <a:chOff x="5216400" y="3352680"/>
            <a:chExt cx="1071720" cy="612720"/>
          </a:xfrm>
        </p:grpSpPr>
        <p:sp>
          <p:nvSpPr>
            <p:cNvPr id="1084" name=""/>
            <p:cNvSpPr/>
            <p:nvPr/>
          </p:nvSpPr>
          <p:spPr>
            <a:xfrm>
              <a:off x="5257800" y="353376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257800" y="353376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16400" y="3354480"/>
              <a:ext cx="1033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257800" y="3352680"/>
              <a:ext cx="10303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6576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6576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6576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6576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10080" y="35337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10080" y="35337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10080" y="35337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410080" y="35337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425920" y="33940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25920" y="33940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425920" y="33940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5920" y="33940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54600" y="35449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54600" y="35449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54600" y="35449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54600" y="35449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72240" y="34066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72240" y="34066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72240" y="34066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72240" y="34066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5120" y="35384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5120" y="35384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15120" y="35384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15120" y="35384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43564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43564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3564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35640" y="34005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61080" y="35514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61080" y="35514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61080" y="35514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61080" y="35514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216400" y="5181480"/>
            <a:ext cx="1071720" cy="612720"/>
            <a:chOff x="5216400" y="5181480"/>
            <a:chExt cx="1071720" cy="612720"/>
          </a:xfrm>
        </p:grpSpPr>
        <p:sp>
          <p:nvSpPr>
            <p:cNvPr id="1121" name=""/>
            <p:cNvSpPr/>
            <p:nvPr/>
          </p:nvSpPr>
          <p:spPr>
            <a:xfrm>
              <a:off x="5257800" y="536256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57800" y="536256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16400" y="5183280"/>
              <a:ext cx="1033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5257800" y="5181480"/>
              <a:ext cx="10303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6576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6576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6576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6576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10080" y="53625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10080" y="53625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10080" y="53625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410080" y="536256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25920" y="52228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25920" y="52228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25920" y="52228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25920" y="522288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54600" y="53737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54600" y="53737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754600" y="53737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54600" y="537372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72240" y="52354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2240" y="52354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72240" y="52354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72240" y="523548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15120" y="53672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15120" y="53672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15120" y="53672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15120" y="536724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3564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3564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3564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35640" y="5229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61080" y="53802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61080" y="53802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61080" y="53802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61080" y="538020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962520" y="1143000"/>
            <a:ext cx="852480" cy="730080"/>
            <a:chOff x="3962520" y="1143000"/>
            <a:chExt cx="852480" cy="730080"/>
          </a:xfrm>
        </p:grpSpPr>
        <p:sp>
          <p:nvSpPr>
            <p:cNvPr id="1158" name=""/>
            <p:cNvSpPr/>
            <p:nvPr/>
          </p:nvSpPr>
          <p:spPr>
            <a:xfrm>
              <a:off x="3962520" y="11430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228560" y="1499040"/>
              <a:ext cx="203040" cy="184680"/>
              <a:chOff x="4228560" y="1499040"/>
              <a:chExt cx="203040" cy="184680"/>
            </a:xfrm>
          </p:grpSpPr>
          <p:sp>
            <p:nvSpPr>
              <p:cNvPr id="1160" name=""/>
              <p:cNvSpPr/>
              <p:nvPr/>
            </p:nvSpPr>
            <p:spPr>
              <a:xfrm>
                <a:off x="4403520" y="16066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228560" y="16077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250880" y="16066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6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276080" y="16174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"/>
              <p:cNvSpPr/>
              <p:nvPr/>
            </p:nvSpPr>
            <p:spPr>
              <a:xfrm>
                <a:off x="4409280" y="16066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28560" y="16272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228560" y="16272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228560" y="167220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228560" y="167220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367880" y="16416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93720" y="16372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293720" y="16372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305960" y="16372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314240" y="16372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233960" y="16322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29640" y="16297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29640" y="16272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294440" y="16390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386600" y="1499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386600" y="1499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250880" y="1499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50880" y="1499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250880" y="15195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373280" y="16066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8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268520" y="1532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268520" y="1532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260960" y="15285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4250880" y="16131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51320" y="16347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51320" y="16380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38720" y="16390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230720" y="16311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234680" y="16311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238280" y="16311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242240" y="16311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245840" y="16311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249800" y="16311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228560" y="149904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267080" y="152784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4312440" y="1559520"/>
              <a:ext cx="203040" cy="185040"/>
              <a:chOff x="4312440" y="1559520"/>
              <a:chExt cx="203040" cy="185040"/>
            </a:xfrm>
          </p:grpSpPr>
          <p:sp>
            <p:nvSpPr>
              <p:cNvPr id="1200" name=""/>
              <p:cNvSpPr/>
              <p:nvPr/>
            </p:nvSpPr>
            <p:spPr>
              <a:xfrm>
                <a:off x="4487400" y="16671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312440" y="166860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34760" y="16671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03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359960" y="167832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4493160" y="16671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312440" y="168804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312440" y="168804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312440" y="173304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312440" y="173304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51760" y="17020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377600" y="169812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377600" y="16981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389840" y="16981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398120" y="169812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317840" y="169308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313520" y="16902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313520" y="16880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378320" y="169992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470480" y="15595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470480" y="15595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334760" y="15595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334760" y="15595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334760" y="15800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457160" y="16671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2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352400" y="15926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352400" y="15926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44840" y="15890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4334760" y="16736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435200" y="16952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435200" y="169884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422600" y="169992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314600" y="169200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318560" y="169200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322160" y="169200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326120" y="169200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329720" y="169200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333680" y="169200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312440" y="155952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350960" y="158868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411440" y="1635840"/>
              <a:ext cx="203040" cy="185040"/>
              <a:chOff x="4411440" y="1635840"/>
              <a:chExt cx="203040" cy="185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4586400" y="17434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11440" y="17449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33760" y="17434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4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458960" y="17546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>
                <a:off x="4592160" y="17434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11440" y="17643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11440" y="17643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411440" y="18093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411440" y="18093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50760" y="17784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476600" y="17744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476600" y="17744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88840" y="17744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497120" y="17744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416840" y="17694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412520" y="17665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412520" y="17643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477320" y="17762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569480" y="1635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569480" y="1635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433760" y="1635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433760" y="1635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433760" y="16563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556160" y="17434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6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451400" y="1668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4451400" y="1668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4443840" y="16653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>
                <a:off x="4433760" y="17499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534200" y="17715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534200" y="17751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521600" y="17762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13600" y="17683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417560" y="17683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421160" y="17683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425120" y="17683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428720" y="17683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432680" y="17683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411440" y="16358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449960" y="16650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"/>
          <p:cNvSpPr/>
          <p:nvPr/>
        </p:nvSpPr>
        <p:spPr>
          <a:xfrm flipV="1" rot="20113200">
            <a:off x="4723920" y="1917000"/>
            <a:ext cx="304920" cy="1604880"/>
          </a:xfrm>
          <a:prstGeom prst="upArrow">
            <a:avLst>
              <a:gd name="adj1" fmla="val 50000"/>
              <a:gd name="adj2" fmla="val 131582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κεντρωμένος έλεγχ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Cloud"/>
          <p:cNvSpPr/>
          <p:nvPr/>
        </p:nvSpPr>
        <p:spPr>
          <a:xfrm>
            <a:off x="7238880" y="1479600"/>
            <a:ext cx="16988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5257800" y="3505320"/>
            <a:ext cx="914400" cy="532800"/>
            <a:chOff x="5257800" y="3505320"/>
            <a:chExt cx="914400" cy="532800"/>
          </a:xfrm>
        </p:grpSpPr>
        <p:sp>
          <p:nvSpPr>
            <p:cNvPr id="1283" name=""/>
            <p:cNvSpPr/>
            <p:nvPr/>
          </p:nvSpPr>
          <p:spPr>
            <a:xfrm>
              <a:off x="525780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5780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5780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25780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2652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2652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652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2652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9784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9784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9784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39784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1368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1368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368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1368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1680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1680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1680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1680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3264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3264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3264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3264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0252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0252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0252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0252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2232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2232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2232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42232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2184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2184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184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2184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4920" y="2362320"/>
            <a:ext cx="852480" cy="730080"/>
            <a:chOff x="304920" y="2362320"/>
            <a:chExt cx="852480" cy="730080"/>
          </a:xfrm>
        </p:grpSpPr>
        <p:sp>
          <p:nvSpPr>
            <p:cNvPr id="1320" name=""/>
            <p:cNvSpPr/>
            <p:nvPr/>
          </p:nvSpPr>
          <p:spPr>
            <a:xfrm>
              <a:off x="304920" y="23623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487440" y="2605320"/>
              <a:ext cx="401760" cy="397440"/>
              <a:chOff x="487440" y="2605320"/>
              <a:chExt cx="401760" cy="397440"/>
            </a:xfrm>
          </p:grpSpPr>
          <p:sp>
            <p:nvSpPr>
              <p:cNvPr id="1322" name=""/>
              <p:cNvSpPr/>
              <p:nvPr/>
            </p:nvSpPr>
            <p:spPr>
              <a:xfrm>
                <a:off x="494640" y="2625120"/>
                <a:ext cx="357120" cy="35928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65640" y="2666160"/>
                <a:ext cx="211680" cy="231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63120" y="2648520"/>
                <a:ext cx="195480" cy="21204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71760" y="268488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94640" y="283896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81120" y="270540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55200" y="263376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640" y="2648520"/>
                <a:ext cx="140760" cy="17280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87440" y="280260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58080" y="268992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6080" y="292536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26400" y="260532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4" name=""/>
          <p:cNvGrpSpPr/>
          <p:nvPr/>
        </p:nvGrpSpPr>
        <p:grpSpPr>
          <a:xfrm>
            <a:off x="3048120" y="1295280"/>
            <a:ext cx="852480" cy="730440"/>
            <a:chOff x="3048120" y="1295280"/>
            <a:chExt cx="852480" cy="730440"/>
          </a:xfrm>
        </p:grpSpPr>
        <p:sp>
          <p:nvSpPr>
            <p:cNvPr id="1335" name=""/>
            <p:cNvSpPr/>
            <p:nvPr/>
          </p:nvSpPr>
          <p:spPr>
            <a:xfrm>
              <a:off x="3048120" y="12952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3314160" y="1651320"/>
              <a:ext cx="203040" cy="184680"/>
              <a:chOff x="3314160" y="1651320"/>
              <a:chExt cx="203040" cy="184680"/>
            </a:xfrm>
          </p:grpSpPr>
          <p:sp>
            <p:nvSpPr>
              <p:cNvPr id="1337" name=""/>
              <p:cNvSpPr/>
              <p:nvPr/>
            </p:nvSpPr>
            <p:spPr>
              <a:xfrm>
                <a:off x="3489120" y="17589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314160" y="176004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36480" y="17589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1680" y="17697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>
                <a:off x="3494880" y="17589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314160" y="17794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314160" y="17794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314160" y="182448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314160" y="182448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453480" y="17938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379320" y="17895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379320" y="17895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391560" y="17895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399840" y="17895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319560" y="17845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315240" y="17820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315240" y="17794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380040" y="17913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472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472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336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336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336480" y="16718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458880" y="17589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4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4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6560" y="16808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4" name=""/>
              <p:cNvSpPr/>
              <p:nvPr/>
            </p:nvSpPr>
            <p:spPr>
              <a:xfrm>
                <a:off x="3336480" y="17654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436920" y="17870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436920" y="17902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424320" y="17913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16320" y="17834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320280" y="17834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323880" y="17834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27840" y="17834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331440" y="17834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335400" y="17834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314160" y="165132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352680" y="168012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3398040" y="1712160"/>
              <a:ext cx="203040" cy="185040"/>
              <a:chOff x="3398040" y="1712160"/>
              <a:chExt cx="203040" cy="185040"/>
            </a:xfrm>
          </p:grpSpPr>
          <p:sp>
            <p:nvSpPr>
              <p:cNvPr id="1377" name=""/>
              <p:cNvSpPr/>
              <p:nvPr/>
            </p:nvSpPr>
            <p:spPr>
              <a:xfrm>
                <a:off x="3573000" y="18198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98040" y="18212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420360" y="18198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45560" y="18309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1" name=""/>
              <p:cNvSpPr/>
              <p:nvPr/>
            </p:nvSpPr>
            <p:spPr>
              <a:xfrm>
                <a:off x="3578760" y="18198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398040" y="18406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398040" y="18406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398040" y="18856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398040" y="18856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537360" y="18547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63200" y="18507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463200" y="18507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475440" y="18507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483720" y="18507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403440" y="18457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399120" y="18428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399120" y="18406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463920" y="18525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556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56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420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420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420360" y="17326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542760" y="18198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38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38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17416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4" name=""/>
              <p:cNvSpPr/>
              <p:nvPr/>
            </p:nvSpPr>
            <p:spPr>
              <a:xfrm>
                <a:off x="3420360" y="18262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800" y="18478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520800" y="18514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508200" y="18525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00200" y="18446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04160" y="18446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407760" y="18446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411720" y="18446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15320" y="18446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419280" y="18446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398040" y="17121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436560" y="17413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3497040" y="1788480"/>
              <a:ext cx="203040" cy="185040"/>
              <a:chOff x="3497040" y="1788480"/>
              <a:chExt cx="203040" cy="185040"/>
            </a:xfrm>
          </p:grpSpPr>
          <p:sp>
            <p:nvSpPr>
              <p:cNvPr id="1417" name=""/>
              <p:cNvSpPr/>
              <p:nvPr/>
            </p:nvSpPr>
            <p:spPr>
              <a:xfrm>
                <a:off x="3672000" y="189612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497040" y="18975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9360" y="189612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544560" y="19072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>
                <a:off x="3677760" y="189612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97040" y="19170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97040" y="19170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97040" y="196200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97040" y="196200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636360" y="193104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562200" y="19270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562200" y="19270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74440" y="19270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82720" y="19270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02440" y="19220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98120" y="191916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98120" y="19170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562920" y="19288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55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655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519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519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519360" y="180900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641760" y="189612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4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37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37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29440" y="181800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4" name=""/>
              <p:cNvSpPr/>
              <p:nvPr/>
            </p:nvSpPr>
            <p:spPr>
              <a:xfrm>
                <a:off x="3519360" y="190260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619800" y="192420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619800" y="19278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607200" y="19288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99200" y="19209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503160" y="19209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506760" y="19209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510720" y="19209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4320" y="19209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518280" y="19209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97040" y="178848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535560" y="181764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6" name=""/>
          <p:cNvSpPr/>
          <p:nvPr/>
        </p:nvSpPr>
        <p:spPr>
          <a:xfrm>
            <a:off x="5334120" y="2543040"/>
            <a:ext cx="714240" cy="2764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13"/>
          <a:stretch/>
        </p:blipFill>
        <p:spPr>
          <a:xfrm>
            <a:off x="3733920" y="2362320"/>
            <a:ext cx="892080" cy="59364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14"/>
          <a:stretch/>
        </p:blipFill>
        <p:spPr>
          <a:xfrm>
            <a:off x="5451480" y="4527720"/>
            <a:ext cx="492120" cy="574560"/>
          </a:xfrm>
          <a:prstGeom prst="rect">
            <a:avLst/>
          </a:prstGeom>
          <a:ln w="0">
            <a:noFill/>
          </a:ln>
        </p:spPr>
      </p:pic>
      <p:sp>
        <p:nvSpPr>
          <p:cNvPr id="1459" name=""/>
          <p:cNvSpPr/>
          <p:nvPr/>
        </p:nvSpPr>
        <p:spPr>
          <a:xfrm>
            <a:off x="5715000" y="31240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715000" y="4146480"/>
            <a:ext cx="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248520" y="3765600"/>
            <a:ext cx="137160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15"/>
          <a:stretch/>
        </p:blipFill>
        <p:spPr>
          <a:xfrm>
            <a:off x="3733920" y="4572000"/>
            <a:ext cx="892080" cy="593640"/>
          </a:xfrm>
          <a:prstGeom prst="rect">
            <a:avLst/>
          </a:prstGeom>
          <a:ln w="0">
            <a:noFill/>
          </a:ln>
        </p:spPr>
      </p:pic>
      <p:grpSp>
        <p:nvGrpSpPr>
          <p:cNvPr id="1463" name=""/>
          <p:cNvGrpSpPr/>
          <p:nvPr/>
        </p:nvGrpSpPr>
        <p:grpSpPr>
          <a:xfrm>
            <a:off x="2590920" y="4800600"/>
            <a:ext cx="685800" cy="536400"/>
            <a:chOff x="2590920" y="4800600"/>
            <a:chExt cx="685800" cy="536400"/>
          </a:xfrm>
        </p:grpSpPr>
        <p:sp>
          <p:nvSpPr>
            <p:cNvPr id="1464" name=""/>
            <p:cNvSpPr/>
            <p:nvPr/>
          </p:nvSpPr>
          <p:spPr>
            <a:xfrm>
              <a:off x="2590920" y="48006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90920" y="48006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90920" y="49586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90920" y="49586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2666880" y="2511360"/>
            <a:ext cx="685800" cy="536400"/>
            <a:chOff x="2666880" y="2511360"/>
            <a:chExt cx="685800" cy="536400"/>
          </a:xfrm>
        </p:grpSpPr>
        <p:sp>
          <p:nvSpPr>
            <p:cNvPr id="1501" name=""/>
            <p:cNvSpPr/>
            <p:nvPr/>
          </p:nvSpPr>
          <p:spPr>
            <a:xfrm>
              <a:off x="2666880" y="2511360"/>
              <a:ext cx="685800" cy="3150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666880" y="2511360"/>
              <a:ext cx="685800" cy="3150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666880" y="266940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666880" y="266940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4571640" y="3994200"/>
            <a:ext cx="609480" cy="8064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95680" y="3048120"/>
            <a:ext cx="685800" cy="6411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9" name="" descr=""/>
          <p:cNvPicPr/>
          <p:nvPr/>
        </p:nvPicPr>
        <p:blipFill>
          <a:blip r:embed="rId16"/>
          <a:stretch/>
        </p:blipFill>
        <p:spPr>
          <a:xfrm>
            <a:off x="16765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0" name="" descr=""/>
          <p:cNvPicPr/>
          <p:nvPr/>
        </p:nvPicPr>
        <p:blipFill>
          <a:blip r:embed="rId17"/>
          <a:stretch/>
        </p:blipFill>
        <p:spPr>
          <a:xfrm>
            <a:off x="16765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18"/>
          <a:stretch/>
        </p:blipFill>
        <p:spPr>
          <a:xfrm>
            <a:off x="167652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19"/>
          <a:stretch/>
        </p:blipFill>
        <p:spPr>
          <a:xfrm>
            <a:off x="16765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20"/>
          <a:stretch/>
        </p:blipFill>
        <p:spPr>
          <a:xfrm>
            <a:off x="1676520" y="571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21"/>
          <a:stretch/>
        </p:blipFill>
        <p:spPr>
          <a:xfrm>
            <a:off x="2362320" y="5791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2209680" y="2286000"/>
            <a:ext cx="38124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2209320" y="2819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2209320" y="3048120"/>
            <a:ext cx="38124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2209320" y="5105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2133720" y="5334120"/>
            <a:ext cx="45720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2666880" y="5410080"/>
            <a:ext cx="7632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3352320" y="5105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428640" y="2819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5181480" y="5670720"/>
            <a:ext cx="852480" cy="730080"/>
            <a:chOff x="5181480" y="5670720"/>
            <a:chExt cx="852480" cy="730080"/>
          </a:xfrm>
        </p:grpSpPr>
        <p:sp>
          <p:nvSpPr>
            <p:cNvPr id="1554" name=""/>
            <p:cNvSpPr/>
            <p:nvPr/>
          </p:nvSpPr>
          <p:spPr>
            <a:xfrm>
              <a:off x="5181480" y="56707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5" name="HM00429_" descr=""/>
            <p:cNvPicPr/>
            <p:nvPr/>
          </p:nvPicPr>
          <p:blipFill>
            <a:blip r:embed="rId22"/>
            <a:stretch/>
          </p:blipFill>
          <p:spPr>
            <a:xfrm>
              <a:off x="5410080" y="605160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6" name=""/>
          <p:cNvGrpSpPr/>
          <p:nvPr/>
        </p:nvGrpSpPr>
        <p:grpSpPr>
          <a:xfrm>
            <a:off x="5257800" y="1295280"/>
            <a:ext cx="852480" cy="730080"/>
            <a:chOff x="5257800" y="1295280"/>
            <a:chExt cx="852480" cy="730080"/>
          </a:xfrm>
        </p:grpSpPr>
        <p:sp>
          <p:nvSpPr>
            <p:cNvPr id="1557" name=""/>
            <p:cNvSpPr/>
            <p:nvPr/>
          </p:nvSpPr>
          <p:spPr>
            <a:xfrm>
              <a:off x="5257800" y="129528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8" name="HM00429_" descr=""/>
            <p:cNvPicPr/>
            <p:nvPr/>
          </p:nvPicPr>
          <p:blipFill>
            <a:blip r:embed="rId23"/>
            <a:stretch/>
          </p:blipFill>
          <p:spPr>
            <a:xfrm>
              <a:off x="5486400" y="167616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9" name=""/>
          <p:cNvSpPr/>
          <p:nvPr/>
        </p:nvSpPr>
        <p:spPr>
          <a:xfrm flipV="1">
            <a:off x="5334120" y="21337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334120" y="51814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3567240" y="5562720"/>
            <a:ext cx="852480" cy="730080"/>
            <a:chOff x="3567240" y="5562720"/>
            <a:chExt cx="852480" cy="730080"/>
          </a:xfrm>
        </p:grpSpPr>
        <p:sp>
          <p:nvSpPr>
            <p:cNvPr id="1563" name=""/>
            <p:cNvSpPr/>
            <p:nvPr/>
          </p:nvSpPr>
          <p:spPr>
            <a:xfrm>
              <a:off x="3567240" y="55627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3833280" y="5918760"/>
              <a:ext cx="203040" cy="184680"/>
              <a:chOff x="3833280" y="5918760"/>
              <a:chExt cx="203040" cy="184680"/>
            </a:xfrm>
          </p:grpSpPr>
          <p:sp>
            <p:nvSpPr>
              <p:cNvPr id="1565" name=""/>
              <p:cNvSpPr/>
              <p:nvPr/>
            </p:nvSpPr>
            <p:spPr>
              <a:xfrm>
                <a:off x="4008240" y="60264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33280" y="602748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55600" y="60264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6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880800" y="603720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9" name=""/>
              <p:cNvSpPr/>
              <p:nvPr/>
            </p:nvSpPr>
            <p:spPr>
              <a:xfrm>
                <a:off x="4014000" y="60264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33280" y="604692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833280" y="604692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833280" y="609192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33280" y="609192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2600" y="60613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98440" y="605700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98440" y="60570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10680" y="60570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18960" y="605700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38680" y="605196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4360" y="60494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34360" y="604692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99160" y="605880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91320" y="5918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91320" y="5918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55600" y="5918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55600" y="5918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855600" y="59392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78000" y="60264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8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873240" y="5951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873240" y="5951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65680" y="59482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2" name=""/>
              <p:cNvSpPr/>
              <p:nvPr/>
            </p:nvSpPr>
            <p:spPr>
              <a:xfrm>
                <a:off x="3855600" y="60328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56040" y="60544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56040" y="605772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43440" y="605880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835440" y="605088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839400" y="605088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843000" y="605088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846960" y="605088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850560" y="605088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854520" y="605088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833280" y="591876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71800" y="594756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3917160" y="5979240"/>
              <a:ext cx="203040" cy="185040"/>
              <a:chOff x="3917160" y="5979240"/>
              <a:chExt cx="203040" cy="185040"/>
            </a:xfrm>
          </p:grpSpPr>
          <p:sp>
            <p:nvSpPr>
              <p:cNvPr id="1605" name=""/>
              <p:cNvSpPr/>
              <p:nvPr/>
            </p:nvSpPr>
            <p:spPr>
              <a:xfrm>
                <a:off x="4092120" y="60868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7160" y="60883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39480" y="60868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08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64680" y="60980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>
                <a:off x="4097880" y="60868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7160" y="61077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7160" y="61077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7160" y="61527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7160" y="61527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056480" y="61218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82320" y="61178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82320" y="61178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94560" y="61178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002840" y="61178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22560" y="61128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18240" y="61099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18240" y="61077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83040" y="61196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075200" y="5979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75200" y="5979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39480" y="5979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39480" y="5979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39480" y="59997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61880" y="60868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2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57120" y="6012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57120" y="6012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49560" y="60087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2" name=""/>
              <p:cNvSpPr/>
              <p:nvPr/>
            </p:nvSpPr>
            <p:spPr>
              <a:xfrm>
                <a:off x="3939480" y="60933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039920" y="61149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039920" y="61185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027320" y="61196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19320" y="61117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3280" y="61117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6880" y="61117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30840" y="61117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4440" y="61117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8400" y="61117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917160" y="59792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955680" y="60084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4016160" y="6055560"/>
              <a:ext cx="203040" cy="185040"/>
              <a:chOff x="4016160" y="6055560"/>
              <a:chExt cx="203040" cy="185040"/>
            </a:xfrm>
          </p:grpSpPr>
          <p:sp>
            <p:nvSpPr>
              <p:cNvPr id="1645" name=""/>
              <p:cNvSpPr/>
              <p:nvPr/>
            </p:nvSpPr>
            <p:spPr>
              <a:xfrm>
                <a:off x="4191120" y="61632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016160" y="61646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038480" y="61632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4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063680" y="61743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9" name=""/>
              <p:cNvSpPr/>
              <p:nvPr/>
            </p:nvSpPr>
            <p:spPr>
              <a:xfrm>
                <a:off x="4196880" y="61632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016160" y="61840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016160" y="61840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016160" y="62290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016160" y="62290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155480" y="61981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81320" y="61941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81320" y="61941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093560" y="61941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01840" y="61941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021560" y="61891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017240" y="61862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017240" y="61840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082040" y="61959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174200" y="605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4200" y="605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038480" y="605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038480" y="605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038480" y="60760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160880" y="61632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6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056120" y="608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056120" y="608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048560" y="60850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2" name=""/>
              <p:cNvSpPr/>
              <p:nvPr/>
            </p:nvSpPr>
            <p:spPr>
              <a:xfrm>
                <a:off x="4038480" y="61696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138920" y="61912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138920" y="61948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126320" y="61959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018320" y="61880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022280" y="61880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025880" y="61880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029840" y="61880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033440" y="61880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037400" y="61880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016160" y="60555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054680" y="60847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4" name=""/>
          <p:cNvSpPr/>
          <p:nvPr/>
        </p:nvSpPr>
        <p:spPr>
          <a:xfrm rot="19605600">
            <a:off x="3296880" y="532764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 rot="1399200">
            <a:off x="3068640" y="212832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28600" y="4876920"/>
            <a:ext cx="852480" cy="730080"/>
            <a:chOff x="228600" y="4876920"/>
            <a:chExt cx="852480" cy="730080"/>
          </a:xfrm>
        </p:grpSpPr>
        <p:sp>
          <p:nvSpPr>
            <p:cNvPr id="1687" name=""/>
            <p:cNvSpPr/>
            <p:nvPr/>
          </p:nvSpPr>
          <p:spPr>
            <a:xfrm>
              <a:off x="228600" y="48769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8" name=""/>
            <p:cNvGrpSpPr/>
            <p:nvPr/>
          </p:nvGrpSpPr>
          <p:grpSpPr>
            <a:xfrm>
              <a:off x="411120" y="5119920"/>
              <a:ext cx="401760" cy="397440"/>
              <a:chOff x="411120" y="5119920"/>
              <a:chExt cx="401760" cy="397440"/>
            </a:xfrm>
          </p:grpSpPr>
          <p:sp>
            <p:nvSpPr>
              <p:cNvPr id="1689" name=""/>
              <p:cNvSpPr/>
              <p:nvPr/>
            </p:nvSpPr>
            <p:spPr>
              <a:xfrm>
                <a:off x="418320" y="5139720"/>
                <a:ext cx="357120" cy="35928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89320" y="5180760"/>
                <a:ext cx="211680" cy="231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86800" y="5163120"/>
                <a:ext cx="195480" cy="21204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95440" y="519948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18320" y="535356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4800" y="522000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8880" y="514836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16320" y="5163120"/>
                <a:ext cx="140760" cy="17280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1120" y="531720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81760" y="520452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09760" y="543996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50080" y="511992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1" name=""/>
          <p:cNvSpPr/>
          <p:nvPr/>
        </p:nvSpPr>
        <p:spPr>
          <a:xfrm>
            <a:off x="12193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219320" y="5334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990720" y="23623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9907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V="1" rot="3419400">
            <a:off x="3581280" y="220896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 rot="5400000">
            <a:off x="5638680" y="220968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rot="16200000">
            <a:off x="5638680" y="525744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rot="16200000">
            <a:off x="3809880" y="525744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rot="19075200">
            <a:off x="5716440" y="4975200"/>
            <a:ext cx="2438640" cy="228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 rot="2524800">
            <a:off x="5867280" y="2589840"/>
            <a:ext cx="2135160" cy="228960"/>
          </a:xfrm>
          <a:custGeom>
            <a:avLst/>
            <a:gdLst>
              <a:gd name="textAreaLeft" fmla="*/ 0 w 2135160"/>
              <a:gd name="textAreaRight" fmla="*/ 2135520 w 2135160"/>
              <a:gd name="textAreaTop" fmla="*/ 360 h 228960"/>
              <a:gd name="textAreaBottom" fmla="*/ 229680 h 2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7657920" y="3505320"/>
            <a:ext cx="987120" cy="612720"/>
            <a:chOff x="7657920" y="3505320"/>
            <a:chExt cx="987120" cy="612720"/>
          </a:xfrm>
        </p:grpSpPr>
        <p:sp>
          <p:nvSpPr>
            <p:cNvPr id="1712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657920" y="3507120"/>
              <a:ext cx="951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7696080" y="3505320"/>
              <a:ext cx="9489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6324480" y="2819520"/>
            <a:ext cx="852480" cy="730080"/>
            <a:chOff x="6324480" y="2819520"/>
            <a:chExt cx="852480" cy="730080"/>
          </a:xfrm>
        </p:grpSpPr>
        <p:sp>
          <p:nvSpPr>
            <p:cNvPr id="1749" name=""/>
            <p:cNvSpPr/>
            <p:nvPr/>
          </p:nvSpPr>
          <p:spPr>
            <a:xfrm>
              <a:off x="6324480" y="28195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0" name=""/>
            <p:cNvGrpSpPr/>
            <p:nvPr/>
          </p:nvGrpSpPr>
          <p:grpSpPr>
            <a:xfrm>
              <a:off x="6590520" y="3175560"/>
              <a:ext cx="203040" cy="184680"/>
              <a:chOff x="6590520" y="3175560"/>
              <a:chExt cx="203040" cy="184680"/>
            </a:xfrm>
          </p:grpSpPr>
          <p:sp>
            <p:nvSpPr>
              <p:cNvPr id="1751" name=""/>
              <p:cNvSpPr/>
              <p:nvPr/>
            </p:nvSpPr>
            <p:spPr>
              <a:xfrm>
                <a:off x="6765480" y="32832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590520" y="328428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612840" y="32832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5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638040" y="329400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5" name=""/>
              <p:cNvSpPr/>
              <p:nvPr/>
            </p:nvSpPr>
            <p:spPr>
              <a:xfrm>
                <a:off x="6771240" y="32832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590520" y="330372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590520" y="330372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590520" y="334872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90520" y="334872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729840" y="33181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55680" y="331380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655680" y="33138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667920" y="33138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676200" y="331380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595920" y="330876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591600" y="33062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591600" y="330372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656400" y="331560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48560" y="317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48560" y="317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612840" y="317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612840" y="317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612840" y="31960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735240" y="32832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7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630480" y="320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630480" y="320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622920" y="32050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8" name=""/>
              <p:cNvSpPr/>
              <p:nvPr/>
            </p:nvSpPr>
            <p:spPr>
              <a:xfrm>
                <a:off x="6612840" y="32896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713280" y="33112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713280" y="331452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700680" y="331560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592680" y="330768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596640" y="330768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600240" y="330768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04200" y="330768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607800" y="330768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611760" y="330768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590520" y="317556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629040" y="320436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6674400" y="3236040"/>
              <a:ext cx="203040" cy="185040"/>
              <a:chOff x="6674400" y="3236040"/>
              <a:chExt cx="203040" cy="185040"/>
            </a:xfrm>
          </p:grpSpPr>
          <p:sp>
            <p:nvSpPr>
              <p:cNvPr id="1791" name=""/>
              <p:cNvSpPr/>
              <p:nvPr/>
            </p:nvSpPr>
            <p:spPr>
              <a:xfrm>
                <a:off x="6849360" y="33436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674400" y="33451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696720" y="33436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9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721920" y="33548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5" name=""/>
              <p:cNvSpPr/>
              <p:nvPr/>
            </p:nvSpPr>
            <p:spPr>
              <a:xfrm>
                <a:off x="6855120" y="33436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674400" y="33645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674400" y="33645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674400" y="34095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674400" y="34095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813720" y="33786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739560" y="33746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739560" y="33746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751800" y="33746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760080" y="33746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79800" y="33696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675480" y="33667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675480" y="33645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740280" y="33764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32440" y="3236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832440" y="32360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696720" y="3236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696720" y="32360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96720" y="32565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819120" y="33436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1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714360" y="3269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714360" y="32691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706800" y="32655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8" name=""/>
              <p:cNvSpPr/>
              <p:nvPr/>
            </p:nvSpPr>
            <p:spPr>
              <a:xfrm>
                <a:off x="6696720" y="33501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797160" y="33717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797160" y="33753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784560" y="33764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676560" y="33685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680520" y="33685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684120" y="33685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688080" y="33685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91680" y="33685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5640" y="33685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74400" y="32360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712920" y="32652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6773400" y="3312360"/>
              <a:ext cx="203040" cy="185040"/>
              <a:chOff x="6773400" y="3312360"/>
              <a:chExt cx="203040" cy="185040"/>
            </a:xfrm>
          </p:grpSpPr>
          <p:sp>
            <p:nvSpPr>
              <p:cNvPr id="1831" name=""/>
              <p:cNvSpPr/>
              <p:nvPr/>
            </p:nvSpPr>
            <p:spPr>
              <a:xfrm>
                <a:off x="6948360" y="34200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73400" y="34214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795720" y="34200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3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820920" y="34311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"/>
              <p:cNvSpPr/>
              <p:nvPr/>
            </p:nvSpPr>
            <p:spPr>
              <a:xfrm>
                <a:off x="6954120" y="34200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73400" y="34408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73400" y="34408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773400" y="34858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773400" y="34858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12720" y="34549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38560" y="34509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838560" y="34509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850800" y="34509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859080" y="34509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778800" y="34459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774480" y="34430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774480" y="34408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9280" y="34527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31440" y="33123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31440" y="33123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95720" y="33123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795720" y="33123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95720" y="33328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918120" y="34200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55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6813360" y="33454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6813360" y="33454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7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805800" y="33418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8" name=""/>
              <p:cNvSpPr/>
              <p:nvPr/>
            </p:nvSpPr>
            <p:spPr>
              <a:xfrm>
                <a:off x="6795720" y="34264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896160" y="34480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6160" y="34516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83560" y="34527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775560" y="34448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79520" y="34448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783120" y="34448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87080" y="34448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790680" y="34448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94640" y="34448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73400" y="33123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811920" y="33415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0" name=""/>
          <p:cNvSpPr/>
          <p:nvPr/>
        </p:nvSpPr>
        <p:spPr>
          <a:xfrm flipV="1" rot="2884200">
            <a:off x="5960880" y="318168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 rot="1091400">
            <a:off x="7238520" y="3427920"/>
            <a:ext cx="381240" cy="228960"/>
          </a:xfrm>
          <a:custGeom>
            <a:avLst/>
            <a:gdLst>
              <a:gd name="textAreaLeft" fmla="*/ 0 w 381240"/>
              <a:gd name="textAreaRight" fmla="*/ 381600 w 381240"/>
              <a:gd name="textAreaTop" fmla="*/ 360 h 228960"/>
              <a:gd name="textAreaBottom" fmla="*/ 229680 h 2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Χρονισμό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Χρόνος που μεσολαβεί μεταξύ των συμβάντων και της ανάλυσής του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αγματικού χρόν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συμβάντα αναλύονται άμεσ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ιτούν καλή δικτύωση και ισχυρούς υπολογιστ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υνατότητα για άμεση αντίδρ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εριοδικ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συμβάντα αναλύονται μαζ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ολικό όταν συστεγάζονται υπολογιστής και Σ.Α.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έχουν δυνατότητα για άμεση αντίδρ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ηγές πληροφορ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κύρια κατηγοριοποίηση είναι βάσει της πηγής συλλογής πληροφορί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λλογή από τη δικτυακή κυκλοφορ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λλογή από στοιχεία συγκεκριμένου υπολογιστ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 το 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πολυπληθέστερη κατηγορ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κατάλληλη τοποθέτηση παρακολουθούν και προστατεύουν πολλούς υπολογι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χρησιμοποιούν τεχνικές απόκρυψης, οπότε να είναι «αόρατα» στους εισβολεί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1828800" y="5407200"/>
            <a:ext cx="685800" cy="536400"/>
            <a:chOff x="1828800" y="5407200"/>
            <a:chExt cx="685800" cy="536400"/>
          </a:xfrm>
        </p:grpSpPr>
        <p:sp>
          <p:nvSpPr>
            <p:cNvPr id="1879" name=""/>
            <p:cNvSpPr/>
            <p:nvPr/>
          </p:nvSpPr>
          <p:spPr>
            <a:xfrm>
              <a:off x="1828800" y="54072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4072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55652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55652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180160" y="54482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80160" y="54482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180160" y="54482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80160" y="54482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3920" y="55652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3920" y="55652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3920" y="55652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933920" y="55652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45800" y="54435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945800" y="54435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945800" y="54435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45800" y="54435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172960" y="55749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172960" y="55749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172960" y="55749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72960" y="55749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184840" y="54543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184840" y="54543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184840" y="54543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184840" y="54543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937520" y="55699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937520" y="55699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937520" y="55699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937520" y="55699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951920" y="54482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951920" y="54482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951920" y="54482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51920" y="54482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176920" y="55810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176920" y="55810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176920" y="55810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176920" y="55810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445000" y="5334120"/>
            <a:ext cx="1071720" cy="612720"/>
            <a:chOff x="5445000" y="5334120"/>
            <a:chExt cx="1071720" cy="612720"/>
          </a:xfrm>
        </p:grpSpPr>
        <p:sp>
          <p:nvSpPr>
            <p:cNvPr id="1916" name=""/>
            <p:cNvSpPr/>
            <p:nvPr/>
          </p:nvSpPr>
          <p:spPr>
            <a:xfrm>
              <a:off x="5486400" y="551520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86400" y="551520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45000" y="5335920"/>
              <a:ext cx="1033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5486400" y="5334120"/>
              <a:ext cx="10303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9436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9436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9436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9436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638680" y="551520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638680" y="551520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638680" y="551520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638680" y="551520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654520" y="537552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54520" y="537552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654520" y="537552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4520" y="537552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983200" y="5526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983200" y="5526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983200" y="5526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983200" y="552636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000840" y="538812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000840" y="538812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000840" y="538812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000840" y="538812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43720" y="551988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643720" y="551988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43720" y="551988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643720" y="551988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66424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66424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66424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664240" y="538200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89680" y="553284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989680" y="553284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89680" y="553284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89680" y="553284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2" name="Cloud"/>
          <p:cNvSpPr/>
          <p:nvPr/>
        </p:nvSpPr>
        <p:spPr>
          <a:xfrm>
            <a:off x="7086600" y="4950000"/>
            <a:ext cx="169848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3733920" y="4114800"/>
            <a:ext cx="852480" cy="730080"/>
            <a:chOff x="3733920" y="4114800"/>
            <a:chExt cx="852480" cy="730080"/>
          </a:xfrm>
        </p:grpSpPr>
        <p:sp>
          <p:nvSpPr>
            <p:cNvPr id="1954" name=""/>
            <p:cNvSpPr/>
            <p:nvPr/>
          </p:nvSpPr>
          <p:spPr>
            <a:xfrm>
              <a:off x="3733920" y="41148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5" name=""/>
            <p:cNvGrpSpPr/>
            <p:nvPr/>
          </p:nvGrpSpPr>
          <p:grpSpPr>
            <a:xfrm>
              <a:off x="3999960" y="4470840"/>
              <a:ext cx="203040" cy="184680"/>
              <a:chOff x="3999960" y="4470840"/>
              <a:chExt cx="203040" cy="184680"/>
            </a:xfrm>
          </p:grpSpPr>
          <p:sp>
            <p:nvSpPr>
              <p:cNvPr id="1956" name=""/>
              <p:cNvSpPr/>
              <p:nvPr/>
            </p:nvSpPr>
            <p:spPr>
              <a:xfrm>
                <a:off x="4174920" y="45784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999960" y="45795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022280" y="45784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7480" y="45892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0" name=""/>
              <p:cNvSpPr/>
              <p:nvPr/>
            </p:nvSpPr>
            <p:spPr>
              <a:xfrm>
                <a:off x="4180680" y="45784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999960" y="45990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999960" y="45990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99960" y="464400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99960" y="464400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139280" y="46134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065120" y="46090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065120" y="46090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077360" y="46090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085640" y="46090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005360" y="46040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001040" y="46015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001040" y="45990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065840" y="46108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158000" y="4470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158000" y="44708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22280" y="4470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022280" y="44708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022280" y="44913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144680" y="45784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9920" y="4503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39920" y="45039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2360" y="45003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4022280" y="45849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122720" y="46065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122720" y="46098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110120" y="46108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002120" y="46029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06080" y="46029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009680" y="46029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013640" y="46029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017240" y="46029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021200" y="46029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999960" y="447084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038480" y="449964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4083840" y="4531320"/>
              <a:ext cx="203040" cy="185040"/>
              <a:chOff x="4083840" y="4531320"/>
              <a:chExt cx="203040" cy="185040"/>
            </a:xfrm>
          </p:grpSpPr>
          <p:sp>
            <p:nvSpPr>
              <p:cNvPr id="1996" name=""/>
              <p:cNvSpPr/>
              <p:nvPr/>
            </p:nvSpPr>
            <p:spPr>
              <a:xfrm>
                <a:off x="4258800" y="46389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083840" y="464040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106160" y="46389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31360" y="465012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0" name=""/>
              <p:cNvSpPr/>
              <p:nvPr/>
            </p:nvSpPr>
            <p:spPr>
              <a:xfrm>
                <a:off x="4264560" y="46389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083840" y="465984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083840" y="465984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083840" y="470484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083840" y="470484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223160" y="46738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149000" y="466992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149000" y="46699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161240" y="46699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169520" y="466992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089240" y="466488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084920" y="46620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084920" y="46598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149720" y="467172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241880" y="453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241880" y="453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106160" y="453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106160" y="453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106160" y="45518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228560" y="46389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23800" y="456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23800" y="456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6240" y="45608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3" name=""/>
              <p:cNvSpPr/>
              <p:nvPr/>
            </p:nvSpPr>
            <p:spPr>
              <a:xfrm>
                <a:off x="4106160" y="46454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206600" y="46670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206600" y="467064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194000" y="467172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86000" y="466380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89960" y="466380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93560" y="466380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97520" y="466380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101120" y="466380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105080" y="466380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840" y="453132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122360" y="456048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4182840" y="4607640"/>
              <a:ext cx="203040" cy="185040"/>
              <a:chOff x="4182840" y="4607640"/>
              <a:chExt cx="203040" cy="185040"/>
            </a:xfrm>
          </p:grpSpPr>
          <p:sp>
            <p:nvSpPr>
              <p:cNvPr id="2036" name=""/>
              <p:cNvSpPr/>
              <p:nvPr/>
            </p:nvSpPr>
            <p:spPr>
              <a:xfrm>
                <a:off x="4357800" y="47152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4182840" y="47167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205160" y="47152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30360" y="47264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>
                <a:off x="4363560" y="47152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182840" y="47361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82840" y="47361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182840" y="47811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182840" y="47811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322160" y="47502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48000" y="47462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248000" y="47462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60240" y="47462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68520" y="47462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8240" y="47412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183920" y="47383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183920" y="47361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248720" y="47480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340880" y="46076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340880" y="46076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205160" y="46076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205160" y="46076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205160" y="46281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327560" y="47152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22800" y="46407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22800" y="46407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15240" y="46371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3" name=""/>
              <p:cNvSpPr/>
              <p:nvPr/>
            </p:nvSpPr>
            <p:spPr>
              <a:xfrm>
                <a:off x="4205160" y="47217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305600" y="47433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305600" y="47469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293000" y="47480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185000" y="47401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188960" y="47401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192560" y="47401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96520" y="47401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200120" y="47401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204080" y="47401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82840" y="46076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221360" y="46368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5" name="j0223550" descr=""/>
          <p:cNvPicPr/>
          <p:nvPr/>
        </p:nvPicPr>
        <p:blipFill>
          <a:blip r:embed="rId13"/>
          <a:stretch/>
        </p:blipFill>
        <p:spPr>
          <a:xfrm>
            <a:off x="3657600" y="5486400"/>
            <a:ext cx="990720" cy="450720"/>
          </a:xfrm>
          <a:prstGeom prst="rect">
            <a:avLst/>
          </a:prstGeom>
          <a:ln w="0">
            <a:noFill/>
          </a:ln>
        </p:spPr>
      </p:pic>
      <p:sp>
        <p:nvSpPr>
          <p:cNvPr id="2076" name=""/>
          <p:cNvSpPr/>
          <p:nvPr/>
        </p:nvSpPr>
        <p:spPr>
          <a:xfrm>
            <a:off x="4187160" y="4952880"/>
            <a:ext cx="3240" cy="4590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4800600" y="5638680"/>
            <a:ext cx="5335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2590920" y="5638680"/>
            <a:ext cx="91440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9" name="" descr=""/>
          <p:cNvPicPr/>
          <p:nvPr/>
        </p:nvPicPr>
        <p:blipFill>
          <a:blip r:embed="rId14"/>
          <a:stretch/>
        </p:blipFill>
        <p:spPr>
          <a:xfrm>
            <a:off x="8380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0" name="" descr=""/>
          <p:cNvPicPr/>
          <p:nvPr/>
        </p:nvPicPr>
        <p:blipFill>
          <a:blip r:embed="rId15"/>
          <a:stretch/>
        </p:blipFill>
        <p:spPr>
          <a:xfrm>
            <a:off x="8380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1" name="" descr=""/>
          <p:cNvPicPr/>
          <p:nvPr/>
        </p:nvPicPr>
        <p:blipFill>
          <a:blip r:embed="rId16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82" name=""/>
          <p:cNvSpPr/>
          <p:nvPr/>
        </p:nvSpPr>
        <p:spPr>
          <a:xfrm>
            <a:off x="1371600" y="5105520"/>
            <a:ext cx="38088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H="1">
            <a:off x="1371240" y="563868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371600" y="5867280"/>
            <a:ext cx="38088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4800600" y="5638680"/>
            <a:ext cx="5335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553080" y="5638680"/>
            <a:ext cx="45720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 το 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ε υπερφορτωμένα δίκτυα δεν είναι εύκολο να αναλύσει το Σ.Α.Ε.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όλ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α πακέ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λοποίηση σε υλ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ίχνευση υποσυνόλου επιθέ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ενέργεια των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ιγότερο χρονοβόρω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αλύ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τεχνολογία μεταγωγής δυσχεραίνει την παρακολούθ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κρυπτογραφημένη πληροφορία δεν μπορεί να αναλυθε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γνωρίζουν αν η επίθεση πέτυχε – μόνο ότι έγιν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λές υλοποιήσεις έχουν προβλήματα ευστάθειας με επιθέσεις που βασίζονται σε χρήση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τμημάτων πακέ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οποθέτηση δικτυακών Σ.Α.Ε 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563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ίσω από το εξωτερικ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ιχνεύουν επιθέσεις που ξεπερνούν την περιμετρική άμυ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καλύπτουν ζητήματα ασφάλειας και επιδόσεων τ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ιχνεύουν επιθέσεις που στοχεύουν στους εξυπηρέτε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η επίθεση επιτύχει, μπορεί να επισημανθεί πρόβλημα βάσει της εξερχόμενης κυκλοφορίας από το θύ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Cloud"/>
          <p:cNvSpPr/>
          <p:nvPr/>
        </p:nvSpPr>
        <p:spPr>
          <a:xfrm>
            <a:off x="7238880" y="1479600"/>
            <a:ext cx="16988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6019920" y="3505320"/>
            <a:ext cx="914400" cy="532800"/>
            <a:chOff x="6019920" y="3505320"/>
            <a:chExt cx="914400" cy="532800"/>
          </a:xfrm>
        </p:grpSpPr>
        <p:sp>
          <p:nvSpPr>
            <p:cNvPr id="2093" name=""/>
            <p:cNvSpPr/>
            <p:nvPr/>
          </p:nvSpPr>
          <p:spPr>
            <a:xfrm>
              <a:off x="601992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01992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01992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01992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6095880" y="2543040"/>
            <a:ext cx="714600" cy="2764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0" name="" descr=""/>
          <p:cNvPicPr/>
          <p:nvPr/>
        </p:nvPicPr>
        <p:blipFill>
          <a:blip r:embed="rId1"/>
          <a:stretch/>
        </p:blipFill>
        <p:spPr>
          <a:xfrm>
            <a:off x="6213600" y="4527720"/>
            <a:ext cx="492120" cy="574560"/>
          </a:xfrm>
          <a:prstGeom prst="rect">
            <a:avLst/>
          </a:prstGeom>
          <a:ln w="0">
            <a:noFill/>
          </a:ln>
        </p:spPr>
      </p:pic>
      <p:sp>
        <p:nvSpPr>
          <p:cNvPr id="2131" name=""/>
          <p:cNvSpPr/>
          <p:nvPr/>
        </p:nvSpPr>
        <p:spPr>
          <a:xfrm>
            <a:off x="6477120" y="31240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477120" y="4146480"/>
            <a:ext cx="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010280" y="3765600"/>
            <a:ext cx="60984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7657920" y="3505320"/>
            <a:ext cx="987120" cy="612720"/>
            <a:chOff x="7657920" y="3505320"/>
            <a:chExt cx="987120" cy="612720"/>
          </a:xfrm>
        </p:grpSpPr>
        <p:sp>
          <p:nvSpPr>
            <p:cNvPr id="2136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657920" y="3507120"/>
              <a:ext cx="951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7696080" y="3505320"/>
              <a:ext cx="9489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7072200" y="4343400"/>
            <a:ext cx="852480" cy="730080"/>
            <a:chOff x="7072200" y="4343400"/>
            <a:chExt cx="852480" cy="730080"/>
          </a:xfrm>
        </p:grpSpPr>
        <p:sp>
          <p:nvSpPr>
            <p:cNvPr id="2173" name=""/>
            <p:cNvSpPr/>
            <p:nvPr/>
          </p:nvSpPr>
          <p:spPr>
            <a:xfrm>
              <a:off x="7072200" y="43434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7338240" y="4699440"/>
              <a:ext cx="203040" cy="184680"/>
              <a:chOff x="7338240" y="4699440"/>
              <a:chExt cx="203040" cy="184680"/>
            </a:xfrm>
          </p:grpSpPr>
          <p:sp>
            <p:nvSpPr>
              <p:cNvPr id="2175" name=""/>
              <p:cNvSpPr/>
              <p:nvPr/>
            </p:nvSpPr>
            <p:spPr>
              <a:xfrm>
                <a:off x="7513200" y="48070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338240" y="48081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360560" y="48070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1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5760" y="48178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9" name=""/>
              <p:cNvSpPr/>
              <p:nvPr/>
            </p:nvSpPr>
            <p:spPr>
              <a:xfrm>
                <a:off x="7518960" y="48070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338240" y="48276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338240" y="48276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338240" y="487260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338240" y="487260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477560" y="48420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403400" y="48376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403400" y="48376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415640" y="48376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423920" y="48376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343640" y="48326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339320" y="48301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339320" y="48276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404120" y="48394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496280" y="4699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496280" y="4699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360560" y="4699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360560" y="4699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360560" y="47199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482960" y="48070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1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8200" y="4732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78200" y="4732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70640" y="47289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2" name=""/>
              <p:cNvSpPr/>
              <p:nvPr/>
            </p:nvSpPr>
            <p:spPr>
              <a:xfrm>
                <a:off x="7360560" y="48135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461000" y="48351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461000" y="48384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448400" y="48394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340400" y="48315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344360" y="48315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347960" y="48315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351920" y="48315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355520" y="48315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359480" y="48315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338240" y="469944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376760" y="472824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7422120" y="4759920"/>
              <a:ext cx="203040" cy="185040"/>
              <a:chOff x="7422120" y="4759920"/>
              <a:chExt cx="203040" cy="185040"/>
            </a:xfrm>
          </p:grpSpPr>
          <p:sp>
            <p:nvSpPr>
              <p:cNvPr id="2215" name=""/>
              <p:cNvSpPr/>
              <p:nvPr/>
            </p:nvSpPr>
            <p:spPr>
              <a:xfrm>
                <a:off x="7597080" y="48675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422120" y="486900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444440" y="48675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2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69640" y="487872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9" name=""/>
              <p:cNvSpPr/>
              <p:nvPr/>
            </p:nvSpPr>
            <p:spPr>
              <a:xfrm>
                <a:off x="7602840" y="48675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422120" y="488844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422120" y="488844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422120" y="493344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422120" y="493344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561440" y="49024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487280" y="489852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487280" y="489852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499520" y="489852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507800" y="489852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27520" y="489348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423200" y="48906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423200" y="48884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488000" y="490032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580160" y="47599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580160" y="47599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444440" y="47599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444440" y="47599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444440" y="47804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566840" y="48675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2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080" y="47930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462080" y="47930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54520" y="47894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2" name=""/>
              <p:cNvSpPr/>
              <p:nvPr/>
            </p:nvSpPr>
            <p:spPr>
              <a:xfrm>
                <a:off x="7444440" y="48740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544880" y="48956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544880" y="489924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532280" y="490032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24280" y="489240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428240" y="489240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431840" y="489240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435800" y="489240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439400" y="489240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443360" y="489240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422120" y="475992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460640" y="478908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7521120" y="4836240"/>
              <a:ext cx="203040" cy="185040"/>
              <a:chOff x="7521120" y="4836240"/>
              <a:chExt cx="203040" cy="185040"/>
            </a:xfrm>
          </p:grpSpPr>
          <p:sp>
            <p:nvSpPr>
              <p:cNvPr id="2255" name=""/>
              <p:cNvSpPr/>
              <p:nvPr/>
            </p:nvSpPr>
            <p:spPr>
              <a:xfrm>
                <a:off x="7696080" y="49438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521120" y="49453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43440" y="49438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25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68640" y="49550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9" name=""/>
              <p:cNvSpPr/>
              <p:nvPr/>
            </p:nvSpPr>
            <p:spPr>
              <a:xfrm>
                <a:off x="7701840" y="49438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521120" y="49647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521120" y="49647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521120" y="50097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521120" y="50097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660440" y="49788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586280" y="49748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586280" y="49748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598520" y="49748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606800" y="49748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526520" y="49698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522200" y="49669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522200" y="49647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87000" y="49766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679160" y="4836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679160" y="4836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543440" y="4836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543440" y="4836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543440" y="48567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665840" y="49438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2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61080" y="4869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61080" y="4869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53520" y="48657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2" name=""/>
              <p:cNvSpPr/>
              <p:nvPr/>
            </p:nvSpPr>
            <p:spPr>
              <a:xfrm>
                <a:off x="7543440" y="49503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643880" y="49719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643880" y="49755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631280" y="49766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523280" y="49687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527240" y="49687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530840" y="49687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534800" y="49687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538400" y="49687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542360" y="49687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21120" y="48362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559640" y="48654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4" name=""/>
          <p:cNvSpPr/>
          <p:nvPr/>
        </p:nvSpPr>
        <p:spPr>
          <a:xfrm flipV="1" rot="8724000">
            <a:off x="7009920" y="411444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οποθέτηση δικτυακών Σ.Α.Ε 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563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ξω από το εξωτερικ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ιχνεύει και τεκμηριών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κα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τις επιθέσεις που αντιμετωπίζει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Cloud"/>
          <p:cNvSpPr/>
          <p:nvPr/>
        </p:nvSpPr>
        <p:spPr>
          <a:xfrm>
            <a:off x="7238880" y="1479600"/>
            <a:ext cx="16988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6019920" y="3505320"/>
            <a:ext cx="914400" cy="532800"/>
            <a:chOff x="6019920" y="3505320"/>
            <a:chExt cx="914400" cy="532800"/>
          </a:xfrm>
        </p:grpSpPr>
        <p:sp>
          <p:nvSpPr>
            <p:cNvPr id="2299" name=""/>
            <p:cNvSpPr/>
            <p:nvPr/>
          </p:nvSpPr>
          <p:spPr>
            <a:xfrm>
              <a:off x="601992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19920" y="3505320"/>
              <a:ext cx="914400" cy="3128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01992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019920" y="3662280"/>
              <a:ext cx="914400" cy="3758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88640" y="354636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159960" y="366228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5800" y="354132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78920" y="3672000"/>
              <a:ext cx="299520" cy="9864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494760" y="3552120"/>
              <a:ext cx="299520" cy="9756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164640" y="366732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184440" y="354636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483960" y="367812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6095880" y="2543040"/>
            <a:ext cx="714600" cy="2764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6213600" y="4527720"/>
            <a:ext cx="492120" cy="574560"/>
          </a:xfrm>
          <a:prstGeom prst="rect">
            <a:avLst/>
          </a:prstGeom>
          <a:ln w="0">
            <a:noFill/>
          </a:ln>
        </p:spPr>
      </p:pic>
      <p:sp>
        <p:nvSpPr>
          <p:cNvPr id="2337" name=""/>
          <p:cNvSpPr/>
          <p:nvPr/>
        </p:nvSpPr>
        <p:spPr>
          <a:xfrm>
            <a:off x="6477120" y="31240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477120" y="4146480"/>
            <a:ext cx="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010280" y="3765600"/>
            <a:ext cx="60984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153280" y="2666880"/>
            <a:ext cx="0" cy="6858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7657920" y="3505320"/>
            <a:ext cx="987120" cy="612720"/>
            <a:chOff x="7657920" y="3505320"/>
            <a:chExt cx="987120" cy="612720"/>
          </a:xfrm>
        </p:grpSpPr>
        <p:sp>
          <p:nvSpPr>
            <p:cNvPr id="2342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696080" y="368640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657920" y="3507120"/>
              <a:ext cx="951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>
              <a:off x="7696080" y="3505320"/>
              <a:ext cx="9489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640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836120" y="368640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850880" y="354672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3640" y="369756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70200" y="355932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840800" y="369108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859880" y="355320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9760" y="370404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6858000" y="2666880"/>
            <a:ext cx="852480" cy="730440"/>
            <a:chOff x="6858000" y="2666880"/>
            <a:chExt cx="852480" cy="730440"/>
          </a:xfrm>
        </p:grpSpPr>
        <p:sp>
          <p:nvSpPr>
            <p:cNvPr id="2379" name=""/>
            <p:cNvSpPr/>
            <p:nvPr/>
          </p:nvSpPr>
          <p:spPr>
            <a:xfrm>
              <a:off x="6858000" y="26668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7124040" y="3022920"/>
              <a:ext cx="203040" cy="184680"/>
              <a:chOff x="7124040" y="3022920"/>
              <a:chExt cx="203040" cy="18468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99000" y="31305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124040" y="313164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146360" y="31305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71560" y="31413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5" name=""/>
              <p:cNvSpPr/>
              <p:nvPr/>
            </p:nvSpPr>
            <p:spPr>
              <a:xfrm>
                <a:off x="7304760" y="31305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124040" y="31510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124040" y="31510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124040" y="319608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124040" y="319608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263360" y="31654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189200" y="31611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189200" y="31611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201440" y="31611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209720" y="31611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129440" y="31561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125120" y="31536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125120" y="31510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189920" y="31629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282080" y="30229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282080" y="30229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146360" y="30229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146360" y="30229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146360" y="30434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268760" y="31305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4000" y="30560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4000" y="30560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56440" y="30524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8" name=""/>
              <p:cNvSpPr/>
              <p:nvPr/>
            </p:nvSpPr>
            <p:spPr>
              <a:xfrm>
                <a:off x="7146360" y="31370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246800" y="31586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246800" y="31618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234200" y="31629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126200" y="31550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130160" y="31550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133760" y="31550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137720" y="31550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141320" y="31550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45280" y="31550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24040" y="302292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162560" y="305172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7207920" y="3083760"/>
              <a:ext cx="203040" cy="185040"/>
              <a:chOff x="7207920" y="3083760"/>
              <a:chExt cx="203040" cy="185040"/>
            </a:xfrm>
          </p:grpSpPr>
          <p:sp>
            <p:nvSpPr>
              <p:cNvPr id="2421" name=""/>
              <p:cNvSpPr/>
              <p:nvPr/>
            </p:nvSpPr>
            <p:spPr>
              <a:xfrm>
                <a:off x="7382880" y="31914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207920" y="31928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230240" y="31914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55440" y="32025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5" name=""/>
              <p:cNvSpPr/>
              <p:nvPr/>
            </p:nvSpPr>
            <p:spPr>
              <a:xfrm>
                <a:off x="7388640" y="31914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207920" y="32122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207920" y="32122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207920" y="32572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207920" y="32572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347240" y="32263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273080" y="32223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273080" y="32223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285320" y="32223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293600" y="32223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213320" y="32173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09000" y="32144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09000" y="32122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73800" y="32241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65960" y="3083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365960" y="3083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230240" y="3083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30240" y="3083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230240" y="31042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352640" y="31914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4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47880" y="3116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47880" y="3116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40320" y="31132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8" name=""/>
              <p:cNvSpPr/>
              <p:nvPr/>
            </p:nvSpPr>
            <p:spPr>
              <a:xfrm>
                <a:off x="7230240" y="31978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330680" y="32194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330680" y="32230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318080" y="32241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10080" y="32162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14040" y="32162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217640" y="32162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21600" y="32162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25200" y="32162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29160" y="32162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207920" y="30837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46440" y="31129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7306920" y="3160080"/>
              <a:ext cx="203040" cy="185040"/>
              <a:chOff x="7306920" y="3160080"/>
              <a:chExt cx="203040" cy="185040"/>
            </a:xfrm>
          </p:grpSpPr>
          <p:sp>
            <p:nvSpPr>
              <p:cNvPr id="2461" name=""/>
              <p:cNvSpPr/>
              <p:nvPr/>
            </p:nvSpPr>
            <p:spPr>
              <a:xfrm>
                <a:off x="7481880" y="326772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306920" y="32691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329240" y="326772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54440" y="32788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5" name=""/>
              <p:cNvSpPr/>
              <p:nvPr/>
            </p:nvSpPr>
            <p:spPr>
              <a:xfrm>
                <a:off x="7487640" y="326772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306920" y="32886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306920" y="32886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306920" y="333360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306920" y="333360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446240" y="330264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372080" y="32986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372080" y="32986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384320" y="32986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392600" y="32986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312320" y="32936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308000" y="329076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308000" y="32886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372800" y="33004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464960" y="31600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464960" y="31600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329240" y="31600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329240" y="31600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329240" y="318060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451640" y="326772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8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46880" y="31932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346880" y="31932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39320" y="318960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8" name=""/>
              <p:cNvSpPr/>
              <p:nvPr/>
            </p:nvSpPr>
            <p:spPr>
              <a:xfrm>
                <a:off x="7329240" y="327420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429680" y="329580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429680" y="32994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417080" y="33004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309080" y="32925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313040" y="32925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316640" y="32925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320600" y="32925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324200" y="32925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328160" y="32925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306920" y="316008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345440" y="318924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0" name=""/>
          <p:cNvSpPr/>
          <p:nvPr/>
        </p:nvSpPr>
        <p:spPr>
          <a:xfrm>
            <a:off x="7696080" y="28954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οποθέτηση δικτυακών Σ.Α.Ε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28600" y="1641600"/>
            <a:ext cx="563868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μεγάλους δικτυακούς κόμβ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οπτεύει μεγάλο μέρος της δικτυακής κυκλοφορίας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ίχνευση περισσότερων επιθέ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ιχνεύ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κα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επιθέσεις «εκ των έσω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Cloud"/>
          <p:cNvSpPr/>
          <p:nvPr/>
        </p:nvSpPr>
        <p:spPr>
          <a:xfrm>
            <a:off x="6705720" y="1479600"/>
            <a:ext cx="1698480" cy="8064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620120" y="24382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7124760" y="2743200"/>
            <a:ext cx="987120" cy="612720"/>
            <a:chOff x="7124760" y="2743200"/>
            <a:chExt cx="987120" cy="612720"/>
          </a:xfrm>
        </p:grpSpPr>
        <p:sp>
          <p:nvSpPr>
            <p:cNvPr id="2506" name=""/>
            <p:cNvSpPr/>
            <p:nvPr/>
          </p:nvSpPr>
          <p:spPr>
            <a:xfrm>
              <a:off x="7162920" y="292428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162920" y="292428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124760" y="2745000"/>
              <a:ext cx="951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7162920" y="2743200"/>
              <a:ext cx="9489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>
            <a:off x="7620120" y="3429000"/>
            <a:ext cx="0" cy="26028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3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892080" cy="593640"/>
          </a:xfrm>
          <a:prstGeom prst="rect">
            <a:avLst/>
          </a:prstGeom>
          <a:ln w="0">
            <a:noFill/>
          </a:ln>
        </p:spPr>
      </p:pic>
      <p:sp>
        <p:nvSpPr>
          <p:cNvPr id="2544" name=""/>
          <p:cNvSpPr/>
          <p:nvPr/>
        </p:nvSpPr>
        <p:spPr>
          <a:xfrm>
            <a:off x="7543800" y="4343400"/>
            <a:ext cx="0" cy="26028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7086600" y="4724280"/>
            <a:ext cx="914400" cy="533160"/>
            <a:chOff x="7086600" y="4724280"/>
            <a:chExt cx="914400" cy="533160"/>
          </a:xfrm>
        </p:grpSpPr>
        <p:sp>
          <p:nvSpPr>
            <p:cNvPr id="2546" name=""/>
            <p:cNvSpPr/>
            <p:nvPr/>
          </p:nvSpPr>
          <p:spPr>
            <a:xfrm>
              <a:off x="7086600" y="4724280"/>
              <a:ext cx="914400" cy="3132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086600" y="4724280"/>
              <a:ext cx="914400" cy="3132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086600" y="4881240"/>
              <a:ext cx="914400" cy="37620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086600" y="4881240"/>
              <a:ext cx="914400" cy="37620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8077320" y="3733920"/>
            <a:ext cx="852480" cy="730080"/>
            <a:chOff x="8077320" y="3733920"/>
            <a:chExt cx="852480" cy="730080"/>
          </a:xfrm>
        </p:grpSpPr>
        <p:sp>
          <p:nvSpPr>
            <p:cNvPr id="2583" name=""/>
            <p:cNvSpPr/>
            <p:nvPr/>
          </p:nvSpPr>
          <p:spPr>
            <a:xfrm>
              <a:off x="8077320" y="37339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8343360" y="4089960"/>
              <a:ext cx="203040" cy="184680"/>
              <a:chOff x="8343360" y="4089960"/>
              <a:chExt cx="203040" cy="184680"/>
            </a:xfrm>
          </p:grpSpPr>
          <p:sp>
            <p:nvSpPr>
              <p:cNvPr id="2585" name=""/>
              <p:cNvSpPr/>
              <p:nvPr/>
            </p:nvSpPr>
            <p:spPr>
              <a:xfrm>
                <a:off x="8518320" y="41976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343360" y="419868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365680" y="41976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90880" y="420840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9" name=""/>
              <p:cNvSpPr/>
              <p:nvPr/>
            </p:nvSpPr>
            <p:spPr>
              <a:xfrm>
                <a:off x="8524080" y="41976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343360" y="421812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343360" y="421812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343360" y="426312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343360" y="426312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482680" y="42325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408520" y="422820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408520" y="42282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420760" y="42282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429040" y="422820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348760" y="422316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344440" y="42206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344440" y="421812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409240" y="423000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501400" y="40899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501400" y="40899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365680" y="40899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365680" y="40899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365680" y="41104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488080" y="41976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3320" y="41230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83320" y="41230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5760" y="41194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2" name=""/>
              <p:cNvSpPr/>
              <p:nvPr/>
            </p:nvSpPr>
            <p:spPr>
              <a:xfrm>
                <a:off x="8365680" y="42040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466120" y="42256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466120" y="422892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453520" y="423000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345520" y="422208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349480" y="422208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353080" y="422208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357040" y="422208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360640" y="422208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364600" y="422208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343360" y="408996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381880" y="411876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8427240" y="4150440"/>
              <a:ext cx="203040" cy="185040"/>
              <a:chOff x="8427240" y="4150440"/>
              <a:chExt cx="203040" cy="185040"/>
            </a:xfrm>
          </p:grpSpPr>
          <p:sp>
            <p:nvSpPr>
              <p:cNvPr id="2625" name=""/>
              <p:cNvSpPr/>
              <p:nvPr/>
            </p:nvSpPr>
            <p:spPr>
              <a:xfrm>
                <a:off x="8602200" y="42580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8427240" y="42595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449560" y="42580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474760" y="42692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9" name=""/>
              <p:cNvSpPr/>
              <p:nvPr/>
            </p:nvSpPr>
            <p:spPr>
              <a:xfrm>
                <a:off x="8607960" y="42580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427240" y="42789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427240" y="42789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427240" y="43239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427240" y="43239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566560" y="42930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492400" y="42890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492400" y="42890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504640" y="42890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512920" y="42890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432640" y="42840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428320" y="42811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428320" y="42789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493120" y="42908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585280" y="4150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585280" y="4150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49560" y="4150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449560" y="4150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449560" y="41709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71960" y="42580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67200" y="4183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67200" y="4183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459640" y="41799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2" name=""/>
              <p:cNvSpPr/>
              <p:nvPr/>
            </p:nvSpPr>
            <p:spPr>
              <a:xfrm>
                <a:off x="8449560" y="42645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8550000" y="42861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8550000" y="42897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8537400" y="42908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8429400" y="42829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8433360" y="42829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8436960" y="42829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8440920" y="42829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8444520" y="42829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8448480" y="42829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8427240" y="41504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8465760" y="41796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8526240" y="4226760"/>
              <a:ext cx="203040" cy="185040"/>
              <a:chOff x="8526240" y="4226760"/>
              <a:chExt cx="203040" cy="185040"/>
            </a:xfrm>
          </p:grpSpPr>
          <p:sp>
            <p:nvSpPr>
              <p:cNvPr id="2665" name=""/>
              <p:cNvSpPr/>
              <p:nvPr/>
            </p:nvSpPr>
            <p:spPr>
              <a:xfrm>
                <a:off x="8701200" y="43344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8526240" y="43358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8548560" y="43344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73760" y="43455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9" name=""/>
              <p:cNvSpPr/>
              <p:nvPr/>
            </p:nvSpPr>
            <p:spPr>
              <a:xfrm>
                <a:off x="8706960" y="43344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8526240" y="43552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526240" y="43552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526240" y="44002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8526240" y="44002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8665560" y="43693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8591400" y="43653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8591400" y="43653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8603640" y="43653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611920" y="43653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8531640" y="43603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8527320" y="43574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8527320" y="43552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592120" y="43671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684280" y="4226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684280" y="4226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548560" y="4226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548560" y="4226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548560" y="42472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670960" y="43344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8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66200" y="4259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66200" y="4259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58640" y="42562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2" name=""/>
              <p:cNvSpPr/>
              <p:nvPr/>
            </p:nvSpPr>
            <p:spPr>
              <a:xfrm>
                <a:off x="8548560" y="43408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8649000" y="43624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649000" y="43660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636400" y="43671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528400" y="43592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532360" y="43592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535960" y="43592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539920" y="43592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543520" y="43592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547480" y="43592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526240" y="42267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564760" y="42559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04" name="" descr=""/>
          <p:cNvPicPr/>
          <p:nvPr/>
        </p:nvPicPr>
        <p:blipFill>
          <a:blip r:embed="rId14"/>
          <a:stretch/>
        </p:blipFill>
        <p:spPr>
          <a:xfrm>
            <a:off x="6324480" y="6172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05" name=""/>
          <p:cNvSpPr/>
          <p:nvPr/>
        </p:nvSpPr>
        <p:spPr>
          <a:xfrm flipV="1" rot="2884200">
            <a:off x="8094600" y="4554360"/>
            <a:ext cx="304920" cy="339480"/>
          </a:xfrm>
          <a:prstGeom prst="upArrow">
            <a:avLst>
              <a:gd name="adj1" fmla="val 50000"/>
              <a:gd name="adj2" fmla="val 2783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934320" y="5562720"/>
            <a:ext cx="0" cy="10224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7543800" y="5334120"/>
            <a:ext cx="0" cy="2286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305920" y="5562720"/>
            <a:ext cx="0" cy="10224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6934320" y="5556240"/>
            <a:ext cx="1371600" cy="7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0" name="" descr=""/>
          <p:cNvPicPr/>
          <p:nvPr/>
        </p:nvPicPr>
        <p:blipFill>
          <a:blip r:embed="rId15"/>
          <a:stretch/>
        </p:blipFill>
        <p:spPr>
          <a:xfrm>
            <a:off x="632448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1" name="" descr=""/>
          <p:cNvPicPr/>
          <p:nvPr/>
        </p:nvPicPr>
        <p:blipFill>
          <a:blip r:embed="rId16"/>
          <a:stretch/>
        </p:blipFill>
        <p:spPr>
          <a:xfrm>
            <a:off x="63244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2" name="" descr=""/>
          <p:cNvPicPr/>
          <p:nvPr/>
        </p:nvPicPr>
        <p:blipFill>
          <a:blip r:embed="rId17"/>
          <a:stretch/>
        </p:blipFill>
        <p:spPr>
          <a:xfrm>
            <a:off x="845820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3" name="" descr=""/>
          <p:cNvPicPr/>
          <p:nvPr/>
        </p:nvPicPr>
        <p:blipFill>
          <a:blip r:embed="rId18"/>
          <a:stretch/>
        </p:blipFill>
        <p:spPr>
          <a:xfrm>
            <a:off x="845820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14" name="" descr=""/>
          <p:cNvPicPr/>
          <p:nvPr/>
        </p:nvPicPr>
        <p:blipFill>
          <a:blip r:embed="rId19"/>
          <a:stretch/>
        </p:blipFill>
        <p:spPr>
          <a:xfrm>
            <a:off x="8458200" y="5105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Cloud"/>
          <p:cNvSpPr/>
          <p:nvPr/>
        </p:nvSpPr>
        <p:spPr>
          <a:xfrm>
            <a:off x="6705720" y="1479600"/>
            <a:ext cx="1698480" cy="8064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620120" y="24382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7" name=""/>
          <p:cNvGrpSpPr/>
          <p:nvPr/>
        </p:nvGrpSpPr>
        <p:grpSpPr>
          <a:xfrm>
            <a:off x="7124760" y="2743200"/>
            <a:ext cx="987120" cy="612720"/>
            <a:chOff x="7124760" y="2743200"/>
            <a:chExt cx="987120" cy="612720"/>
          </a:xfrm>
        </p:grpSpPr>
        <p:sp>
          <p:nvSpPr>
            <p:cNvPr id="2718" name=""/>
            <p:cNvSpPr/>
            <p:nvPr/>
          </p:nvSpPr>
          <p:spPr>
            <a:xfrm>
              <a:off x="7162920" y="292428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162920" y="2924280"/>
              <a:ext cx="91296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124760" y="2745000"/>
              <a:ext cx="9518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7162920" y="2743200"/>
              <a:ext cx="9489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6309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302960" y="2924280"/>
              <a:ext cx="29844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317720" y="2784600"/>
              <a:ext cx="30276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620480" y="293544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37040" y="2797200"/>
              <a:ext cx="29808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307640" y="2928960"/>
              <a:ext cx="30096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326720" y="2791080"/>
              <a:ext cx="29988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626600" y="2941920"/>
              <a:ext cx="29988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4" name=""/>
          <p:cNvSpPr/>
          <p:nvPr/>
        </p:nvSpPr>
        <p:spPr>
          <a:xfrm>
            <a:off x="7620120" y="3429000"/>
            <a:ext cx="0" cy="26028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5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892080" cy="593640"/>
          </a:xfrm>
          <a:prstGeom prst="rect">
            <a:avLst/>
          </a:prstGeom>
          <a:ln w="0">
            <a:noFill/>
          </a:ln>
        </p:spPr>
      </p:pic>
      <p:sp>
        <p:nvSpPr>
          <p:cNvPr id="2756" name=""/>
          <p:cNvSpPr/>
          <p:nvPr/>
        </p:nvSpPr>
        <p:spPr>
          <a:xfrm>
            <a:off x="7543800" y="4343400"/>
            <a:ext cx="0" cy="26028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7" name=""/>
          <p:cNvGrpSpPr/>
          <p:nvPr/>
        </p:nvGrpSpPr>
        <p:grpSpPr>
          <a:xfrm>
            <a:off x="7086600" y="4724280"/>
            <a:ext cx="914400" cy="533160"/>
            <a:chOff x="7086600" y="4724280"/>
            <a:chExt cx="914400" cy="533160"/>
          </a:xfrm>
        </p:grpSpPr>
        <p:sp>
          <p:nvSpPr>
            <p:cNvPr id="2758" name=""/>
            <p:cNvSpPr/>
            <p:nvPr/>
          </p:nvSpPr>
          <p:spPr>
            <a:xfrm>
              <a:off x="7086600" y="4724280"/>
              <a:ext cx="914400" cy="3132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86600" y="4724280"/>
              <a:ext cx="914400" cy="3132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86600" y="4881240"/>
              <a:ext cx="914400" cy="37620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086600" y="4881240"/>
              <a:ext cx="914400" cy="37620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555320" y="4765320"/>
              <a:ext cx="300600" cy="9900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26640" y="4881240"/>
              <a:ext cx="299160" cy="10260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242480" y="4760280"/>
              <a:ext cx="303120" cy="979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545600" y="4891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561440" y="4771440"/>
              <a:ext cx="299520" cy="979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231320" y="4886280"/>
              <a:ext cx="302040" cy="10368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251120" y="4765320"/>
              <a:ext cx="299520" cy="9900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550640" y="4897080"/>
              <a:ext cx="300600" cy="964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8077320" y="3733920"/>
            <a:ext cx="852480" cy="730080"/>
            <a:chOff x="8077320" y="3733920"/>
            <a:chExt cx="852480" cy="730080"/>
          </a:xfrm>
        </p:grpSpPr>
        <p:sp>
          <p:nvSpPr>
            <p:cNvPr id="2795" name=""/>
            <p:cNvSpPr/>
            <p:nvPr/>
          </p:nvSpPr>
          <p:spPr>
            <a:xfrm>
              <a:off x="8077320" y="37339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96" name=""/>
            <p:cNvGrpSpPr/>
            <p:nvPr/>
          </p:nvGrpSpPr>
          <p:grpSpPr>
            <a:xfrm>
              <a:off x="8343360" y="4089960"/>
              <a:ext cx="203040" cy="184680"/>
              <a:chOff x="8343360" y="4089960"/>
              <a:chExt cx="203040" cy="184680"/>
            </a:xfrm>
          </p:grpSpPr>
          <p:sp>
            <p:nvSpPr>
              <p:cNvPr id="2797" name=""/>
              <p:cNvSpPr/>
              <p:nvPr/>
            </p:nvSpPr>
            <p:spPr>
              <a:xfrm>
                <a:off x="8518320" y="41976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343360" y="419868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365680" y="41976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90880" y="420840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1" name=""/>
              <p:cNvSpPr/>
              <p:nvPr/>
            </p:nvSpPr>
            <p:spPr>
              <a:xfrm>
                <a:off x="8524080" y="41976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343360" y="421812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343360" y="421812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343360" y="426312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343360" y="426312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482680" y="42325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408520" y="422820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408520" y="42282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420760" y="42282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429040" y="422820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348760" y="422316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344440" y="42206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344440" y="421812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409240" y="423000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501400" y="40899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501400" y="40899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365680" y="40899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365680" y="40899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365680" y="41104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488080" y="41976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3320" y="41230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83320" y="41230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5760" y="41194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4" name=""/>
              <p:cNvSpPr/>
              <p:nvPr/>
            </p:nvSpPr>
            <p:spPr>
              <a:xfrm>
                <a:off x="8365680" y="42040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466120" y="42256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466120" y="422892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453520" y="423000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345520" y="422208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349480" y="422208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53080" y="422208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57040" y="422208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60640" y="422208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64600" y="422208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43360" y="408996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81880" y="411876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6" name=""/>
            <p:cNvGrpSpPr/>
            <p:nvPr/>
          </p:nvGrpSpPr>
          <p:grpSpPr>
            <a:xfrm>
              <a:off x="8427240" y="4150440"/>
              <a:ext cx="203040" cy="185040"/>
              <a:chOff x="8427240" y="4150440"/>
              <a:chExt cx="203040" cy="185040"/>
            </a:xfrm>
          </p:grpSpPr>
          <p:sp>
            <p:nvSpPr>
              <p:cNvPr id="2837" name=""/>
              <p:cNvSpPr/>
              <p:nvPr/>
            </p:nvSpPr>
            <p:spPr>
              <a:xfrm>
                <a:off x="8602200" y="42580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427240" y="42595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449560" y="42580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474760" y="42692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1" name=""/>
              <p:cNvSpPr/>
              <p:nvPr/>
            </p:nvSpPr>
            <p:spPr>
              <a:xfrm>
                <a:off x="8607960" y="42580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427240" y="42789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427240" y="42789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427240" y="43239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427240" y="43239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566560" y="42930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492400" y="42890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492400" y="42890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504640" y="42890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512920" y="42890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432640" y="42840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428320" y="42811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428320" y="42789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493120" y="42908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585280" y="4150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585280" y="41504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449560" y="4150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449560" y="41504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449560" y="41709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571960" y="42580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67200" y="4183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67200" y="41835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459640" y="41799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4" name=""/>
              <p:cNvSpPr/>
              <p:nvPr/>
            </p:nvSpPr>
            <p:spPr>
              <a:xfrm>
                <a:off x="8449560" y="42645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550000" y="42861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550000" y="42897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537400" y="42908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429400" y="42829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433360" y="42829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436960" y="42829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440920" y="42829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444520" y="42829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448480" y="42829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427240" y="41504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465760" y="41796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6" name=""/>
            <p:cNvGrpSpPr/>
            <p:nvPr/>
          </p:nvGrpSpPr>
          <p:grpSpPr>
            <a:xfrm>
              <a:off x="8526240" y="4226760"/>
              <a:ext cx="203040" cy="185040"/>
              <a:chOff x="8526240" y="4226760"/>
              <a:chExt cx="203040" cy="185040"/>
            </a:xfrm>
          </p:grpSpPr>
          <p:sp>
            <p:nvSpPr>
              <p:cNvPr id="2877" name=""/>
              <p:cNvSpPr/>
              <p:nvPr/>
            </p:nvSpPr>
            <p:spPr>
              <a:xfrm>
                <a:off x="8701200" y="43344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526240" y="43358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548560" y="43344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8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73760" y="43455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1" name=""/>
              <p:cNvSpPr/>
              <p:nvPr/>
            </p:nvSpPr>
            <p:spPr>
              <a:xfrm>
                <a:off x="8706960" y="43344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526240" y="43552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526240" y="43552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526240" y="44002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526240" y="44002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665560" y="43693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591400" y="43653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591400" y="43653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603640" y="43653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611920" y="43653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531640" y="43603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527320" y="43574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527320" y="43552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592120" y="43671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684280" y="4226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684280" y="4226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548560" y="4226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548560" y="4226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548560" y="42472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670960" y="43344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66200" y="4259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66200" y="4259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58640" y="42562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4" name=""/>
              <p:cNvSpPr/>
              <p:nvPr/>
            </p:nvSpPr>
            <p:spPr>
              <a:xfrm>
                <a:off x="8548560" y="43408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649000" y="43624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8649000" y="43660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636400" y="43671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528400" y="43592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532360" y="43592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535960" y="43592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539920" y="43592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543520" y="43592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547480" y="43592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526240" y="42267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564760" y="42559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6" name=""/>
          <p:cNvSpPr/>
          <p:nvPr/>
        </p:nvSpPr>
        <p:spPr>
          <a:xfrm flipV="1" rot="2884200">
            <a:off x="8094600" y="4554360"/>
            <a:ext cx="304920" cy="339480"/>
          </a:xfrm>
          <a:prstGeom prst="upArrow">
            <a:avLst>
              <a:gd name="adj1" fmla="val 50000"/>
              <a:gd name="adj2" fmla="val 2783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7543800" y="5334120"/>
            <a:ext cx="0" cy="2286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V="1">
            <a:off x="6934320" y="5556240"/>
            <a:ext cx="1371600" cy="7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9" name="" descr=""/>
          <p:cNvPicPr/>
          <p:nvPr/>
        </p:nvPicPr>
        <p:blipFill>
          <a:blip r:embed="rId14"/>
          <a:stretch/>
        </p:blipFill>
        <p:spPr>
          <a:xfrm>
            <a:off x="6705720" y="571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20" name="" descr=""/>
          <p:cNvPicPr/>
          <p:nvPr/>
        </p:nvPicPr>
        <p:blipFill>
          <a:blip r:embed="rId15"/>
          <a:stretch/>
        </p:blipFill>
        <p:spPr>
          <a:xfrm>
            <a:off x="7315200" y="571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21" name="" descr=""/>
          <p:cNvPicPr/>
          <p:nvPr/>
        </p:nvPicPr>
        <p:blipFill>
          <a:blip r:embed="rId16"/>
          <a:stretch/>
        </p:blipFill>
        <p:spPr>
          <a:xfrm>
            <a:off x="7924680" y="5715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922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οποθέτηση δικτυακών Σ.Α.Ε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228600" y="1641600"/>
            <a:ext cx="563868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υποδίκτυα μεγάλης σημασ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στατεύει τους πιο πολύτιμους πόρ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αίτερα χρήσιμο σε περιπτώσεις περιορισμένων πόρων για αγορά-εγκατάσταση-λειτουργία Σ.Α.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.Α.Ε. – Γιατί τα χρησιμοποιούμ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41240"/>
            <a:ext cx="80769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ρόληψη προβλημάτων αυξάνοντας την πιθανότητα ανακάλυψης και τιμωρίας εισβολέω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νίχνευση επιθέσεων και παραβιάσεων που δεν ανιχνεύονται με άλλα μέσ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ντοπισμός και αντιμετώπιση προσπαθειών ανίχνευση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εκμηρίωση υπαρκτής απειλή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Έλεγχος ποιότητας για το σχεδιασμό ασφάλειας και τη διαχείριση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αροχή πληροφοριών για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επιτυχείς εισβολές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, για καλύτερη διάγνωση, ανάκαμψη και προληπτικά μέτρ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 συγκεκριμένο υπολογιστ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αλύουν αρχεία ημερολογίου, διεργασίες, αρχεία συστήματος, μνήμης, στοιχεία κατάστασης, ταυτότητες χρηστ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ανιχνεύσουν επιθέσεις που χρησιμοποιούν νόμιμα πακέτα δικτύ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ειτουργούν και με μηχανισμούς κρυπτογράφησης, πάντα όμως σε μη κρυπτογραφημένα δεδομέ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ειτουργούν θαυμάσια σε περιβάλλον μεταγωγ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ανάλυση των αρχείων καταγραφής ενεργειών μπορούν να αποκαλύψουν δούρειους ίππους ή άλλες προσπάθειες παραβίασης της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 συγκεκριμένο υπολογιστ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152280" y="1641240"/>
            <a:ext cx="88394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υσκολότερη εγκατάσταση και ρύθμ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γκατάσταση σε κάθε υπολογ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Ξεχωριστές πιθανόν ρυθμί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παραβιασθεί η ασφάλεια του υπολογιστή, το Σ.Α.Ε. μπορεί να απενεργοποιηθε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μπορούν να ανιχνεύσουν απόπειρες ανίχνευσης υπηρεσιών στο εταιρικό δίκτυ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άρχουν επιθέσεις άρνησης παροχής υπηρεσιών που απενεργοποιούν το Σ.Α.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βασίζονται σε αρχεία καταγραφής λειτουργιών του Λ.Σ., μπορεί να υπάρξει πρόβλημα αποθήκευ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ησιμοποιούν υπολογιστικούς πόρους του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ειτουργία σε διαφορετικό υπολογιστ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2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17840" cy="838080"/>
          </a:xfrm>
          <a:prstGeom prst="rect">
            <a:avLst/>
          </a:prstGeom>
          <a:ln w="0">
            <a:noFill/>
          </a:ln>
        </p:spPr>
      </p:pic>
      <p:sp>
        <p:nvSpPr>
          <p:cNvPr id="2930" name=""/>
          <p:cNvSpPr/>
          <p:nvPr/>
        </p:nvSpPr>
        <p:spPr>
          <a:xfrm>
            <a:off x="533520" y="3505320"/>
            <a:ext cx="714240" cy="2761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1" name=""/>
          <p:cNvGrpSpPr/>
          <p:nvPr/>
        </p:nvGrpSpPr>
        <p:grpSpPr>
          <a:xfrm>
            <a:off x="1066680" y="2581200"/>
            <a:ext cx="685800" cy="587520"/>
            <a:chOff x="1066680" y="2581200"/>
            <a:chExt cx="685800" cy="587520"/>
          </a:xfrm>
        </p:grpSpPr>
        <p:sp>
          <p:nvSpPr>
            <p:cNvPr id="2932" name=""/>
            <p:cNvSpPr/>
            <p:nvPr/>
          </p:nvSpPr>
          <p:spPr>
            <a:xfrm>
              <a:off x="1066680" y="2581200"/>
              <a:ext cx="685800" cy="587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3" name=""/>
            <p:cNvGrpSpPr/>
            <p:nvPr/>
          </p:nvGrpSpPr>
          <p:grpSpPr>
            <a:xfrm>
              <a:off x="1213560" y="2776680"/>
              <a:ext cx="323280" cy="320400"/>
              <a:chOff x="1213560" y="2776680"/>
              <a:chExt cx="323280" cy="320400"/>
            </a:xfrm>
          </p:grpSpPr>
          <p:sp>
            <p:nvSpPr>
              <p:cNvPr id="2934" name=""/>
              <p:cNvSpPr/>
              <p:nvPr/>
            </p:nvSpPr>
            <p:spPr>
              <a:xfrm>
                <a:off x="1219320" y="2792520"/>
                <a:ext cx="287280" cy="28944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356840" y="2825640"/>
                <a:ext cx="170280" cy="186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355040" y="2811240"/>
                <a:ext cx="156960" cy="17100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361520" y="2840760"/>
                <a:ext cx="90720" cy="11448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1219320" y="2964960"/>
                <a:ext cx="128880" cy="13176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1369440" y="2857320"/>
                <a:ext cx="128160" cy="10260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1348200" y="2799360"/>
                <a:ext cx="150480" cy="13212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1378440" y="2811240"/>
                <a:ext cx="113040" cy="13932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1213560" y="2935800"/>
                <a:ext cx="143280" cy="16128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350720" y="2844720"/>
                <a:ext cx="164160" cy="14364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1292760" y="3034440"/>
                <a:ext cx="30600" cy="2592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325520" y="2776680"/>
                <a:ext cx="211320" cy="26244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6" name=""/>
          <p:cNvSpPr/>
          <p:nvPr/>
        </p:nvSpPr>
        <p:spPr>
          <a:xfrm>
            <a:off x="914400" y="3048120"/>
            <a:ext cx="0" cy="379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228960" y="4191120"/>
            <a:ext cx="149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μερολόγια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ε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ταγραφ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8" name="" descr=""/>
          <p:cNvPicPr/>
          <p:nvPr/>
        </p:nvPicPr>
        <p:blipFill>
          <a:blip r:embed="rId2"/>
          <a:stretch/>
        </p:blipFill>
        <p:spPr>
          <a:xfrm>
            <a:off x="3244680" y="2133720"/>
            <a:ext cx="717840" cy="838080"/>
          </a:xfrm>
          <a:prstGeom prst="rect">
            <a:avLst/>
          </a:prstGeom>
          <a:ln w="0">
            <a:noFill/>
          </a:ln>
        </p:spPr>
      </p:pic>
      <p:pic>
        <p:nvPicPr>
          <p:cNvPr id="2949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762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2950" name=""/>
          <p:cNvGrpSpPr/>
          <p:nvPr/>
        </p:nvGrpSpPr>
        <p:grpSpPr>
          <a:xfrm>
            <a:off x="4876920" y="2286000"/>
            <a:ext cx="685800" cy="587520"/>
            <a:chOff x="4876920" y="2286000"/>
            <a:chExt cx="685800" cy="587520"/>
          </a:xfrm>
        </p:grpSpPr>
        <p:sp>
          <p:nvSpPr>
            <p:cNvPr id="2951" name=""/>
            <p:cNvSpPr/>
            <p:nvPr/>
          </p:nvSpPr>
          <p:spPr>
            <a:xfrm>
              <a:off x="4876920" y="2286000"/>
              <a:ext cx="685800" cy="587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52" name=""/>
            <p:cNvGrpSpPr/>
            <p:nvPr/>
          </p:nvGrpSpPr>
          <p:grpSpPr>
            <a:xfrm>
              <a:off x="5023800" y="2481480"/>
              <a:ext cx="323280" cy="320400"/>
              <a:chOff x="5023800" y="2481480"/>
              <a:chExt cx="323280" cy="320400"/>
            </a:xfrm>
          </p:grpSpPr>
          <p:sp>
            <p:nvSpPr>
              <p:cNvPr id="2953" name=""/>
              <p:cNvSpPr/>
              <p:nvPr/>
            </p:nvSpPr>
            <p:spPr>
              <a:xfrm>
                <a:off x="5029560" y="2497320"/>
                <a:ext cx="287280" cy="28944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167080" y="2530440"/>
                <a:ext cx="170280" cy="186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65280" y="2516040"/>
                <a:ext cx="156960" cy="17100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171760" y="2545560"/>
                <a:ext cx="90720" cy="11448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029560" y="2669760"/>
                <a:ext cx="128880" cy="13176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79680" y="2562120"/>
                <a:ext cx="128160" cy="10260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158440" y="2504160"/>
                <a:ext cx="150480" cy="13212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188680" y="2516040"/>
                <a:ext cx="113040" cy="13932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023800" y="2640600"/>
                <a:ext cx="143280" cy="16128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60960" y="2549520"/>
                <a:ext cx="164160" cy="14364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3000" y="2739240"/>
                <a:ext cx="30600" cy="2592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135760" y="2481480"/>
                <a:ext cx="211320" cy="26244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5" name=""/>
          <p:cNvSpPr/>
          <p:nvPr/>
        </p:nvSpPr>
        <p:spPr>
          <a:xfrm>
            <a:off x="3809880" y="3581280"/>
            <a:ext cx="714600" cy="27648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3733200" y="3062160"/>
            <a:ext cx="183600" cy="4190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05680" y="4267080"/>
            <a:ext cx="149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μερολόγια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ε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ταγραφ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4252320" y="3062160"/>
            <a:ext cx="183600" cy="4190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9" name="" descr=""/>
          <p:cNvPicPr/>
          <p:nvPr/>
        </p:nvPicPr>
        <p:blipFill>
          <a:blip r:embed="rId4"/>
          <a:stretch/>
        </p:blipFill>
        <p:spPr>
          <a:xfrm>
            <a:off x="6369120" y="2133720"/>
            <a:ext cx="717480" cy="838080"/>
          </a:xfrm>
          <a:prstGeom prst="rect">
            <a:avLst/>
          </a:prstGeom>
          <a:ln w="0">
            <a:noFill/>
          </a:ln>
        </p:spPr>
      </p:pic>
      <p:pic>
        <p:nvPicPr>
          <p:cNvPr id="2970" name="" descr=""/>
          <p:cNvPicPr/>
          <p:nvPr/>
        </p:nvPicPr>
        <p:blipFill>
          <a:blip r:embed="rId5"/>
          <a:stretch/>
        </p:blipFill>
        <p:spPr>
          <a:xfrm>
            <a:off x="7467480" y="2209680"/>
            <a:ext cx="762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2971" name=""/>
          <p:cNvGrpSpPr/>
          <p:nvPr/>
        </p:nvGrpSpPr>
        <p:grpSpPr>
          <a:xfrm>
            <a:off x="8001000" y="2286000"/>
            <a:ext cx="685800" cy="587520"/>
            <a:chOff x="8001000" y="2286000"/>
            <a:chExt cx="685800" cy="587520"/>
          </a:xfrm>
        </p:grpSpPr>
        <p:sp>
          <p:nvSpPr>
            <p:cNvPr id="2972" name=""/>
            <p:cNvSpPr/>
            <p:nvPr/>
          </p:nvSpPr>
          <p:spPr>
            <a:xfrm>
              <a:off x="8001000" y="2286000"/>
              <a:ext cx="685800" cy="587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8147880" y="2481480"/>
              <a:ext cx="323280" cy="320400"/>
              <a:chOff x="8147880" y="2481480"/>
              <a:chExt cx="323280" cy="320400"/>
            </a:xfrm>
          </p:grpSpPr>
          <p:sp>
            <p:nvSpPr>
              <p:cNvPr id="2974" name=""/>
              <p:cNvSpPr/>
              <p:nvPr/>
            </p:nvSpPr>
            <p:spPr>
              <a:xfrm>
                <a:off x="8153640" y="2497320"/>
                <a:ext cx="287280" cy="28944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291160" y="2530440"/>
                <a:ext cx="170280" cy="186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289360" y="2516040"/>
                <a:ext cx="156960" cy="17100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295840" y="2545560"/>
                <a:ext cx="90720" cy="11448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153640" y="2669760"/>
                <a:ext cx="128880" cy="13176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303760" y="2562120"/>
                <a:ext cx="128160" cy="10260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282520" y="2504160"/>
                <a:ext cx="150480" cy="13212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8312760" y="2516040"/>
                <a:ext cx="113040" cy="13932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8147880" y="2640600"/>
                <a:ext cx="143280" cy="16128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8285040" y="2549520"/>
                <a:ext cx="164160" cy="14364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8227080" y="2739240"/>
                <a:ext cx="30600" cy="2592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8259840" y="2481480"/>
                <a:ext cx="211320" cy="26244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6" name=""/>
          <p:cNvSpPr/>
          <p:nvPr/>
        </p:nvSpPr>
        <p:spPr>
          <a:xfrm>
            <a:off x="6857280" y="3062160"/>
            <a:ext cx="183240" cy="4190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 flipH="1">
            <a:off x="7376040" y="3062160"/>
            <a:ext cx="183240" cy="4190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8" name="j0223550" descr=""/>
          <p:cNvPicPr/>
          <p:nvPr/>
        </p:nvPicPr>
        <p:blipFill>
          <a:blip r:embed="rId6"/>
          <a:stretch/>
        </p:blipFill>
        <p:spPr>
          <a:xfrm>
            <a:off x="6705720" y="3733920"/>
            <a:ext cx="9903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οποθέτηση Σ.Α.Ε. υπολογιστ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ώτα σε κρίσιμους εξυπηρέτ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περιβάλλοντα υψηλής ασφάλειας μετέπειτα εγκατάσταση και σε λοιπούς υπολογιστ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Ίδια τεχνολογ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ταν εγκαθίστανται σε πολλούς υπολογιστές, προτιμώνται προϊόντα με κεντρικοποιημένο σύστημα αναφορά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χέδιο για τακτικό έλεγχο των ευρη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γκεκριμένες εφαρμογ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ιδική περίπτωση της συλλογής πληροφοριών από συγκεκριμένο υπολογιστ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ήθως παρακολουθούν τα ημερολόγια δοσοληψιών ή την επικοινωνία της εφαρμογ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χοντας αυξημένη γνώση για τη συγκεκριμένη εφαρμογή, μπορούν να διαγνώσουν μεγάλο πλήθος παραβιά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καταχρήσεις δικαιω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λειτουργήσουν και σε κρυπτογραφημένα περιβάλλον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λλογή πληροφοριών απ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γκεκριμένες εφαρμογ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ημερολόγια εφαρμογών είναι συνήθως πλημελέστερα προστατευμένα, σε σχέση με αυτά του Λ.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ίναι πολύ ειδικού σκοπ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συμπληρώνονται με Σ.Α.Ε. δικτύου ή υπολογ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εχνικές ανάλυσης συμβάν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καταχρή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δημοφιλέστερη τεχνικ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τοπισμός συμβάντων που είναι χαρακτηρισμένα ως «άσχημα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ανωμαλ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υρίως ερευνητική προσπάθ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σπάθεια εντοπισμού «μη φυσιολογικών» συμπεριφορών στο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ερισσότερα συστήματα χρησιμοποιού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υρίως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νίχνευση καταχρήσεω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με στοιχεί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νίχνευσης ανωμαλ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νίχνευση καταχρήσεω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533520" y="1641240"/>
            <a:ext cx="80769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άλυση της δραστηριότητας του συστήματος για εντοπισμό συμβάντων ή συνόλων συμβάντων που αντιστοιχούν σε γνωστές επιθέ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ιτή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./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www.domain.com/scripts..\..\script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σύστημα μ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ύνδεση από κάποι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η θύρ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ολουθούμενη από σύνδεση από το ίδι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η θύρα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ολουθούμενη από σύνδεση από το ίδι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η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θύρα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+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νίχνευση καταχρήσεω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ενικώς ανιχνεύουν «υπογραφές επιθέσεω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πιο προηγμένες τεχνικές χρησιμοποιούν και κάποια «κατάστασ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ύ αποτελεσματική τεχνική για ανίχνευση επιθέσεων χωρίς πολλές ψευδείς αναφορές επιθέ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ιχνεύουν έγκαιρα συγκεκριμένες επιθέσεις και εργαλεία ώστε να θωρακιστεί κατάλληλα το σύστ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τάλληλα και για διαχειριστές χωρίς ιδιαίτερες τεχνικές γνώ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νίχνευση καταχρήσεω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ιχνεύουν μόνο τις επιθέσεις για τις οποίες γνωρίζουν – ανάγκη ενημέρω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περισσότερες υλοποιήσεις δεν ανιχνεύου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αραλλαγές γνωστών επιθέ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μπλήρωση άλλων τεχν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γκη ύπαρξης παλαιών συστημάτων που δεν μπορούν να επιδιορθωθούν ή να ενημερωθού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αν είναι διαθέσιμα προγράμματα επιδιόρθωσης, δεν είναι εύκολο να εγκαθίστανται πάντα εγκαίρως, ειδικά σε πολύπλοκα περιβάλλον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απαιτούν την παροχή υπηρεσιών που είναι ευάλωτες σε επιθέ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ες και διαχειριστές κάνουν λάθη στη χρήση και ρύθμιση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πολιτική ασφάλειας δεν απεικονίζεται πάντα πιστά στους κανόνες πρόσβ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Συνολικά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τοπισμός εισβολών και επισήμανση στους διαχειριστ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ίχνευση ανωμαλ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Βασική υπόθεση: η επίθεση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ιαφέρει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πό την κανονική χρή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ειάζονται κωδικοποιήσεις τη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ανονικής συμπεριφορά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σκευάζονται από ιστορικά στοιχεία που συλλέγονται σε κάποια χρονική περίοδ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φορούν χρήστες, υπολογιστές ή δικτυακές συνδέ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παρατηρούμενη συμπεριφορά του κάθε χρήστη συγκρίνεται με την αντίστοιχη κωδικοποίηση κανονικής συμπεριφορά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τρα και τεχνικές για ανίχνευση ανωμαλ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κατωφλί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γκεκριμένα χαρακτηριστικά της συμπεριφοράς χρηστών και του συστήματος εκφράζονται ως πληθάριθμ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λήθος αρχείων που προσπελαύνονται σε χρονικό διάστημα, πλήθος σφαλμάτων σύνδεσης, φόρτος ΚΜΕ για συγκεκριμένη διεργασία κ.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άρχουν περιθώρια σφάλμα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όρια είναι στατικά ή δυναμικ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ατιστικά, παραμετρικά (το μέγεθος ακολουθεί κατανομή) ή μη (το μέγεθος συνάγεται από ιστορικά στοιχεί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έτρα βασιζόμενα σε κανόνες που ορίζουν αποδεκτές συμπεριφορές αλλά ποιοτικά, όχι ποσοτ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κατάλογοι εγγράφων που χρησιμοποιεί ένας χρήστ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ευρωνικά δίκτυα, γενετικοί αλγόριθμοι κ.λ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όνο οι δύο πρώτες κατηγορίες χρησιμοποιούνται πρακτ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ανίχνευσης ανωμαλ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ανιχνεύσουν νέους τύπους επιθέ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τροφοδοτήσουν τα συστήματα ανίχνευσης καταχρήσεων με κανόν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άση για δημιουργία ψευδών αναφορών εισβολ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ειάζονται εκτεταμένα στοιχεία για δημιουργία κωδικοποιήσεων «κανονικής συμπεριφορά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τιδράσεις των Σ.Α.Ε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εργές αντιδρά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λλογή περισσοτέρων πληροφορ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οχεύει στην καλύτερη αξιολόγηση της επίθεσης ή/και τη συλλογή στοιχείων για νομικές ενέργει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ύξηση της ευαισθησίας των «αισθητήρων» π.χ. αρχείων καταγραφής, πακέτων δικτύου που αναλύονται κ.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ροποποίηση περιβάλλον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οχεύει στο να οδηγήσει την επίθεση σε αποτυχ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ολή πακέτων τερματισμού σύνδεσης, επαναρύθμιση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ewalls 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ι δρομολογητών εισάγοντας απαγορεύσεις για διευθύνσει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θυρών, δικτυακών πρωτοκόλλων, υπηρεσιών ή φυσικών συνδέ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επίθε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ήση τεχνικών για αδρανοποίηση του επιτιθέμενου ή συλλογή πληροφοριών για αυτό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πορεί να έχει νομικά προβλήματα, να «θυμώσει» τους εισβολείς ή και να την πληρώσουν αθώο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Πάντ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με ανθρώπινη επίβλεψη ειδ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τιδράσεις των Σ.Α.Ε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θητικές αντιδρά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ιδοποιήσεις και συναγερμο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ο προσωπ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κυμαινόμενο βαθμό λεπτομέρ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χώρο της εφαρμογής, σε παράθυρο μηνύματος, σε συσκευές τηλεειδοποίησης, με μηνύματα σε κινητ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ηλεκτρονικό ταχυδρομείο είναι επισφαλ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η του πρωτοκόλλ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ήθως οι αναφορές προωθούνται σε κάποιο σύστημα διαχείρισης δικτύ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ξιοποιεί περαιτέρω μια δαπανηρή υποδομή (λογισμικού και επικοινωνίας), ολοκληρώνει τις λειτουργίες διαχείρισης, λιγότερο απαιτητικό σε πόρους από μία ενεργό αντίδρα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.Α.Ε.: Αυτοάμυν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στασία του ίδιου του Σ.Α.Ε. από ανίχνευση, παράκαμψη ή αχρήστευ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τρα ώστε το ίδιο το Σ.Α.Ε. να μην γίνεται στόχ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Σ.Α.Ε. να μην κοινοποιεί την παρουσία του με δικτυακά μηνύματα καθολικής εκπομπ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σε περιστάσεις συναγερ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ήση ξεχωριστών καναλιών επικοινωνίας, κρυπτογράφηση, διακρίβωση ταυτ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ργαλεία εντοπισμού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ερισσότερα συστήματα έχουν χαμηλότερη ασφάλεια από αυτή που επιτρέπουν οι μηχανισμοί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όγω κακής χρήσης των μηχανισμών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όγω κακών ρυθμί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ολλές φορές συγχέεται η ύπαρξη μηχανισμών με την αποτελεσματική τους χρή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εργαλεία εντοπισμού ευπαθειών ελέγχουν αν οι μηχανισμοί ελέγχου χρησιμοποιούνται σωστά και το επίπεδο ασφάλειας των ρυθμί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έλεγχος γίνεται στη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ατάστα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ου συστήματος,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όχι στις ενέργειες που γίνο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θηματικά που είναι εύκολο να μαντευθ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επαρκώς προστατευμένα αρχεία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υνατότητα εμφύτευσης δούρειων ίππ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θυστέρηση στην εγκατάσταση προγραμμάτων επιδιόρθω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εργαλεία εντοπισμού ευπαθειών βοηθούν τους διαχειριστές να αντιμετωπίσουν το μεγάλο πλήθος θεματικών ενοτήτων και ρυθμί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μονωμένα δικτυακώς συστ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ηχανισμοί διακρίβωσης ταυτότητ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εριεχόμενα και δικαιώματα πρόσβασης σε κρίσιμα αρχεία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εριεχόμενα και δικαιώματα πρόσβασης σε κρίσιμα αρχεία του περιβάλλοντος των χρηστ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όληψη και ανίχνευση αλλαγών σε προγράμματα του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για υποσυστήματα συνθημα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ήκο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άρκεια ζωή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όπος δημιουργίας συνθηματ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ογή από τον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υχα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όπος αποθήκε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ρυπτογραφημένα έναντι απλό κείμενο, σε απροσπέλαστο έναντι αναγνώσιμου αρχεί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ντοπισμός και αντιμετώπιση προσπαθειών ανίχνευ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υπικό σχήμα επίθεση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προσφερομένων υπηρεσ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άσυρση από βιβλιοθήκες τεχνικών επίθ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ήση τεχνικών επίθ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σύστημα ανίχνευσης εισβολ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εμποδίζει την ανίχνευση υπηρεσ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οθαρρύνει τον επίδοξο εισβολέ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ημερώνει τους διαχειρι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σε αρχεία διαμόρφωσης περιβάλλοντος χρήστ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ατομικών αρχείων διαμόρφωσης περιβάλλοντος από τροποποιήσεις τρί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ευαίσθητων ατομικών αρχείων από αναγνώσεις τρί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προσωπικοί ή αναξιόπιστοι κατάλογοι πριν από καταλόγους συστήματος στη μεταβλητή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ων δικαιωμάτων που αποδίδονται εξ ορισμού στη δημιουργία αρχε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ου προσωπικού χώρου αρχείων από εγγραφέ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ρχεία συστήματ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υνατότητα τροποποίησης των αρχείων συστήματος (εκτελέσιμα και διαμόρφωσης) μόνο για τους διαχειρι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σκόπηση των εκτελέσιμων αρχείων για απρόσμενες αλλα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ων αρχείων εκκίνησης για εξασφάλιση ότι χρησιμοποιούν ασφαλείς ρυθμίσεις και καλούν ασφαλή προγράμ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ων αρχείων καταγραφής λειτουργιών από τροποποιή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κτυωμένοι υπολογιστ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λες οι ευπάθειες των απομονωμένω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συ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υτές που οφείλονται στη δικτύω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δικτύωση επιτρέπει σε απομακρυσμένα συστήματα ή χρήστες να χρησιμοποιήσουν πόρους του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βλή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ες ή συστήματα επιχειρούν προσπελάσει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ροσποιούμενο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άλλους χρήστες ή συστ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γκατάσταση δουρείων ίππων ή εισβολή με «σκουλήκια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καμψη μηχανισμών ασφάλειας από απομακρυσμένα συστήματα ή 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304560" y="164124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Άξονες κατηγοριοποί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εργός έναντι παθητικού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εργός: ικανότητα παραβίασης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ευπάθ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Έλεγχος αν η προσπάθεια σύνδεσης με «εύκολα» συνθηματικά επιτυγχάν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θητικός: έλεγχος της κατάστασης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Έλεγχος των δικαιωμάτων του αρχείου συνθηματικών, αντιγραφή του και προσπάθεια ανεύρεσης συνθηματικών βάσει λεξικ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παθητικοί έλεγχοι είναι πιο πλήρεις και πιο αποδοτικο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ενεργητικοί έλεγχοι μπορεί να είναι η μόνη επιλογή, αλλά είναι πιο επικίνδυνοι (δούρειοι ίππο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λίμακα ελέγχ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γκεκριμένη ευπάθεια έναντι συνολικού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ελέγχους συγκεκριμένων ευπαθειών εντοπίζονται μεμονωμένα προβλ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συνολικούς ελέγχους εντοπίζονται συνολικές επιπτώ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αρχεία εκκίνησης χρήστη δεν είναι προστατευ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χρήστης έχει το δικαίωμα να τροποποιεί το αρχείο συνθηματ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έθοδοι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πικά, δικτυακά και κατανεμημένα εργαλ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πικά εργαλεία: ελέγχουν το σύστημα στο οποίο εκτελού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έγχουν τοπικά και προσαρτημένα αντικείμε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κτυακά εργαλεία: εξετάζουν απομακρυσμένα συστ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δέσεις μέσω δικτύων για προσπέλαση αντικειμένων και υπηρεσ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νεμημένα συστήματα: εφαρμόζουν ελέγχους ανάλογα με τον ρόλο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διαίτερα χρήσιμα σε περιστάσεις όπου συστήματα εμπιστεύονται το ένα το άλλ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εθοδολογία αναφορ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ε τοπικό διαχειριστ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ε κεντρικό επόπτη ασφάλ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εργαλείου: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curity Analysis Tool for Auditing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λλέγει πληροφορίες για απομακρυσμένους υπολογιστές και δίκτυ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Ύπαρξη υπηρε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μόρφωση υπηρε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σω κανόνων που ορίζει ο χρήστης μπορεί να αναλύσει τις επιπτώσεις των διαμορφώ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ι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υπαθή προγράμματα υπηρεσία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υπάθειες τ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F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θολικά δικαιώματα χρήσης, διαμοιρασμός μέσω τ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rtmap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ο σύστημ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IS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ίνει τα συνθηματικ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αρέχεται υπηρεσί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X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επαλαιωμένες εκδόσεις τ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ndma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ρόσβαση σε υπηρεσί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Ύπαρξη «</a:t>
            </a:r>
            <a:r>
              <a:rPr b="1" i="1" lang="el-GR" sz="2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» στ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sts.equi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θολική πρόσβαση σε υπηρεσίε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-Windo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θολική πρόσβαση σ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dem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αυτόματης επανάκληση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γγράψιμος αρχικός κατάλογος ανώνυμου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βάση στοιχε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αυτότητα συστήματο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Υπηρεσ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τάσταση (ενεργός, ανενεργός, ανύπαρκτος κ.λπ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ρισιμότητα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s –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υνολική πρόσβαση ή πρόσβαση υπερχρήστη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us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– πρόσβαση χρήστη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ns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– πρόσβαση χρήστη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bod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uw –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γγραφή αρχείου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nr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– ανάγνωση από όλου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οιος εμπιστεύετα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, root, nobody, any}@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ιον εμπιστεύε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ξοδ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είμε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εκμηρίωση υπαρκτών απειλ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τεκμηρίωση πείθει τη διοίκηση για χρηματοδότ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Βοηθά στον προσδιορισμό των μέτρων ασφάλειας που είναι πιο κατάλληλα για το σύστ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Βοηθά στην ορθολογική κατανομή των πόρων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AN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βάση κανό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διαφορ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$text =~ /exports \/cdrom/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συμπερα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runs rexd/     $target|assert|a|us|ANY@$target|ANY@ANY|REXD access|rexd is vuln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ενεργε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$service eq "ypserv" $target "ypbind.satan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/IRIX/ $target "rsh.satan" "-u guest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όνες διαμόρφωσης εξόδ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λογιστ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ηρεσ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μπιστοσύν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οντέλο διαδικασιών για ανίχνευση εισβολ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ύρια συστατικ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ηγές πληροφορ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ήθως: παρακολούθηση δικτύου, υπολογιστών, εφαρμογ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άλυση πληροφορ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αγωγή συμπερασμάτων για απόπειρες εισβολών, επιτυχημένες εισβολές, συνέπειες εισβολ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ηθέστερα: ανίχνευση καταχρήσεων, ανίχνευση ανωμαλ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τίδρ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εργά έναντι παθητικών μέτρ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ρχιτεκτονικ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«Συστέγαση» παρακολουθούμενου και Σ.Α.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αίτερα οικονομικό, κυρίως για εγκαταστάσεις με μεγάλους υπολογι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ν ο εισβολέας επιτύχει απενεργοποιεί το Σ.Α.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ακολουθούμενος χωριστά από Σ.Α.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αλύτερο κόσ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ερισσότερη ασφάλεια - ο εισβολέας μπορεί να μην γνωρίζει ούτε την ύπαρξη του Σ.Α.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τόχο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534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ταλογισμός ευθυν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ιγότερο εφικτός σε συστήματα μ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/IP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ι χαλαρούς μηχανισμούς πιστοποίησης ταυτ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ν ξέρω τους υπεύθυνους, αντιμετωπίζω τα πάν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τίδρ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δυνατότητα αναγνώρισης των εισβολών και η παρεμπόδισή τους από την επίτευξη του στόχου τ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ρκεί να αντιλαμβάνομαι τις επιθέσεις και να τις σταματά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00"/>
                </a:solidFill>
                <a:latin typeface="Times New Roman"/>
              </a:rPr>
              <a:t>Συγκεντρωτική στρατηγική ελέγχου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Cloud"/>
          <p:cNvSpPr/>
          <p:nvPr/>
        </p:nvSpPr>
        <p:spPr>
          <a:xfrm>
            <a:off x="7238880" y="3276720"/>
            <a:ext cx="16988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2362320"/>
            <a:ext cx="852480" cy="730080"/>
            <a:chOff x="380880" y="2362320"/>
            <a:chExt cx="852480" cy="730080"/>
          </a:xfrm>
        </p:grpSpPr>
        <p:sp>
          <p:nvSpPr>
            <p:cNvPr id="110" name=""/>
            <p:cNvSpPr/>
            <p:nvPr/>
          </p:nvSpPr>
          <p:spPr>
            <a:xfrm>
              <a:off x="380880" y="23623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63400" y="2605320"/>
              <a:ext cx="401760" cy="397440"/>
              <a:chOff x="563400" y="2605320"/>
              <a:chExt cx="401760" cy="3974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0600" y="2625120"/>
                <a:ext cx="357120" cy="35928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1600" y="2666160"/>
                <a:ext cx="211680" cy="23148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9080" y="2648520"/>
                <a:ext cx="195480" cy="21204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7720" y="268488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0600" y="283896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080" y="270540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1160" y="263376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8600" y="2648520"/>
                <a:ext cx="140760" cy="17280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3400" y="280260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4040" y="268992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2040" y="292536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2360" y="260532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048120" y="1295280"/>
            <a:ext cx="852480" cy="730440"/>
            <a:chOff x="3048120" y="1295280"/>
            <a:chExt cx="852480" cy="730440"/>
          </a:xfrm>
        </p:grpSpPr>
        <p:sp>
          <p:nvSpPr>
            <p:cNvPr id="125" name=""/>
            <p:cNvSpPr/>
            <p:nvPr/>
          </p:nvSpPr>
          <p:spPr>
            <a:xfrm>
              <a:off x="3048120" y="12952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14160" y="1651320"/>
              <a:ext cx="203040" cy="184680"/>
              <a:chOff x="3314160" y="1651320"/>
              <a:chExt cx="203040" cy="18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3489120" y="17589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14160" y="176004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36480" y="17589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1680" y="17697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494880" y="17589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14160" y="17794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14160" y="17794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14160" y="182448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14160" y="182448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53480" y="17938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79320" y="17895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79320" y="17895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91560" y="17895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99840" y="17895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19560" y="17845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15240" y="17820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15240" y="17794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80040" y="17913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72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72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36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36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36480" y="16718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8880" y="17589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4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4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6560" y="16808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3336480" y="17654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36920" y="17870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36920" y="17902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24320" y="17913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16320" y="17834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20280" y="17834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23880" y="17834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27840" y="17834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31440" y="17834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35400" y="17834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14160" y="165132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52680" y="168012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398040" y="1712160"/>
              <a:ext cx="203040" cy="185040"/>
              <a:chOff x="3398040" y="1712160"/>
              <a:chExt cx="203040" cy="185040"/>
            </a:xfrm>
          </p:grpSpPr>
          <p:sp>
            <p:nvSpPr>
              <p:cNvPr id="167" name=""/>
              <p:cNvSpPr/>
              <p:nvPr/>
            </p:nvSpPr>
            <p:spPr>
              <a:xfrm>
                <a:off x="3573000" y="18198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98040" y="18212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20360" y="18198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45560" y="18309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578760" y="18198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98040" y="18406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98040" y="18406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98040" y="18856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8040" y="18856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37360" y="18547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63200" y="18507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63200" y="18507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75440" y="18507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83720" y="18507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03440" y="18457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99120" y="18428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99120" y="18406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63920" y="18525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6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56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20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20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0360" y="17326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42760" y="18198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38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38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17416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3420360" y="18262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20800" y="18478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20800" y="18514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08200" y="18525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00200" y="18446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04160" y="18446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07760" y="18446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11720" y="18446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15320" y="18446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19280" y="18446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98040" y="17121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6560" y="17413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497040" y="1788480"/>
              <a:ext cx="203040" cy="185040"/>
              <a:chOff x="3497040" y="1788480"/>
              <a:chExt cx="203040" cy="185040"/>
            </a:xfrm>
          </p:grpSpPr>
          <p:sp>
            <p:nvSpPr>
              <p:cNvPr id="207" name=""/>
              <p:cNvSpPr/>
              <p:nvPr/>
            </p:nvSpPr>
            <p:spPr>
              <a:xfrm>
                <a:off x="3672000" y="189612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97040" y="18975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19360" y="189612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544560" y="19072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677760" y="189612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97040" y="19170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97040" y="19170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7040" y="196200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97040" y="196200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36360" y="193104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62200" y="19270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62200" y="19270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74440" y="19270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82720" y="19270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02440" y="19220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98120" y="191916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498120" y="19170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62920" y="19288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55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55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19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19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19360" y="180900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41760" y="189612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37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37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29440" y="181800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519360" y="190260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19800" y="192420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19800" y="19278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07200" y="19288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99200" y="19209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03160" y="19209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06760" y="19209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10720" y="19209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14320" y="19209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18280" y="19209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497040" y="178848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35560" y="181764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2514600" y="3560760"/>
            <a:ext cx="838080" cy="719280"/>
            <a:chOff x="2514600" y="3560760"/>
            <a:chExt cx="838080" cy="719280"/>
          </a:xfrm>
        </p:grpSpPr>
        <p:sp>
          <p:nvSpPr>
            <p:cNvPr id="247" name=""/>
            <p:cNvSpPr/>
            <p:nvPr/>
          </p:nvSpPr>
          <p:spPr>
            <a:xfrm>
              <a:off x="2514600" y="3560760"/>
              <a:ext cx="838080" cy="719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8" name="j0249067" descr=""/>
            <p:cNvPicPr/>
            <p:nvPr/>
          </p:nvPicPr>
          <p:blipFill>
            <a:blip r:embed="rId13"/>
            <a:stretch/>
          </p:blipFill>
          <p:spPr>
            <a:xfrm>
              <a:off x="2762640" y="3858120"/>
              <a:ext cx="3402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5334120" y="2543040"/>
            <a:ext cx="714240" cy="2764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4"/>
          <a:stretch/>
        </p:blipFill>
        <p:spPr>
          <a:xfrm>
            <a:off x="3733920" y="2362320"/>
            <a:ext cx="892080" cy="593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5"/>
          <a:stretch/>
        </p:blipFill>
        <p:spPr>
          <a:xfrm>
            <a:off x="5486400" y="4527720"/>
            <a:ext cx="422280" cy="57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715000" y="3124080"/>
            <a:ext cx="0" cy="26064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4146480"/>
            <a:ext cx="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809880"/>
            <a:ext cx="68580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6"/>
          <a:stretch/>
        </p:blipFill>
        <p:spPr>
          <a:xfrm>
            <a:off x="3733920" y="4572000"/>
            <a:ext cx="892080" cy="59364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2590920" y="4800600"/>
            <a:ext cx="685800" cy="536400"/>
            <a:chOff x="2590920" y="4800600"/>
            <a:chExt cx="685800" cy="536400"/>
          </a:xfrm>
        </p:grpSpPr>
        <p:sp>
          <p:nvSpPr>
            <p:cNvPr id="257" name=""/>
            <p:cNvSpPr/>
            <p:nvPr/>
          </p:nvSpPr>
          <p:spPr>
            <a:xfrm>
              <a:off x="2590920" y="48006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800600"/>
              <a:ext cx="685800" cy="31464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920" y="49586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495864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42280" y="484164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96040" y="495864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07920" y="483696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35080" y="496836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6960" y="484776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9640" y="496332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14040" y="484164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9040" y="497448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666880" y="2511360"/>
            <a:ext cx="685800" cy="536400"/>
            <a:chOff x="2666880" y="2511360"/>
            <a:chExt cx="685800" cy="536400"/>
          </a:xfrm>
        </p:grpSpPr>
        <p:sp>
          <p:nvSpPr>
            <p:cNvPr id="294" name=""/>
            <p:cNvSpPr/>
            <p:nvPr/>
          </p:nvSpPr>
          <p:spPr>
            <a:xfrm>
              <a:off x="2666880" y="2511360"/>
              <a:ext cx="685800" cy="3150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6880" y="2511360"/>
              <a:ext cx="685800" cy="315000"/>
            </a:xfrm>
            <a:custGeom>
              <a:avLst/>
              <a:gdLst/>
              <a:ahLst/>
              <a:rect l="l" t="t" r="r" b="b"/>
              <a:pathLst>
                <a:path w="751" h="259">
                  <a:moveTo>
                    <a:pt x="751" y="130"/>
                  </a:moveTo>
                  <a:lnTo>
                    <a:pt x="750" y="123"/>
                  </a:lnTo>
                  <a:lnTo>
                    <a:pt x="749" y="116"/>
                  </a:lnTo>
                  <a:lnTo>
                    <a:pt x="746" y="110"/>
                  </a:lnTo>
                  <a:lnTo>
                    <a:pt x="743" y="104"/>
                  </a:lnTo>
                  <a:lnTo>
                    <a:pt x="739" y="97"/>
                  </a:lnTo>
                  <a:lnTo>
                    <a:pt x="734" y="91"/>
                  </a:lnTo>
                  <a:lnTo>
                    <a:pt x="728" y="85"/>
                  </a:lnTo>
                  <a:lnTo>
                    <a:pt x="721" y="79"/>
                  </a:lnTo>
                  <a:lnTo>
                    <a:pt x="714" y="73"/>
                  </a:lnTo>
                  <a:lnTo>
                    <a:pt x="705" y="68"/>
                  </a:lnTo>
                  <a:lnTo>
                    <a:pt x="696" y="62"/>
                  </a:lnTo>
                  <a:lnTo>
                    <a:pt x="686" y="57"/>
                  </a:lnTo>
                  <a:lnTo>
                    <a:pt x="676" y="52"/>
                  </a:lnTo>
                  <a:lnTo>
                    <a:pt x="665" y="47"/>
                  </a:lnTo>
                  <a:lnTo>
                    <a:pt x="653" y="42"/>
                  </a:lnTo>
                  <a:lnTo>
                    <a:pt x="641" y="38"/>
                  </a:lnTo>
                  <a:lnTo>
                    <a:pt x="628" y="34"/>
                  </a:lnTo>
                  <a:lnTo>
                    <a:pt x="614" y="30"/>
                  </a:lnTo>
                  <a:lnTo>
                    <a:pt x="600" y="26"/>
                  </a:lnTo>
                  <a:lnTo>
                    <a:pt x="585" y="22"/>
                  </a:lnTo>
                  <a:lnTo>
                    <a:pt x="570" y="19"/>
                  </a:lnTo>
                  <a:lnTo>
                    <a:pt x="554" y="16"/>
                  </a:lnTo>
                  <a:lnTo>
                    <a:pt x="538" y="13"/>
                  </a:lnTo>
                  <a:lnTo>
                    <a:pt x="521" y="10"/>
                  </a:lnTo>
                  <a:lnTo>
                    <a:pt x="504" y="8"/>
                  </a:lnTo>
                  <a:lnTo>
                    <a:pt x="487" y="6"/>
                  </a:lnTo>
                  <a:lnTo>
                    <a:pt x="469" y="4"/>
                  </a:lnTo>
                  <a:lnTo>
                    <a:pt x="451" y="3"/>
                  </a:lnTo>
                  <a:lnTo>
                    <a:pt x="433" y="2"/>
                  </a:lnTo>
                  <a:lnTo>
                    <a:pt x="414" y="1"/>
                  </a:lnTo>
                  <a:lnTo>
                    <a:pt x="395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2"/>
                  </a:lnTo>
                  <a:lnTo>
                    <a:pt x="300" y="3"/>
                  </a:lnTo>
                  <a:lnTo>
                    <a:pt x="281" y="4"/>
                  </a:lnTo>
                  <a:lnTo>
                    <a:pt x="264" y="6"/>
                  </a:lnTo>
                  <a:lnTo>
                    <a:pt x="246" y="8"/>
                  </a:lnTo>
                  <a:lnTo>
                    <a:pt x="229" y="10"/>
                  </a:lnTo>
                  <a:lnTo>
                    <a:pt x="213" y="13"/>
                  </a:lnTo>
                  <a:lnTo>
                    <a:pt x="196" y="16"/>
                  </a:lnTo>
                  <a:lnTo>
                    <a:pt x="181" y="19"/>
                  </a:lnTo>
                  <a:lnTo>
                    <a:pt x="165" y="22"/>
                  </a:lnTo>
                  <a:lnTo>
                    <a:pt x="151" y="26"/>
                  </a:lnTo>
                  <a:lnTo>
                    <a:pt x="137" y="30"/>
                  </a:lnTo>
                  <a:lnTo>
                    <a:pt x="123" y="34"/>
                  </a:lnTo>
                  <a:lnTo>
                    <a:pt x="110" y="38"/>
                  </a:lnTo>
                  <a:lnTo>
                    <a:pt x="97" y="42"/>
                  </a:lnTo>
                  <a:lnTo>
                    <a:pt x="86" y="47"/>
                  </a:lnTo>
                  <a:lnTo>
                    <a:pt x="75" y="52"/>
                  </a:lnTo>
                  <a:lnTo>
                    <a:pt x="64" y="57"/>
                  </a:lnTo>
                  <a:lnTo>
                    <a:pt x="54" y="62"/>
                  </a:lnTo>
                  <a:lnTo>
                    <a:pt x="45" y="68"/>
                  </a:lnTo>
                  <a:lnTo>
                    <a:pt x="37" y="73"/>
                  </a:lnTo>
                  <a:lnTo>
                    <a:pt x="29" y="79"/>
                  </a:lnTo>
                  <a:lnTo>
                    <a:pt x="23" y="85"/>
                  </a:lnTo>
                  <a:lnTo>
                    <a:pt x="17" y="91"/>
                  </a:lnTo>
                  <a:lnTo>
                    <a:pt x="12" y="97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7" y="168"/>
                  </a:lnTo>
                  <a:lnTo>
                    <a:pt x="23" y="174"/>
                  </a:lnTo>
                  <a:lnTo>
                    <a:pt x="29" y="180"/>
                  </a:lnTo>
                  <a:lnTo>
                    <a:pt x="37" y="186"/>
                  </a:lnTo>
                  <a:lnTo>
                    <a:pt x="45" y="191"/>
                  </a:lnTo>
                  <a:lnTo>
                    <a:pt x="54" y="197"/>
                  </a:lnTo>
                  <a:lnTo>
                    <a:pt x="64" y="202"/>
                  </a:lnTo>
                  <a:lnTo>
                    <a:pt x="75" y="207"/>
                  </a:lnTo>
                  <a:lnTo>
                    <a:pt x="86" y="212"/>
                  </a:lnTo>
                  <a:lnTo>
                    <a:pt x="97" y="217"/>
                  </a:lnTo>
                  <a:lnTo>
                    <a:pt x="110" y="221"/>
                  </a:lnTo>
                  <a:lnTo>
                    <a:pt x="123" y="225"/>
                  </a:lnTo>
                  <a:lnTo>
                    <a:pt x="137" y="230"/>
                  </a:lnTo>
                  <a:lnTo>
                    <a:pt x="151" y="233"/>
                  </a:lnTo>
                  <a:lnTo>
                    <a:pt x="165" y="237"/>
                  </a:lnTo>
                  <a:lnTo>
                    <a:pt x="181" y="240"/>
                  </a:lnTo>
                  <a:lnTo>
                    <a:pt x="196" y="243"/>
                  </a:lnTo>
                  <a:lnTo>
                    <a:pt x="213" y="246"/>
                  </a:lnTo>
                  <a:lnTo>
                    <a:pt x="229" y="249"/>
                  </a:lnTo>
                  <a:lnTo>
                    <a:pt x="246" y="251"/>
                  </a:lnTo>
                  <a:lnTo>
                    <a:pt x="264" y="253"/>
                  </a:lnTo>
                  <a:lnTo>
                    <a:pt x="281" y="255"/>
                  </a:lnTo>
                  <a:lnTo>
                    <a:pt x="300" y="257"/>
                  </a:lnTo>
                  <a:lnTo>
                    <a:pt x="318" y="258"/>
                  </a:lnTo>
                  <a:lnTo>
                    <a:pt x="337" y="258"/>
                  </a:lnTo>
                  <a:lnTo>
                    <a:pt x="356" y="259"/>
                  </a:lnTo>
                  <a:lnTo>
                    <a:pt x="375" y="259"/>
                  </a:lnTo>
                  <a:lnTo>
                    <a:pt x="395" y="259"/>
                  </a:lnTo>
                  <a:lnTo>
                    <a:pt x="414" y="258"/>
                  </a:lnTo>
                  <a:lnTo>
                    <a:pt x="433" y="258"/>
                  </a:lnTo>
                  <a:lnTo>
                    <a:pt x="451" y="257"/>
                  </a:lnTo>
                  <a:lnTo>
                    <a:pt x="469" y="255"/>
                  </a:lnTo>
                  <a:lnTo>
                    <a:pt x="487" y="253"/>
                  </a:lnTo>
                  <a:lnTo>
                    <a:pt x="504" y="251"/>
                  </a:lnTo>
                  <a:lnTo>
                    <a:pt x="521" y="249"/>
                  </a:lnTo>
                  <a:lnTo>
                    <a:pt x="538" y="246"/>
                  </a:lnTo>
                  <a:lnTo>
                    <a:pt x="554" y="243"/>
                  </a:lnTo>
                  <a:lnTo>
                    <a:pt x="570" y="240"/>
                  </a:lnTo>
                  <a:lnTo>
                    <a:pt x="585" y="237"/>
                  </a:lnTo>
                  <a:lnTo>
                    <a:pt x="600" y="233"/>
                  </a:lnTo>
                  <a:lnTo>
                    <a:pt x="614" y="230"/>
                  </a:lnTo>
                  <a:lnTo>
                    <a:pt x="628" y="225"/>
                  </a:lnTo>
                  <a:lnTo>
                    <a:pt x="641" y="221"/>
                  </a:lnTo>
                  <a:lnTo>
                    <a:pt x="653" y="217"/>
                  </a:lnTo>
                  <a:lnTo>
                    <a:pt x="665" y="212"/>
                  </a:lnTo>
                  <a:lnTo>
                    <a:pt x="676" y="207"/>
                  </a:lnTo>
                  <a:lnTo>
                    <a:pt x="686" y="202"/>
                  </a:lnTo>
                  <a:lnTo>
                    <a:pt x="696" y="197"/>
                  </a:lnTo>
                  <a:lnTo>
                    <a:pt x="705" y="191"/>
                  </a:lnTo>
                  <a:lnTo>
                    <a:pt x="714" y="186"/>
                  </a:lnTo>
                  <a:lnTo>
                    <a:pt x="721" y="180"/>
                  </a:lnTo>
                  <a:lnTo>
                    <a:pt x="728" y="174"/>
                  </a:lnTo>
                  <a:lnTo>
                    <a:pt x="734" y="168"/>
                  </a:lnTo>
                  <a:lnTo>
                    <a:pt x="739" y="162"/>
                  </a:lnTo>
                  <a:lnTo>
                    <a:pt x="743" y="156"/>
                  </a:lnTo>
                  <a:lnTo>
                    <a:pt x="746" y="149"/>
                  </a:lnTo>
                  <a:lnTo>
                    <a:pt x="749" y="143"/>
                  </a:lnTo>
                  <a:lnTo>
                    <a:pt x="750" y="136"/>
                  </a:lnTo>
                  <a:lnTo>
                    <a:pt x="751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266940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2669400"/>
              <a:ext cx="685800" cy="37836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8240" y="2552760"/>
              <a:ext cx="225360" cy="997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72000" y="2669400"/>
              <a:ext cx="224280" cy="10332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83880" y="2547720"/>
              <a:ext cx="227160" cy="9864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11040" y="2679120"/>
              <a:ext cx="224640" cy="9936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22920" y="2558520"/>
              <a:ext cx="224640" cy="982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5600" y="2674440"/>
              <a:ext cx="226440" cy="1044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90000" y="2552760"/>
              <a:ext cx="224640" cy="997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5000" y="2685240"/>
              <a:ext cx="225360" cy="9684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>
            <a:off x="4571640" y="3994200"/>
            <a:ext cx="609480" cy="80640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3048120"/>
            <a:ext cx="685800" cy="6411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7"/>
          <a:stretch/>
        </p:blipFill>
        <p:spPr>
          <a:xfrm>
            <a:off x="16765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8"/>
          <a:stretch/>
        </p:blipFill>
        <p:spPr>
          <a:xfrm>
            <a:off x="16765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9"/>
          <a:stretch/>
        </p:blipFill>
        <p:spPr>
          <a:xfrm>
            <a:off x="167652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0"/>
          <a:stretch/>
        </p:blipFill>
        <p:spPr>
          <a:xfrm>
            <a:off x="16765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1"/>
          <a:stretch/>
        </p:blipFill>
        <p:spPr>
          <a:xfrm>
            <a:off x="1676520" y="571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2"/>
          <a:stretch/>
        </p:blipFill>
        <p:spPr>
          <a:xfrm>
            <a:off x="2362320" y="5791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209680" y="2286000"/>
            <a:ext cx="38124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09320" y="2819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209320" y="3048120"/>
            <a:ext cx="38124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09320" y="5105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133720" y="5334120"/>
            <a:ext cx="457200" cy="30456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666880" y="5410080"/>
            <a:ext cx="76320" cy="30492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352320" y="5105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28640" y="2819520"/>
            <a:ext cx="304920" cy="0"/>
          </a:xfrm>
          <a:prstGeom prst="line">
            <a:avLst/>
          </a:prstGeom>
          <a:ln cap="sq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57800" y="5594400"/>
            <a:ext cx="852480" cy="730080"/>
            <a:chOff x="5257800" y="5594400"/>
            <a:chExt cx="852480" cy="730080"/>
          </a:xfrm>
        </p:grpSpPr>
        <p:sp>
          <p:nvSpPr>
            <p:cNvPr id="347" name=""/>
            <p:cNvSpPr/>
            <p:nvPr/>
          </p:nvSpPr>
          <p:spPr>
            <a:xfrm>
              <a:off x="5257800" y="559440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8" name="HM00429_" descr=""/>
            <p:cNvPicPr/>
            <p:nvPr/>
          </p:nvPicPr>
          <p:blipFill>
            <a:blip r:embed="rId23"/>
            <a:stretch/>
          </p:blipFill>
          <p:spPr>
            <a:xfrm>
              <a:off x="5486400" y="597528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5257800" y="1295280"/>
            <a:ext cx="852480" cy="730080"/>
            <a:chOff x="5257800" y="1295280"/>
            <a:chExt cx="852480" cy="730080"/>
          </a:xfrm>
        </p:grpSpPr>
        <p:sp>
          <p:nvSpPr>
            <p:cNvPr id="350" name=""/>
            <p:cNvSpPr/>
            <p:nvPr/>
          </p:nvSpPr>
          <p:spPr>
            <a:xfrm>
              <a:off x="5257800" y="129528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1" name="HM00429_" descr=""/>
            <p:cNvPicPr/>
            <p:nvPr/>
          </p:nvPicPr>
          <p:blipFill>
            <a:blip r:embed="rId24"/>
            <a:stretch/>
          </p:blipFill>
          <p:spPr>
            <a:xfrm>
              <a:off x="5486400" y="1676160"/>
              <a:ext cx="4572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 flipV="1">
            <a:off x="5562720" y="21337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51814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67240" y="5562720"/>
            <a:ext cx="852480" cy="730080"/>
            <a:chOff x="3567240" y="5562720"/>
            <a:chExt cx="852480" cy="730080"/>
          </a:xfrm>
        </p:grpSpPr>
        <p:sp>
          <p:nvSpPr>
            <p:cNvPr id="355" name=""/>
            <p:cNvSpPr/>
            <p:nvPr/>
          </p:nvSpPr>
          <p:spPr>
            <a:xfrm>
              <a:off x="3567240" y="5562720"/>
              <a:ext cx="852480" cy="7300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833280" y="5918760"/>
              <a:ext cx="203040" cy="184680"/>
              <a:chOff x="3833280" y="5918760"/>
              <a:chExt cx="203040" cy="184680"/>
            </a:xfrm>
          </p:grpSpPr>
          <p:sp>
            <p:nvSpPr>
              <p:cNvPr id="357" name=""/>
              <p:cNvSpPr/>
              <p:nvPr/>
            </p:nvSpPr>
            <p:spPr>
              <a:xfrm>
                <a:off x="4008240" y="60264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33280" y="602748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55600" y="60264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880800" y="603720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014000" y="60264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33280" y="604692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3280" y="604692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3280" y="609192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33280" y="609192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72600" y="60613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98440" y="605700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98440" y="605700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10680" y="605700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18960" y="605700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38680" y="605196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34360" y="60494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34360" y="604692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99160" y="605880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91320" y="5918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91320" y="59187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55600" y="5918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55600" y="59187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55600" y="59392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78000" y="60264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8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873240" y="5951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73240" y="59518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3865680" y="59482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3855600" y="60328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56040" y="60544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56040" y="605772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43440" y="605880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35440" y="605088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39400" y="605088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43000" y="605088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46960" y="605088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850560" y="605088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54520" y="605088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33280" y="591876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71800" y="594756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3917160" y="5979240"/>
              <a:ext cx="203040" cy="185040"/>
              <a:chOff x="3917160" y="5979240"/>
              <a:chExt cx="203040" cy="185040"/>
            </a:xfrm>
          </p:grpSpPr>
          <p:sp>
            <p:nvSpPr>
              <p:cNvPr id="397" name=""/>
              <p:cNvSpPr/>
              <p:nvPr/>
            </p:nvSpPr>
            <p:spPr>
              <a:xfrm>
                <a:off x="4092120" y="608688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17160" y="608832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9480" y="608688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0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64680" y="609804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4097880" y="608688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917160" y="610776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17160" y="610776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17160" y="615276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17160" y="615276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56480" y="612180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82320" y="611784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82320" y="611784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94560" y="611784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02840" y="611784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22560" y="611280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18240" y="610992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18240" y="610776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83040" y="611964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75200" y="5979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075200" y="597924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39480" y="5979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39480" y="597924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39480" y="599976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61880" y="608688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2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57120" y="6012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57120" y="601236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949560" y="600876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3939480" y="609336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39920" y="611496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39920" y="611856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027320" y="611964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9320" y="611172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23280" y="611172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26880" y="611172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30840" y="611172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934440" y="611172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38400" y="611172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17160" y="597924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55680" y="600840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016160" y="6055560"/>
              <a:ext cx="203040" cy="185040"/>
              <a:chOff x="4016160" y="6055560"/>
              <a:chExt cx="203040" cy="185040"/>
            </a:xfrm>
          </p:grpSpPr>
          <p:sp>
            <p:nvSpPr>
              <p:cNvPr id="437" name=""/>
              <p:cNvSpPr/>
              <p:nvPr/>
            </p:nvSpPr>
            <p:spPr>
              <a:xfrm>
                <a:off x="4191120" y="61632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16160" y="61646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38480" y="61632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063680" y="61743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4196880" y="61632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016160" y="61840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16160" y="61840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016160" y="62290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16160" y="62290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55480" y="61981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81320" y="61941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81320" y="61941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93560" y="61941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01840" y="61941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21560" y="61891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17240" y="61862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7240" y="61840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82040" y="61959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74200" y="605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74200" y="60555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038480" y="605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038480" y="60555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38480" y="60760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60880" y="61632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6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056120" y="608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056120" y="60886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048560" y="60850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038480" y="61696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38920" y="61912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138920" y="61948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126320" y="61959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18320" y="61880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22280" y="61880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25880" y="61880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9840" y="61880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33440" y="61880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37400" y="61880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16160" y="60555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54680" y="60847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rot="19605600">
            <a:off x="3296880" y="532764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 rot="1399200">
            <a:off x="3068640" y="2128320"/>
            <a:ext cx="304920" cy="339840"/>
          </a:xfrm>
          <a:prstGeom prst="upArrow">
            <a:avLst>
              <a:gd name="adj1" fmla="val 50000"/>
              <a:gd name="adj2" fmla="val 2786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57200" y="5181480"/>
            <a:ext cx="852480" cy="730440"/>
            <a:chOff x="457200" y="5181480"/>
            <a:chExt cx="852480" cy="730440"/>
          </a:xfrm>
        </p:grpSpPr>
        <p:sp>
          <p:nvSpPr>
            <p:cNvPr id="479" name=""/>
            <p:cNvSpPr/>
            <p:nvPr/>
          </p:nvSpPr>
          <p:spPr>
            <a:xfrm>
              <a:off x="457200" y="51814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639720" y="5424480"/>
              <a:ext cx="401760" cy="397800"/>
              <a:chOff x="639720" y="5424480"/>
              <a:chExt cx="401760" cy="397800"/>
            </a:xfrm>
          </p:grpSpPr>
          <p:sp>
            <p:nvSpPr>
              <p:cNvPr id="481" name=""/>
              <p:cNvSpPr/>
              <p:nvPr/>
            </p:nvSpPr>
            <p:spPr>
              <a:xfrm>
                <a:off x="646920" y="5444280"/>
                <a:ext cx="357120" cy="359640"/>
              </a:xfrm>
              <a:custGeom>
                <a:avLst/>
                <a:gdLst/>
                <a:ahLst/>
                <a:rect l="l" t="t" r="r" b="b"/>
                <a:pathLst>
                  <a:path w="1908" h="1463">
                    <a:moveTo>
                      <a:pt x="4" y="1223"/>
                    </a:moveTo>
                    <a:lnTo>
                      <a:pt x="47" y="1188"/>
                    </a:lnTo>
                    <a:lnTo>
                      <a:pt x="196" y="1242"/>
                    </a:lnTo>
                    <a:lnTo>
                      <a:pt x="320" y="1158"/>
                    </a:lnTo>
                    <a:lnTo>
                      <a:pt x="511" y="1050"/>
                    </a:lnTo>
                    <a:lnTo>
                      <a:pt x="640" y="937"/>
                    </a:lnTo>
                    <a:lnTo>
                      <a:pt x="631" y="853"/>
                    </a:lnTo>
                    <a:lnTo>
                      <a:pt x="707" y="884"/>
                    </a:lnTo>
                    <a:lnTo>
                      <a:pt x="793" y="872"/>
                    </a:lnTo>
                    <a:lnTo>
                      <a:pt x="746" y="680"/>
                    </a:lnTo>
                    <a:lnTo>
                      <a:pt x="855" y="334"/>
                    </a:lnTo>
                    <a:lnTo>
                      <a:pt x="980" y="178"/>
                    </a:lnTo>
                    <a:lnTo>
                      <a:pt x="1167" y="59"/>
                    </a:lnTo>
                    <a:lnTo>
                      <a:pt x="1306" y="17"/>
                    </a:lnTo>
                    <a:lnTo>
                      <a:pt x="1444" y="0"/>
                    </a:lnTo>
                    <a:lnTo>
                      <a:pt x="1693" y="47"/>
                    </a:lnTo>
                    <a:lnTo>
                      <a:pt x="1831" y="125"/>
                    </a:lnTo>
                    <a:lnTo>
                      <a:pt x="1903" y="215"/>
                    </a:lnTo>
                    <a:lnTo>
                      <a:pt x="1908" y="262"/>
                    </a:lnTo>
                    <a:lnTo>
                      <a:pt x="1817" y="178"/>
                    </a:lnTo>
                    <a:lnTo>
                      <a:pt x="1626" y="143"/>
                    </a:lnTo>
                    <a:lnTo>
                      <a:pt x="1420" y="89"/>
                    </a:lnTo>
                    <a:lnTo>
                      <a:pt x="1085" y="256"/>
                    </a:lnTo>
                    <a:lnTo>
                      <a:pt x="923" y="388"/>
                    </a:lnTo>
                    <a:lnTo>
                      <a:pt x="875" y="704"/>
                    </a:lnTo>
                    <a:lnTo>
                      <a:pt x="913" y="812"/>
                    </a:lnTo>
                    <a:lnTo>
                      <a:pt x="976" y="955"/>
                    </a:lnTo>
                    <a:lnTo>
                      <a:pt x="812" y="966"/>
                    </a:lnTo>
                    <a:lnTo>
                      <a:pt x="311" y="1289"/>
                    </a:lnTo>
                    <a:lnTo>
                      <a:pt x="81" y="1463"/>
                    </a:lnTo>
                    <a:lnTo>
                      <a:pt x="0" y="1255"/>
                    </a:lnTo>
                    <a:lnTo>
                      <a:pt x="4" y="1223"/>
                    </a:lnTo>
                    <a:lnTo>
                      <a:pt x="4" y="1223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17920" y="5485320"/>
                <a:ext cx="211680" cy="231840"/>
              </a:xfrm>
              <a:custGeom>
                <a:avLst/>
                <a:gdLst/>
                <a:ahLst/>
                <a:rect l="l" t="t" r="r" b="b"/>
                <a:pathLst>
                  <a:path w="1134" h="943">
                    <a:moveTo>
                      <a:pt x="5" y="645"/>
                    </a:moveTo>
                    <a:lnTo>
                      <a:pt x="125" y="770"/>
                    </a:lnTo>
                    <a:lnTo>
                      <a:pt x="283" y="824"/>
                    </a:lnTo>
                    <a:lnTo>
                      <a:pt x="450" y="854"/>
                    </a:lnTo>
                    <a:lnTo>
                      <a:pt x="613" y="841"/>
                    </a:lnTo>
                    <a:lnTo>
                      <a:pt x="751" y="782"/>
                    </a:lnTo>
                    <a:lnTo>
                      <a:pt x="890" y="698"/>
                    </a:lnTo>
                    <a:lnTo>
                      <a:pt x="986" y="597"/>
                    </a:lnTo>
                    <a:lnTo>
                      <a:pt x="1072" y="441"/>
                    </a:lnTo>
                    <a:lnTo>
                      <a:pt x="1095" y="263"/>
                    </a:lnTo>
                    <a:lnTo>
                      <a:pt x="1072" y="125"/>
                    </a:lnTo>
                    <a:lnTo>
                      <a:pt x="1034" y="0"/>
                    </a:lnTo>
                    <a:lnTo>
                      <a:pt x="1095" y="114"/>
                    </a:lnTo>
                    <a:lnTo>
                      <a:pt x="1134" y="322"/>
                    </a:lnTo>
                    <a:lnTo>
                      <a:pt x="1129" y="478"/>
                    </a:lnTo>
                    <a:lnTo>
                      <a:pt x="1058" y="626"/>
                    </a:lnTo>
                    <a:lnTo>
                      <a:pt x="900" y="806"/>
                    </a:lnTo>
                    <a:lnTo>
                      <a:pt x="703" y="932"/>
                    </a:lnTo>
                    <a:lnTo>
                      <a:pt x="421" y="943"/>
                    </a:lnTo>
                    <a:lnTo>
                      <a:pt x="119" y="908"/>
                    </a:lnTo>
                    <a:lnTo>
                      <a:pt x="0" y="812"/>
                    </a:lnTo>
                    <a:lnTo>
                      <a:pt x="5" y="645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5400" y="5467680"/>
                <a:ext cx="195480" cy="212400"/>
              </a:xfrm>
              <a:custGeom>
                <a:avLst/>
                <a:gdLst/>
                <a:ahLst/>
                <a:rect l="l" t="t" r="r" b="b"/>
                <a:pathLst>
                  <a:path w="1044" h="865">
                    <a:moveTo>
                      <a:pt x="0" y="620"/>
                    </a:moveTo>
                    <a:lnTo>
                      <a:pt x="6" y="381"/>
                    </a:lnTo>
                    <a:lnTo>
                      <a:pt x="187" y="160"/>
                    </a:lnTo>
                    <a:lnTo>
                      <a:pt x="422" y="40"/>
                    </a:lnTo>
                    <a:lnTo>
                      <a:pt x="656" y="0"/>
                    </a:lnTo>
                    <a:lnTo>
                      <a:pt x="847" y="17"/>
                    </a:lnTo>
                    <a:lnTo>
                      <a:pt x="957" y="113"/>
                    </a:lnTo>
                    <a:lnTo>
                      <a:pt x="1010" y="166"/>
                    </a:lnTo>
                    <a:lnTo>
                      <a:pt x="1044" y="375"/>
                    </a:lnTo>
                    <a:lnTo>
                      <a:pt x="986" y="536"/>
                    </a:lnTo>
                    <a:lnTo>
                      <a:pt x="914" y="685"/>
                    </a:lnTo>
                    <a:lnTo>
                      <a:pt x="843" y="746"/>
                    </a:lnTo>
                    <a:lnTo>
                      <a:pt x="574" y="853"/>
                    </a:lnTo>
                    <a:lnTo>
                      <a:pt x="373" y="865"/>
                    </a:lnTo>
                    <a:lnTo>
                      <a:pt x="139" y="781"/>
                    </a:lnTo>
                    <a:lnTo>
                      <a:pt x="15" y="685"/>
                    </a:lnTo>
                    <a:lnTo>
                      <a:pt x="0" y="620"/>
                    </a:lnTo>
                    <a:lnTo>
                      <a:pt x="0" y="620"/>
                    </a:lnTo>
                    <a:close/>
                  </a:path>
                </a:pathLst>
              </a:custGeom>
              <a:solidFill>
                <a:srgbClr val="d1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4040" y="5504040"/>
                <a:ext cx="113040" cy="142200"/>
              </a:xfrm>
              <a:custGeom>
                <a:avLst/>
                <a:gdLst/>
                <a:ahLst/>
                <a:rect l="l" t="t" r="r" b="b"/>
                <a:pathLst>
                  <a:path w="603" h="579">
                    <a:moveTo>
                      <a:pt x="599" y="0"/>
                    </a:moveTo>
                    <a:lnTo>
                      <a:pt x="436" y="66"/>
                    </a:lnTo>
                    <a:lnTo>
                      <a:pt x="273" y="240"/>
                    </a:lnTo>
                    <a:lnTo>
                      <a:pt x="121" y="341"/>
                    </a:lnTo>
                    <a:lnTo>
                      <a:pt x="0" y="520"/>
                    </a:lnTo>
                    <a:lnTo>
                      <a:pt x="86" y="579"/>
                    </a:lnTo>
                    <a:lnTo>
                      <a:pt x="426" y="263"/>
                    </a:lnTo>
                    <a:lnTo>
                      <a:pt x="603" y="96"/>
                    </a:lnTo>
                    <a:lnTo>
                      <a:pt x="599" y="0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c8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6920" y="5658480"/>
                <a:ext cx="160200" cy="163800"/>
              </a:xfrm>
              <a:custGeom>
                <a:avLst/>
                <a:gdLst/>
                <a:ahLst/>
                <a:rect l="l" t="t" r="r" b="b"/>
                <a:pathLst>
                  <a:path w="855" h="666">
                    <a:moveTo>
                      <a:pt x="0" y="383"/>
                    </a:moveTo>
                    <a:lnTo>
                      <a:pt x="43" y="370"/>
                    </a:lnTo>
                    <a:lnTo>
                      <a:pt x="147" y="457"/>
                    </a:lnTo>
                    <a:lnTo>
                      <a:pt x="127" y="351"/>
                    </a:lnTo>
                    <a:lnTo>
                      <a:pt x="234" y="393"/>
                    </a:lnTo>
                    <a:lnTo>
                      <a:pt x="396" y="339"/>
                    </a:lnTo>
                    <a:lnTo>
                      <a:pt x="578" y="196"/>
                    </a:lnTo>
                    <a:lnTo>
                      <a:pt x="650" y="136"/>
                    </a:lnTo>
                    <a:lnTo>
                      <a:pt x="636" y="29"/>
                    </a:lnTo>
                    <a:lnTo>
                      <a:pt x="717" y="119"/>
                    </a:lnTo>
                    <a:lnTo>
                      <a:pt x="746" y="65"/>
                    </a:lnTo>
                    <a:lnTo>
                      <a:pt x="793" y="0"/>
                    </a:lnTo>
                    <a:lnTo>
                      <a:pt x="855" y="124"/>
                    </a:lnTo>
                    <a:lnTo>
                      <a:pt x="832" y="274"/>
                    </a:lnTo>
                    <a:lnTo>
                      <a:pt x="793" y="309"/>
                    </a:lnTo>
                    <a:lnTo>
                      <a:pt x="693" y="274"/>
                    </a:lnTo>
                    <a:lnTo>
                      <a:pt x="583" y="351"/>
                    </a:lnTo>
                    <a:lnTo>
                      <a:pt x="319" y="573"/>
                    </a:lnTo>
                    <a:lnTo>
                      <a:pt x="206" y="646"/>
                    </a:lnTo>
                    <a:lnTo>
                      <a:pt x="77" y="666"/>
                    </a:lnTo>
                    <a:lnTo>
                      <a:pt x="0" y="495"/>
                    </a:lnTo>
                    <a:lnTo>
                      <a:pt x="0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33400" y="5524560"/>
                <a:ext cx="159480" cy="127440"/>
              </a:xfrm>
              <a:custGeom>
                <a:avLst/>
                <a:gdLst/>
                <a:ahLst/>
                <a:rect l="l" t="t" r="r" b="b"/>
                <a:pathLst>
                  <a:path w="851" h="519">
                    <a:moveTo>
                      <a:pt x="125" y="341"/>
                    </a:moveTo>
                    <a:lnTo>
                      <a:pt x="378" y="358"/>
                    </a:lnTo>
                    <a:lnTo>
                      <a:pt x="584" y="292"/>
                    </a:lnTo>
                    <a:lnTo>
                      <a:pt x="780" y="131"/>
                    </a:lnTo>
                    <a:lnTo>
                      <a:pt x="851" y="0"/>
                    </a:lnTo>
                    <a:lnTo>
                      <a:pt x="833" y="209"/>
                    </a:lnTo>
                    <a:lnTo>
                      <a:pt x="689" y="424"/>
                    </a:lnTo>
                    <a:lnTo>
                      <a:pt x="464" y="519"/>
                    </a:lnTo>
                    <a:lnTo>
                      <a:pt x="191" y="495"/>
                    </a:lnTo>
                    <a:lnTo>
                      <a:pt x="0" y="394"/>
                    </a:lnTo>
                    <a:lnTo>
                      <a:pt x="125" y="341"/>
                    </a:lnTo>
                    <a:lnTo>
                      <a:pt x="125" y="341"/>
                    </a:lnTo>
                    <a:close/>
                  </a:path>
                </a:pathLst>
              </a:custGeom>
              <a:solidFill>
                <a:srgbClr val="80d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07480" y="5452920"/>
                <a:ext cx="187200" cy="164160"/>
              </a:xfrm>
              <a:custGeom>
                <a:avLst/>
                <a:gdLst/>
                <a:ahLst/>
                <a:rect l="l" t="t" r="r" b="b"/>
                <a:pathLst>
                  <a:path w="1000" h="669">
                    <a:moveTo>
                      <a:pt x="20" y="669"/>
                    </a:moveTo>
                    <a:lnTo>
                      <a:pt x="106" y="496"/>
                    </a:lnTo>
                    <a:lnTo>
                      <a:pt x="221" y="347"/>
                    </a:lnTo>
                    <a:lnTo>
                      <a:pt x="398" y="215"/>
                    </a:lnTo>
                    <a:lnTo>
                      <a:pt x="599" y="132"/>
                    </a:lnTo>
                    <a:lnTo>
                      <a:pt x="771" y="108"/>
                    </a:lnTo>
                    <a:lnTo>
                      <a:pt x="1000" y="174"/>
                    </a:lnTo>
                    <a:lnTo>
                      <a:pt x="890" y="78"/>
                    </a:lnTo>
                    <a:lnTo>
                      <a:pt x="694" y="12"/>
                    </a:lnTo>
                    <a:lnTo>
                      <a:pt x="488" y="0"/>
                    </a:lnTo>
                    <a:lnTo>
                      <a:pt x="244" y="96"/>
                    </a:lnTo>
                    <a:lnTo>
                      <a:pt x="139" y="209"/>
                    </a:lnTo>
                    <a:lnTo>
                      <a:pt x="29" y="383"/>
                    </a:lnTo>
                    <a:lnTo>
                      <a:pt x="0" y="496"/>
                    </a:lnTo>
                    <a:lnTo>
                      <a:pt x="20" y="669"/>
                    </a:lnTo>
                    <a:lnTo>
                      <a:pt x="20" y="6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4920" y="5467680"/>
                <a:ext cx="140760" cy="173160"/>
              </a:xfrm>
              <a:custGeom>
                <a:avLst/>
                <a:gdLst/>
                <a:ahLst/>
                <a:rect l="l" t="t" r="r" b="b"/>
                <a:pathLst>
                  <a:path w="756" h="704">
                    <a:moveTo>
                      <a:pt x="435" y="0"/>
                    </a:moveTo>
                    <a:lnTo>
                      <a:pt x="506" y="101"/>
                    </a:lnTo>
                    <a:lnTo>
                      <a:pt x="555" y="196"/>
                    </a:lnTo>
                    <a:lnTo>
                      <a:pt x="664" y="124"/>
                    </a:lnTo>
                    <a:lnTo>
                      <a:pt x="756" y="119"/>
                    </a:lnTo>
                    <a:lnTo>
                      <a:pt x="631" y="196"/>
                    </a:lnTo>
                    <a:lnTo>
                      <a:pt x="0" y="704"/>
                    </a:lnTo>
                    <a:lnTo>
                      <a:pt x="124" y="549"/>
                    </a:lnTo>
                    <a:lnTo>
                      <a:pt x="463" y="244"/>
                    </a:lnTo>
                    <a:lnTo>
                      <a:pt x="463" y="131"/>
                    </a:lnTo>
                    <a:lnTo>
                      <a:pt x="392" y="11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720" y="5622120"/>
                <a:ext cx="178200" cy="200160"/>
              </a:xfrm>
              <a:custGeom>
                <a:avLst/>
                <a:gdLst/>
                <a:ahLst/>
                <a:rect l="l" t="t" r="r" b="b"/>
                <a:pathLst>
                  <a:path w="950" h="816">
                    <a:moveTo>
                      <a:pt x="834" y="71"/>
                    </a:moveTo>
                    <a:lnTo>
                      <a:pt x="790" y="49"/>
                    </a:lnTo>
                    <a:lnTo>
                      <a:pt x="705" y="0"/>
                    </a:lnTo>
                    <a:lnTo>
                      <a:pt x="600" y="74"/>
                    </a:lnTo>
                    <a:lnTo>
                      <a:pt x="576" y="167"/>
                    </a:lnTo>
                    <a:lnTo>
                      <a:pt x="373" y="298"/>
                    </a:lnTo>
                    <a:lnTo>
                      <a:pt x="190" y="353"/>
                    </a:lnTo>
                    <a:lnTo>
                      <a:pt x="58" y="381"/>
                    </a:lnTo>
                    <a:lnTo>
                      <a:pt x="0" y="469"/>
                    </a:lnTo>
                    <a:lnTo>
                      <a:pt x="1" y="613"/>
                    </a:lnTo>
                    <a:lnTo>
                      <a:pt x="40" y="751"/>
                    </a:lnTo>
                    <a:lnTo>
                      <a:pt x="118" y="816"/>
                    </a:lnTo>
                    <a:lnTo>
                      <a:pt x="190" y="762"/>
                    </a:lnTo>
                    <a:lnTo>
                      <a:pt x="246" y="609"/>
                    </a:lnTo>
                    <a:lnTo>
                      <a:pt x="168" y="501"/>
                    </a:lnTo>
                    <a:lnTo>
                      <a:pt x="188" y="607"/>
                    </a:lnTo>
                    <a:lnTo>
                      <a:pt x="141" y="704"/>
                    </a:lnTo>
                    <a:lnTo>
                      <a:pt x="77" y="697"/>
                    </a:lnTo>
                    <a:lnTo>
                      <a:pt x="41" y="533"/>
                    </a:lnTo>
                    <a:lnTo>
                      <a:pt x="87" y="424"/>
                    </a:lnTo>
                    <a:lnTo>
                      <a:pt x="212" y="415"/>
                    </a:lnTo>
                    <a:lnTo>
                      <a:pt x="630" y="220"/>
                    </a:lnTo>
                    <a:lnTo>
                      <a:pt x="734" y="251"/>
                    </a:lnTo>
                    <a:lnTo>
                      <a:pt x="700" y="148"/>
                    </a:lnTo>
                    <a:lnTo>
                      <a:pt x="664" y="87"/>
                    </a:lnTo>
                    <a:lnTo>
                      <a:pt x="735" y="76"/>
                    </a:lnTo>
                    <a:lnTo>
                      <a:pt x="834" y="150"/>
                    </a:lnTo>
                    <a:lnTo>
                      <a:pt x="866" y="313"/>
                    </a:lnTo>
                    <a:lnTo>
                      <a:pt x="857" y="399"/>
                    </a:lnTo>
                    <a:lnTo>
                      <a:pt x="811" y="437"/>
                    </a:lnTo>
                    <a:lnTo>
                      <a:pt x="780" y="370"/>
                    </a:lnTo>
                    <a:lnTo>
                      <a:pt x="690" y="384"/>
                    </a:lnTo>
                    <a:lnTo>
                      <a:pt x="655" y="457"/>
                    </a:lnTo>
                    <a:lnTo>
                      <a:pt x="509" y="541"/>
                    </a:lnTo>
                    <a:lnTo>
                      <a:pt x="329" y="661"/>
                    </a:lnTo>
                    <a:lnTo>
                      <a:pt x="275" y="748"/>
                    </a:lnTo>
                    <a:lnTo>
                      <a:pt x="247" y="796"/>
                    </a:lnTo>
                    <a:lnTo>
                      <a:pt x="360" y="723"/>
                    </a:lnTo>
                    <a:lnTo>
                      <a:pt x="566" y="580"/>
                    </a:lnTo>
                    <a:lnTo>
                      <a:pt x="743" y="466"/>
                    </a:lnTo>
                    <a:lnTo>
                      <a:pt x="814" y="497"/>
                    </a:lnTo>
                    <a:lnTo>
                      <a:pt x="910" y="456"/>
                    </a:lnTo>
                    <a:lnTo>
                      <a:pt x="920" y="316"/>
                    </a:lnTo>
                    <a:lnTo>
                      <a:pt x="950" y="287"/>
                    </a:lnTo>
                    <a:lnTo>
                      <a:pt x="902" y="150"/>
                    </a:lnTo>
                    <a:lnTo>
                      <a:pt x="834" y="71"/>
                    </a:lnTo>
                    <a:lnTo>
                      <a:pt x="83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0360" y="5509080"/>
                <a:ext cx="204120" cy="178560"/>
              </a:xfrm>
              <a:custGeom>
                <a:avLst/>
                <a:gdLst/>
                <a:ahLst/>
                <a:rect l="l" t="t" r="r" b="b"/>
                <a:pathLst>
                  <a:path w="1090" h="729">
                    <a:moveTo>
                      <a:pt x="1038" y="0"/>
                    </a:moveTo>
                    <a:lnTo>
                      <a:pt x="1076" y="89"/>
                    </a:lnTo>
                    <a:lnTo>
                      <a:pt x="1090" y="239"/>
                    </a:lnTo>
                    <a:lnTo>
                      <a:pt x="1053" y="388"/>
                    </a:lnTo>
                    <a:lnTo>
                      <a:pt x="967" y="526"/>
                    </a:lnTo>
                    <a:lnTo>
                      <a:pt x="813" y="639"/>
                    </a:lnTo>
                    <a:lnTo>
                      <a:pt x="645" y="717"/>
                    </a:lnTo>
                    <a:lnTo>
                      <a:pt x="469" y="729"/>
                    </a:lnTo>
                    <a:lnTo>
                      <a:pt x="249" y="681"/>
                    </a:lnTo>
                    <a:lnTo>
                      <a:pt x="110" y="610"/>
                    </a:lnTo>
                    <a:lnTo>
                      <a:pt x="43" y="550"/>
                    </a:lnTo>
                    <a:lnTo>
                      <a:pt x="9" y="484"/>
                    </a:lnTo>
                    <a:lnTo>
                      <a:pt x="0" y="328"/>
                    </a:lnTo>
                    <a:lnTo>
                      <a:pt x="34" y="215"/>
                    </a:lnTo>
                    <a:lnTo>
                      <a:pt x="43" y="400"/>
                    </a:lnTo>
                    <a:lnTo>
                      <a:pt x="71" y="502"/>
                    </a:lnTo>
                    <a:lnTo>
                      <a:pt x="157" y="561"/>
                    </a:lnTo>
                    <a:lnTo>
                      <a:pt x="287" y="633"/>
                    </a:lnTo>
                    <a:lnTo>
                      <a:pt x="507" y="669"/>
                    </a:lnTo>
                    <a:lnTo>
                      <a:pt x="694" y="633"/>
                    </a:lnTo>
                    <a:lnTo>
                      <a:pt x="880" y="550"/>
                    </a:lnTo>
                    <a:lnTo>
                      <a:pt x="981" y="412"/>
                    </a:lnTo>
                    <a:lnTo>
                      <a:pt x="1043" y="245"/>
                    </a:lnTo>
                    <a:lnTo>
                      <a:pt x="1053" y="138"/>
                    </a:lnTo>
                    <a:lnTo>
                      <a:pt x="1038" y="0"/>
                    </a:lnTo>
                    <a:lnTo>
                      <a:pt x="10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360" y="57448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201" h="132">
                    <a:moveTo>
                      <a:pt x="95" y="0"/>
                    </a:moveTo>
                    <a:lnTo>
                      <a:pt x="201" y="132"/>
                    </a:lnTo>
                    <a:lnTo>
                      <a:pt x="76" y="108"/>
                    </a:lnTo>
                    <a:lnTo>
                      <a:pt x="0" y="84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8680" y="5424480"/>
                <a:ext cx="262800" cy="326160"/>
              </a:xfrm>
              <a:custGeom>
                <a:avLst/>
                <a:gdLst/>
                <a:ahLst/>
                <a:rect l="l" t="t" r="r" b="b"/>
                <a:pathLst>
                  <a:path w="1401" h="1327">
                    <a:moveTo>
                      <a:pt x="129" y="1129"/>
                    </a:moveTo>
                    <a:lnTo>
                      <a:pt x="234" y="1225"/>
                    </a:lnTo>
                    <a:lnTo>
                      <a:pt x="482" y="1321"/>
                    </a:lnTo>
                    <a:lnTo>
                      <a:pt x="779" y="1327"/>
                    </a:lnTo>
                    <a:lnTo>
                      <a:pt x="1004" y="1243"/>
                    </a:lnTo>
                    <a:lnTo>
                      <a:pt x="1220" y="1075"/>
                    </a:lnTo>
                    <a:lnTo>
                      <a:pt x="1339" y="891"/>
                    </a:lnTo>
                    <a:lnTo>
                      <a:pt x="1401" y="687"/>
                    </a:lnTo>
                    <a:lnTo>
                      <a:pt x="1372" y="413"/>
                    </a:lnTo>
                    <a:lnTo>
                      <a:pt x="1253" y="192"/>
                    </a:lnTo>
                    <a:lnTo>
                      <a:pt x="1071" y="67"/>
                    </a:lnTo>
                    <a:lnTo>
                      <a:pt x="880" y="19"/>
                    </a:lnTo>
                    <a:lnTo>
                      <a:pt x="664" y="0"/>
                    </a:lnTo>
                    <a:lnTo>
                      <a:pt x="482" y="31"/>
                    </a:lnTo>
                    <a:lnTo>
                      <a:pt x="324" y="96"/>
                    </a:lnTo>
                    <a:lnTo>
                      <a:pt x="162" y="227"/>
                    </a:lnTo>
                    <a:lnTo>
                      <a:pt x="72" y="360"/>
                    </a:lnTo>
                    <a:lnTo>
                      <a:pt x="19" y="509"/>
                    </a:lnTo>
                    <a:lnTo>
                      <a:pt x="0" y="628"/>
                    </a:lnTo>
                    <a:lnTo>
                      <a:pt x="4" y="765"/>
                    </a:lnTo>
                    <a:lnTo>
                      <a:pt x="23" y="860"/>
                    </a:lnTo>
                    <a:lnTo>
                      <a:pt x="90" y="872"/>
                    </a:lnTo>
                    <a:lnTo>
                      <a:pt x="66" y="657"/>
                    </a:lnTo>
                    <a:lnTo>
                      <a:pt x="95" y="467"/>
                    </a:lnTo>
                    <a:lnTo>
                      <a:pt x="167" y="311"/>
                    </a:lnTo>
                    <a:lnTo>
                      <a:pt x="291" y="198"/>
                    </a:lnTo>
                    <a:lnTo>
                      <a:pt x="459" y="103"/>
                    </a:lnTo>
                    <a:lnTo>
                      <a:pt x="636" y="61"/>
                    </a:lnTo>
                    <a:lnTo>
                      <a:pt x="851" y="61"/>
                    </a:lnTo>
                    <a:lnTo>
                      <a:pt x="1066" y="121"/>
                    </a:lnTo>
                    <a:lnTo>
                      <a:pt x="1205" y="227"/>
                    </a:lnTo>
                    <a:lnTo>
                      <a:pt x="1300" y="360"/>
                    </a:lnTo>
                    <a:lnTo>
                      <a:pt x="1339" y="568"/>
                    </a:lnTo>
                    <a:lnTo>
                      <a:pt x="1292" y="778"/>
                    </a:lnTo>
                    <a:lnTo>
                      <a:pt x="1085" y="998"/>
                    </a:lnTo>
                    <a:lnTo>
                      <a:pt x="865" y="1106"/>
                    </a:lnTo>
                    <a:lnTo>
                      <a:pt x="664" y="1136"/>
                    </a:lnTo>
                    <a:lnTo>
                      <a:pt x="473" y="1100"/>
                    </a:lnTo>
                    <a:lnTo>
                      <a:pt x="273" y="1034"/>
                    </a:lnTo>
                    <a:lnTo>
                      <a:pt x="158" y="951"/>
                    </a:lnTo>
                    <a:lnTo>
                      <a:pt x="119" y="921"/>
                    </a:lnTo>
                    <a:lnTo>
                      <a:pt x="129" y="1129"/>
                    </a:lnTo>
                    <a:lnTo>
                      <a:pt x="129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"/>
          <p:cNvSpPr/>
          <p:nvPr/>
        </p:nvSpPr>
        <p:spPr>
          <a:xfrm>
            <a:off x="1219320" y="25909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5334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990720"/>
            <a:ext cx="556272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6477120"/>
            <a:ext cx="556272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20" y="990720"/>
            <a:ext cx="152280" cy="2814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814480"/>
              <a:gd name="textAreaBottom" fmla="*/ 2792160 h 2814480"/>
            </a:gdLst>
            <a:ahLst/>
            <a:rect l="textAreaLeft" t="textAreaTop" r="textAreaRight" b="textAreaBottom"/>
            <a:pathLst>
              <a:path w="21600" h="398326">
                <a:moveTo>
                  <a:pt x="10800" y="0"/>
                </a:moveTo>
                <a:arcTo wR="10800" hR="10800" stAng="16200000" swAng="-5400000"/>
                <a:lnTo>
                  <a:pt x="0" y="387526"/>
                </a:lnTo>
                <a:arcTo wR="10800" hR="10800" stAng="10800000" swAng="-5400000"/>
                <a:lnTo>
                  <a:pt x="10800" y="3983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320" y="4038480"/>
            <a:ext cx="152280" cy="259092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590920"/>
              <a:gd name="textAreaBottom" fmla="*/ 2568600 h 2590920"/>
            </a:gdLst>
            <a:ahLst/>
            <a:rect l="textAreaLeft" t="textAreaTop" r="textAreaRight" b="textAreaBottom"/>
            <a:pathLst>
              <a:path w="21600" h="366691">
                <a:moveTo>
                  <a:pt x="10800" y="0"/>
                </a:moveTo>
                <a:arcTo wR="10800" hR="10800" stAng="16200000" swAng="-5400000"/>
                <a:lnTo>
                  <a:pt x="0" y="355891"/>
                </a:lnTo>
                <a:arcTo wR="10800" hR="10800" stAng="10800000" swAng="-5400000"/>
                <a:lnTo>
                  <a:pt x="10800" y="3666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360" y="3657600"/>
            <a:ext cx="242424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4038480"/>
            <a:ext cx="2438280" cy="15264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38098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9075200">
            <a:off x="3124080" y="3276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2743200" y="320004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 rot="2524800">
            <a:off x="3276720" y="4419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 rot="5400000">
            <a:off x="2743200" y="441936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527220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22160" y="52340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αρακολούθη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5819760"/>
            <a:ext cx="381240" cy="15228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67800" y="5729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ληροφόρηση ΣΑ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2743200" y="441936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-360 h 228600"/>
              <a:gd name="textAreaBottom" fmla="*/ 2286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6262560"/>
            <a:ext cx="381240" cy="152640"/>
          </a:xfrm>
          <a:custGeom>
            <a:avLst/>
            <a:gdLst>
              <a:gd name="textAreaLeft" fmla="*/ 0 w 381240"/>
              <a:gd name="textAreaRight" fmla="*/ 381600 w 381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2440" y="61866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ντίδρα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216400" y="3429000"/>
            <a:ext cx="1071720" cy="612720"/>
            <a:chOff x="5216400" y="3429000"/>
            <a:chExt cx="1071720" cy="612720"/>
          </a:xfrm>
        </p:grpSpPr>
        <p:sp>
          <p:nvSpPr>
            <p:cNvPr id="514" name=""/>
            <p:cNvSpPr/>
            <p:nvPr/>
          </p:nvSpPr>
          <p:spPr>
            <a:xfrm>
              <a:off x="5257800" y="361008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57800" y="3610080"/>
              <a:ext cx="990720" cy="431640"/>
            </a:xfrm>
            <a:custGeom>
              <a:avLst/>
              <a:gdLst/>
              <a:ahLst/>
              <a:rect l="l" t="t" r="r" b="b"/>
              <a:pathLst>
                <a:path w="751" h="311">
                  <a:moveTo>
                    <a:pt x="751" y="0"/>
                  </a:moveTo>
                  <a:lnTo>
                    <a:pt x="750" y="6"/>
                  </a:lnTo>
                  <a:lnTo>
                    <a:pt x="749" y="13"/>
                  </a:lnTo>
                  <a:lnTo>
                    <a:pt x="746" y="19"/>
                  </a:lnTo>
                  <a:lnTo>
                    <a:pt x="743" y="26"/>
                  </a:lnTo>
                  <a:lnTo>
                    <a:pt x="739" y="32"/>
                  </a:lnTo>
                  <a:lnTo>
                    <a:pt x="734" y="38"/>
                  </a:lnTo>
                  <a:lnTo>
                    <a:pt x="728" y="44"/>
                  </a:lnTo>
                  <a:lnTo>
                    <a:pt x="721" y="50"/>
                  </a:lnTo>
                  <a:lnTo>
                    <a:pt x="714" y="56"/>
                  </a:lnTo>
                  <a:lnTo>
                    <a:pt x="705" y="61"/>
                  </a:lnTo>
                  <a:lnTo>
                    <a:pt x="696" y="67"/>
                  </a:lnTo>
                  <a:lnTo>
                    <a:pt x="686" y="72"/>
                  </a:lnTo>
                  <a:lnTo>
                    <a:pt x="676" y="77"/>
                  </a:lnTo>
                  <a:lnTo>
                    <a:pt x="665" y="82"/>
                  </a:lnTo>
                  <a:lnTo>
                    <a:pt x="653" y="86"/>
                  </a:lnTo>
                  <a:lnTo>
                    <a:pt x="641" y="91"/>
                  </a:lnTo>
                  <a:lnTo>
                    <a:pt x="628" y="95"/>
                  </a:lnTo>
                  <a:lnTo>
                    <a:pt x="614" y="99"/>
                  </a:lnTo>
                  <a:lnTo>
                    <a:pt x="600" y="103"/>
                  </a:lnTo>
                  <a:lnTo>
                    <a:pt x="585" y="107"/>
                  </a:lnTo>
                  <a:lnTo>
                    <a:pt x="570" y="110"/>
                  </a:lnTo>
                  <a:lnTo>
                    <a:pt x="554" y="113"/>
                  </a:lnTo>
                  <a:lnTo>
                    <a:pt x="538" y="116"/>
                  </a:lnTo>
                  <a:lnTo>
                    <a:pt x="521" y="119"/>
                  </a:lnTo>
                  <a:lnTo>
                    <a:pt x="504" y="121"/>
                  </a:lnTo>
                  <a:lnTo>
                    <a:pt x="487" y="123"/>
                  </a:lnTo>
                  <a:lnTo>
                    <a:pt x="469" y="125"/>
                  </a:lnTo>
                  <a:lnTo>
                    <a:pt x="451" y="127"/>
                  </a:lnTo>
                  <a:lnTo>
                    <a:pt x="432" y="128"/>
                  </a:lnTo>
                  <a:lnTo>
                    <a:pt x="414" y="128"/>
                  </a:lnTo>
                  <a:lnTo>
                    <a:pt x="395" y="129"/>
                  </a:lnTo>
                  <a:lnTo>
                    <a:pt x="375" y="129"/>
                  </a:lnTo>
                  <a:lnTo>
                    <a:pt x="356" y="129"/>
                  </a:lnTo>
                  <a:lnTo>
                    <a:pt x="337" y="128"/>
                  </a:lnTo>
                  <a:lnTo>
                    <a:pt x="318" y="128"/>
                  </a:lnTo>
                  <a:lnTo>
                    <a:pt x="300" y="127"/>
                  </a:lnTo>
                  <a:lnTo>
                    <a:pt x="281" y="125"/>
                  </a:lnTo>
                  <a:lnTo>
                    <a:pt x="264" y="123"/>
                  </a:lnTo>
                  <a:lnTo>
                    <a:pt x="246" y="121"/>
                  </a:lnTo>
                  <a:lnTo>
                    <a:pt x="229" y="119"/>
                  </a:lnTo>
                  <a:lnTo>
                    <a:pt x="213" y="116"/>
                  </a:lnTo>
                  <a:lnTo>
                    <a:pt x="196" y="113"/>
                  </a:lnTo>
                  <a:lnTo>
                    <a:pt x="181" y="110"/>
                  </a:lnTo>
                  <a:lnTo>
                    <a:pt x="165" y="107"/>
                  </a:lnTo>
                  <a:lnTo>
                    <a:pt x="151" y="103"/>
                  </a:lnTo>
                  <a:lnTo>
                    <a:pt x="137" y="99"/>
                  </a:lnTo>
                  <a:lnTo>
                    <a:pt x="123" y="95"/>
                  </a:lnTo>
                  <a:lnTo>
                    <a:pt x="110" y="91"/>
                  </a:lnTo>
                  <a:lnTo>
                    <a:pt x="97" y="86"/>
                  </a:lnTo>
                  <a:lnTo>
                    <a:pt x="86" y="82"/>
                  </a:lnTo>
                  <a:lnTo>
                    <a:pt x="75" y="77"/>
                  </a:lnTo>
                  <a:lnTo>
                    <a:pt x="64" y="72"/>
                  </a:lnTo>
                  <a:lnTo>
                    <a:pt x="54" y="67"/>
                  </a:lnTo>
                  <a:lnTo>
                    <a:pt x="45" y="61"/>
                  </a:lnTo>
                  <a:lnTo>
                    <a:pt x="37" y="56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7" y="38"/>
                  </a:lnTo>
                  <a:lnTo>
                    <a:pt x="12" y="32"/>
                  </a:lnTo>
                  <a:lnTo>
                    <a:pt x="8" y="26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7"/>
                  </a:lnTo>
                  <a:lnTo>
                    <a:pt x="12" y="213"/>
                  </a:lnTo>
                  <a:lnTo>
                    <a:pt x="17" y="219"/>
                  </a:lnTo>
                  <a:lnTo>
                    <a:pt x="23" y="225"/>
                  </a:lnTo>
                  <a:lnTo>
                    <a:pt x="29" y="231"/>
                  </a:lnTo>
                  <a:lnTo>
                    <a:pt x="37" y="237"/>
                  </a:lnTo>
                  <a:lnTo>
                    <a:pt x="45" y="243"/>
                  </a:lnTo>
                  <a:lnTo>
                    <a:pt x="54" y="248"/>
                  </a:lnTo>
                  <a:lnTo>
                    <a:pt x="64" y="253"/>
                  </a:lnTo>
                  <a:lnTo>
                    <a:pt x="75" y="258"/>
                  </a:lnTo>
                  <a:lnTo>
                    <a:pt x="86" y="263"/>
                  </a:lnTo>
                  <a:lnTo>
                    <a:pt x="97" y="268"/>
                  </a:lnTo>
                  <a:lnTo>
                    <a:pt x="110" y="272"/>
                  </a:lnTo>
                  <a:lnTo>
                    <a:pt x="123" y="277"/>
                  </a:lnTo>
                  <a:lnTo>
                    <a:pt x="137" y="281"/>
                  </a:lnTo>
                  <a:lnTo>
                    <a:pt x="151" y="285"/>
                  </a:lnTo>
                  <a:lnTo>
                    <a:pt x="165" y="288"/>
                  </a:lnTo>
                  <a:lnTo>
                    <a:pt x="181" y="292"/>
                  </a:lnTo>
                  <a:lnTo>
                    <a:pt x="196" y="295"/>
                  </a:lnTo>
                  <a:lnTo>
                    <a:pt x="213" y="298"/>
                  </a:lnTo>
                  <a:lnTo>
                    <a:pt x="229" y="300"/>
                  </a:lnTo>
                  <a:lnTo>
                    <a:pt x="246" y="303"/>
                  </a:lnTo>
                  <a:lnTo>
                    <a:pt x="264" y="305"/>
                  </a:lnTo>
                  <a:lnTo>
                    <a:pt x="281" y="306"/>
                  </a:lnTo>
                  <a:lnTo>
                    <a:pt x="300" y="308"/>
                  </a:lnTo>
                  <a:lnTo>
                    <a:pt x="318" y="309"/>
                  </a:lnTo>
                  <a:lnTo>
                    <a:pt x="337" y="310"/>
                  </a:lnTo>
                  <a:lnTo>
                    <a:pt x="356" y="310"/>
                  </a:lnTo>
                  <a:lnTo>
                    <a:pt x="375" y="311"/>
                  </a:lnTo>
                  <a:lnTo>
                    <a:pt x="395" y="310"/>
                  </a:lnTo>
                  <a:lnTo>
                    <a:pt x="414" y="310"/>
                  </a:lnTo>
                  <a:lnTo>
                    <a:pt x="432" y="309"/>
                  </a:lnTo>
                  <a:lnTo>
                    <a:pt x="451" y="308"/>
                  </a:lnTo>
                  <a:lnTo>
                    <a:pt x="469" y="306"/>
                  </a:lnTo>
                  <a:lnTo>
                    <a:pt x="487" y="305"/>
                  </a:lnTo>
                  <a:lnTo>
                    <a:pt x="504" y="303"/>
                  </a:lnTo>
                  <a:lnTo>
                    <a:pt x="521" y="300"/>
                  </a:lnTo>
                  <a:lnTo>
                    <a:pt x="538" y="298"/>
                  </a:lnTo>
                  <a:lnTo>
                    <a:pt x="554" y="295"/>
                  </a:lnTo>
                  <a:lnTo>
                    <a:pt x="570" y="292"/>
                  </a:lnTo>
                  <a:lnTo>
                    <a:pt x="585" y="288"/>
                  </a:lnTo>
                  <a:lnTo>
                    <a:pt x="600" y="285"/>
                  </a:lnTo>
                  <a:lnTo>
                    <a:pt x="614" y="281"/>
                  </a:lnTo>
                  <a:lnTo>
                    <a:pt x="628" y="277"/>
                  </a:lnTo>
                  <a:lnTo>
                    <a:pt x="641" y="272"/>
                  </a:lnTo>
                  <a:lnTo>
                    <a:pt x="653" y="268"/>
                  </a:lnTo>
                  <a:lnTo>
                    <a:pt x="665" y="263"/>
                  </a:lnTo>
                  <a:lnTo>
                    <a:pt x="676" y="258"/>
                  </a:lnTo>
                  <a:lnTo>
                    <a:pt x="686" y="253"/>
                  </a:lnTo>
                  <a:lnTo>
                    <a:pt x="696" y="248"/>
                  </a:lnTo>
                  <a:lnTo>
                    <a:pt x="705" y="243"/>
                  </a:lnTo>
                  <a:lnTo>
                    <a:pt x="714" y="237"/>
                  </a:lnTo>
                  <a:lnTo>
                    <a:pt x="721" y="231"/>
                  </a:lnTo>
                  <a:lnTo>
                    <a:pt x="728" y="225"/>
                  </a:lnTo>
                  <a:lnTo>
                    <a:pt x="734" y="219"/>
                  </a:lnTo>
                  <a:lnTo>
                    <a:pt x="739" y="213"/>
                  </a:lnTo>
                  <a:lnTo>
                    <a:pt x="743" y="207"/>
                  </a:lnTo>
                  <a:lnTo>
                    <a:pt x="746" y="201"/>
                  </a:lnTo>
                  <a:lnTo>
                    <a:pt x="749" y="194"/>
                  </a:lnTo>
                  <a:lnTo>
                    <a:pt x="750" y="188"/>
                  </a:lnTo>
                  <a:lnTo>
                    <a:pt x="751" y="181"/>
                  </a:lnTo>
                  <a:lnTo>
                    <a:pt x="751" y="180"/>
                  </a:lnTo>
                  <a:lnTo>
                    <a:pt x="751" y="179"/>
                  </a:lnTo>
                  <a:lnTo>
                    <a:pt x="751" y="176"/>
                  </a:lnTo>
                  <a:lnTo>
                    <a:pt x="751" y="173"/>
                  </a:lnTo>
                  <a:lnTo>
                    <a:pt x="751" y="169"/>
                  </a:lnTo>
                  <a:lnTo>
                    <a:pt x="751" y="164"/>
                  </a:lnTo>
                  <a:lnTo>
                    <a:pt x="751" y="159"/>
                  </a:lnTo>
                  <a:lnTo>
                    <a:pt x="751" y="153"/>
                  </a:lnTo>
                  <a:lnTo>
                    <a:pt x="751" y="146"/>
                  </a:lnTo>
                  <a:lnTo>
                    <a:pt x="751" y="139"/>
                  </a:lnTo>
                  <a:lnTo>
                    <a:pt x="751" y="131"/>
                  </a:lnTo>
                  <a:lnTo>
                    <a:pt x="751" y="124"/>
                  </a:lnTo>
                  <a:lnTo>
                    <a:pt x="751" y="116"/>
                  </a:lnTo>
                  <a:lnTo>
                    <a:pt x="751" y="107"/>
                  </a:lnTo>
                  <a:lnTo>
                    <a:pt x="751" y="99"/>
                  </a:lnTo>
                  <a:lnTo>
                    <a:pt x="751" y="90"/>
                  </a:lnTo>
                  <a:lnTo>
                    <a:pt x="751" y="82"/>
                  </a:lnTo>
                  <a:lnTo>
                    <a:pt x="751" y="73"/>
                  </a:lnTo>
                  <a:lnTo>
                    <a:pt x="751" y="65"/>
                  </a:lnTo>
                  <a:lnTo>
                    <a:pt x="751" y="57"/>
                  </a:lnTo>
                  <a:lnTo>
                    <a:pt x="751" y="49"/>
                  </a:lnTo>
                  <a:lnTo>
                    <a:pt x="751" y="42"/>
                  </a:lnTo>
                  <a:lnTo>
                    <a:pt x="751" y="35"/>
                  </a:lnTo>
                  <a:lnTo>
                    <a:pt x="751" y="28"/>
                  </a:lnTo>
                  <a:lnTo>
                    <a:pt x="751" y="22"/>
                  </a:lnTo>
                  <a:lnTo>
                    <a:pt x="751" y="16"/>
                  </a:lnTo>
                  <a:lnTo>
                    <a:pt x="751" y="11"/>
                  </a:lnTo>
                  <a:lnTo>
                    <a:pt x="751" y="7"/>
                  </a:lnTo>
                  <a:lnTo>
                    <a:pt x="751" y="4"/>
                  </a:lnTo>
                  <a:lnTo>
                    <a:pt x="751" y="2"/>
                  </a:lnTo>
                  <a:lnTo>
                    <a:pt x="751" y="0"/>
                  </a:lnTo>
                  <a:lnTo>
                    <a:pt x="75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16400" y="3430800"/>
              <a:ext cx="1033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ff4568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257800" y="3429000"/>
              <a:ext cx="10303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20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20600"/>
                </a:path>
              </a:pathLst>
            </a:custGeom>
            <a:solidFill>
              <a:srgbClr val="969696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6576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6576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6576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6576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7" h="82">
                  <a:moveTo>
                    <a:pt x="0" y="64"/>
                  </a:moveTo>
                  <a:lnTo>
                    <a:pt x="54" y="82"/>
                  </a:lnTo>
                  <a:lnTo>
                    <a:pt x="188" y="28"/>
                  </a:lnTo>
                  <a:lnTo>
                    <a:pt x="247" y="46"/>
                  </a:lnTo>
                  <a:lnTo>
                    <a:pt x="215" y="0"/>
                  </a:lnTo>
                  <a:lnTo>
                    <a:pt x="59" y="0"/>
                  </a:lnTo>
                  <a:lnTo>
                    <a:pt x="122" y="14"/>
                  </a:lnTo>
                  <a:lnTo>
                    <a:pt x="0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10080" y="361008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10080" y="361008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10080" y="361008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0080" y="3610080"/>
              <a:ext cx="324000" cy="11736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246" y="18"/>
                  </a:moveTo>
                  <a:lnTo>
                    <a:pt x="193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2" y="85"/>
                  </a:lnTo>
                  <a:lnTo>
                    <a:pt x="193" y="85"/>
                  </a:lnTo>
                  <a:lnTo>
                    <a:pt x="124" y="66"/>
                  </a:lnTo>
                  <a:lnTo>
                    <a:pt x="246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25920" y="347040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25920" y="347040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25920" y="347040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3470400"/>
              <a:ext cx="328680" cy="11268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18"/>
                  </a:moveTo>
                  <a:lnTo>
                    <a:pt x="55" y="0"/>
                  </a:lnTo>
                  <a:lnTo>
                    <a:pt x="189" y="50"/>
                  </a:lnTo>
                  <a:lnTo>
                    <a:pt x="249" y="36"/>
                  </a:lnTo>
                  <a:lnTo>
                    <a:pt x="216" y="81"/>
                  </a:lnTo>
                  <a:lnTo>
                    <a:pt x="60" y="81"/>
                  </a:lnTo>
                  <a:lnTo>
                    <a:pt x="125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54600" y="362124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54600" y="362124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54600" y="362124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54600" y="362124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246" y="64"/>
                  </a:moveTo>
                  <a:lnTo>
                    <a:pt x="192" y="82"/>
                  </a:lnTo>
                  <a:lnTo>
                    <a:pt x="62" y="28"/>
                  </a:lnTo>
                  <a:lnTo>
                    <a:pt x="0" y="46"/>
                  </a:lnTo>
                  <a:lnTo>
                    <a:pt x="30" y="0"/>
                  </a:lnTo>
                  <a:lnTo>
                    <a:pt x="192" y="0"/>
                  </a:lnTo>
                  <a:lnTo>
                    <a:pt x="121" y="14"/>
                  </a:lnTo>
                  <a:lnTo>
                    <a:pt x="246" y="6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72240" y="348300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72240" y="348300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72240" y="348300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72240" y="3483000"/>
              <a:ext cx="323640" cy="1126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0" y="63"/>
                  </a:moveTo>
                  <a:lnTo>
                    <a:pt x="54" y="81"/>
                  </a:lnTo>
                  <a:lnTo>
                    <a:pt x="187" y="27"/>
                  </a:lnTo>
                  <a:lnTo>
                    <a:pt x="246" y="45"/>
                  </a:lnTo>
                  <a:lnTo>
                    <a:pt x="215" y="0"/>
                  </a:lnTo>
                  <a:lnTo>
                    <a:pt x="58" y="0"/>
                  </a:lnTo>
                  <a:lnTo>
                    <a:pt x="125" y="13"/>
                  </a:lnTo>
                  <a:lnTo>
                    <a:pt x="0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5120" y="361476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5120" y="361476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5120" y="361476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15120" y="3614760"/>
              <a:ext cx="326880" cy="120600"/>
            </a:xfrm>
            <a:custGeom>
              <a:avLst/>
              <a:gdLst/>
              <a:ahLst/>
              <a:rect l="l" t="t" r="r" b="b"/>
              <a:pathLst>
                <a:path w="248" h="86">
                  <a:moveTo>
                    <a:pt x="248" y="18"/>
                  </a:moveTo>
                  <a:lnTo>
                    <a:pt x="194" y="0"/>
                  </a:lnTo>
                  <a:lnTo>
                    <a:pt x="64" y="54"/>
                  </a:lnTo>
                  <a:lnTo>
                    <a:pt x="0" y="36"/>
                  </a:lnTo>
                  <a:lnTo>
                    <a:pt x="33" y="86"/>
                  </a:lnTo>
                  <a:lnTo>
                    <a:pt x="194" y="86"/>
                  </a:lnTo>
                  <a:lnTo>
                    <a:pt x="125" y="68"/>
                  </a:lnTo>
                  <a:lnTo>
                    <a:pt x="248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3564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3564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3564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35640" y="3476880"/>
              <a:ext cx="325440" cy="114120"/>
            </a:xfrm>
            <a:custGeom>
              <a:avLst/>
              <a:gdLst/>
              <a:ahLst/>
              <a:rect l="l" t="t" r="r" b="b"/>
              <a:pathLst>
                <a:path w="246" h="82">
                  <a:moveTo>
                    <a:pt x="0" y="18"/>
                  </a:moveTo>
                  <a:lnTo>
                    <a:pt x="53" y="0"/>
                  </a:lnTo>
                  <a:lnTo>
                    <a:pt x="186" y="50"/>
                  </a:lnTo>
                  <a:lnTo>
                    <a:pt x="246" y="36"/>
                  </a:lnTo>
                  <a:lnTo>
                    <a:pt x="214" y="82"/>
                  </a:lnTo>
                  <a:lnTo>
                    <a:pt x="59" y="82"/>
                  </a:lnTo>
                  <a:lnTo>
                    <a:pt x="122" y="6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61080" y="362772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61080" y="362772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61080" y="362772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61080" y="3627720"/>
              <a:ext cx="325440" cy="11088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247" y="63"/>
                  </a:moveTo>
                  <a:lnTo>
                    <a:pt x="192" y="80"/>
                  </a:lnTo>
                  <a:lnTo>
                    <a:pt x="63" y="27"/>
                  </a:lnTo>
                  <a:lnTo>
                    <a:pt x="0" y="45"/>
                  </a:lnTo>
                  <a:lnTo>
                    <a:pt x="31" y="0"/>
                  </a:lnTo>
                  <a:lnTo>
                    <a:pt x="192" y="0"/>
                  </a:lnTo>
                  <a:lnTo>
                    <a:pt x="122" y="12"/>
                  </a:lnTo>
                  <a:lnTo>
                    <a:pt x="247" y="6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191120" y="1295280"/>
            <a:ext cx="852480" cy="730440"/>
            <a:chOff x="4191120" y="1295280"/>
            <a:chExt cx="852480" cy="730440"/>
          </a:xfrm>
        </p:grpSpPr>
        <p:sp>
          <p:nvSpPr>
            <p:cNvPr id="551" name=""/>
            <p:cNvSpPr/>
            <p:nvPr/>
          </p:nvSpPr>
          <p:spPr>
            <a:xfrm>
              <a:off x="4191120" y="1295280"/>
              <a:ext cx="852480" cy="7304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cap="sq"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457160" y="1651320"/>
              <a:ext cx="203040" cy="184680"/>
              <a:chOff x="4457160" y="1651320"/>
              <a:chExt cx="203040" cy="184680"/>
            </a:xfrm>
          </p:grpSpPr>
          <p:sp>
            <p:nvSpPr>
              <p:cNvPr id="553" name=""/>
              <p:cNvSpPr/>
              <p:nvPr/>
            </p:nvSpPr>
            <p:spPr>
              <a:xfrm>
                <a:off x="4632120" y="175896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57160" y="176004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79480" y="175896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6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04680" y="17697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4637880" y="175896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57160" y="17794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57160" y="17794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57160" y="1824480"/>
                <a:ext cx="180720" cy="1116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57160" y="1824480"/>
                <a:ext cx="180720" cy="1116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596480" y="179388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22320" y="17895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22320" y="17895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34560" y="17895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42840" y="17895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62560" y="17845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58240" y="178200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58240" y="17794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523040" y="17913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15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15200" y="165132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79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79480" y="165132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479480" y="167184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01880" y="175896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7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7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7120" y="168444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489560" y="168084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4479480" y="176544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79920" y="178704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79920" y="17902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67320" y="17913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59320" y="17834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63280" y="17834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466880" y="17834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470840" y="17834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4440" y="17834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78400" y="17834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57160" y="1651320"/>
                <a:ext cx="203040" cy="18468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95680" y="1680120"/>
                <a:ext cx="109080" cy="7272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41040" y="1712160"/>
              <a:ext cx="203040" cy="185040"/>
              <a:chOff x="4541040" y="1712160"/>
              <a:chExt cx="203040" cy="185040"/>
            </a:xfrm>
          </p:grpSpPr>
          <p:sp>
            <p:nvSpPr>
              <p:cNvPr id="593" name=""/>
              <p:cNvSpPr/>
              <p:nvPr/>
            </p:nvSpPr>
            <p:spPr>
              <a:xfrm>
                <a:off x="4716000" y="181980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41040" y="18212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63360" y="181980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9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588560" y="183096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4721760" y="181980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541040" y="184068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41040" y="184068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41040" y="188568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41040" y="188568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80360" y="185472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06200" y="18507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200" y="185076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18440" y="185076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26720" y="185076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46440" y="184572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2120" y="184284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42120" y="184068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06920" y="185256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99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99080" y="171216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63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63360" y="171216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563360" y="173268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85760" y="181980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1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581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581000" y="174528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573440" y="174168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4563360" y="182628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63800" y="184788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63800" y="185148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51200" y="185256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43200" y="184464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47160" y="184464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50760" y="184464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54720" y="184464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558320" y="184464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62280" y="184464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41040" y="171216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79560" y="174132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640040" y="1788480"/>
              <a:ext cx="203040" cy="185040"/>
              <a:chOff x="4640040" y="1788480"/>
              <a:chExt cx="203040" cy="185040"/>
            </a:xfrm>
          </p:grpSpPr>
          <p:sp>
            <p:nvSpPr>
              <p:cNvPr id="633" name=""/>
              <p:cNvSpPr/>
              <p:nvPr/>
            </p:nvSpPr>
            <p:spPr>
              <a:xfrm>
                <a:off x="4815000" y="1896120"/>
                <a:ext cx="28080" cy="1008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27" y="18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40040" y="18975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72" y="34"/>
                    </a:moveTo>
                    <a:lnTo>
                      <a:pt x="34" y="0"/>
                    </a:lnTo>
                    <a:lnTo>
                      <a:pt x="0" y="34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62360" y="1896120"/>
                <a:ext cx="172440" cy="20520"/>
              </a:xfrm>
              <a:custGeom>
                <a:avLst/>
                <a:gdLst/>
                <a:ahLst/>
                <a:rect l="l" t="t" r="r" b="b"/>
                <a:pathLst>
                  <a:path w="275" h="36">
                    <a:moveTo>
                      <a:pt x="275" y="13"/>
                    </a:moveTo>
                    <a:lnTo>
                      <a:pt x="248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36" y="36"/>
                    </a:lnTo>
                    <a:lnTo>
                      <a:pt x="252" y="36"/>
                    </a:lnTo>
                    <a:lnTo>
                      <a:pt x="275" y="13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687560" y="1907280"/>
                <a:ext cx="10152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4820760" y="1896120"/>
                <a:ext cx="22320" cy="7704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0" y="36"/>
                    </a:moveTo>
                    <a:lnTo>
                      <a:pt x="36" y="0"/>
                    </a:lnTo>
                    <a:lnTo>
                      <a:pt x="36" y="99"/>
                    </a:lnTo>
                    <a:lnTo>
                      <a:pt x="0" y="13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40040" y="1917000"/>
                <a:ext cx="180720" cy="45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40040" y="1917000"/>
                <a:ext cx="180720" cy="45000"/>
              </a:xfrm>
              <a:custGeom>
                <a:avLst/>
                <a:gdLst/>
                <a:ahLst/>
                <a:rect l="l" t="t" r="r" b="b"/>
                <a:pathLst>
                  <a:path w="768" h="210">
                    <a:moveTo>
                      <a:pt x="0" y="210"/>
                    </a:moveTo>
                    <a:lnTo>
                      <a:pt x="768" y="21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0" y="210"/>
                    </a:lnTo>
                    <a:moveTo>
                      <a:pt x="252" y="0"/>
                    </a:moveTo>
                    <a:cubicBezTo>
                      <a:pt x="236" y="69"/>
                      <a:pt x="236" y="141"/>
                      <a:pt x="252" y="210"/>
                    </a:cubicBez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0040" y="1962000"/>
                <a:ext cx="180720" cy="115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40040" y="1962000"/>
                <a:ext cx="180720" cy="11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779360" y="1931040"/>
                <a:ext cx="6480" cy="1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5200" y="192708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  <a:moveTo>
                      <a:pt x="20" y="5"/>
                    </a:moveTo>
                    <a:lnTo>
                      <a:pt x="27" y="5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  <a:moveTo>
                      <a:pt x="33" y="5"/>
                    </a:moveTo>
                    <a:lnTo>
                      <a:pt x="47" y="5"/>
                    </a:lnTo>
                    <a:lnTo>
                      <a:pt x="47" y="0"/>
                    </a:lnTo>
                    <a:lnTo>
                      <a:pt x="33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05200" y="1927080"/>
                <a:ext cx="79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17440" y="1927080"/>
                <a:ext cx="432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25720" y="1927080"/>
                <a:ext cx="8640" cy="2520"/>
              </a:xfrm>
              <a:prstGeom prst="rect">
                <a:avLst/>
              </a:pr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45440" y="1922040"/>
                <a:ext cx="130320" cy="16920"/>
              </a:xfrm>
              <a:custGeom>
                <a:avLst/>
                <a:gdLst/>
                <a:ahLst/>
                <a:rect l="l" t="t" r="r" b="b"/>
                <a:pathLst>
                  <a:path w="208" h="30">
                    <a:moveTo>
                      <a:pt x="0" y="30"/>
                    </a:moveTo>
                    <a:lnTo>
                      <a:pt x="27" y="3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  <a:moveTo>
                      <a:pt x="184" y="21"/>
                    </a:moveTo>
                    <a:lnTo>
                      <a:pt x="208" y="21"/>
                    </a:lnTo>
                    <a:lnTo>
                      <a:pt x="208" y="6"/>
                    </a:lnTo>
                    <a:lnTo>
                      <a:pt x="184" y="6"/>
                    </a:lnTo>
                    <a:lnTo>
                      <a:pt x="184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41120" y="1919160"/>
                <a:ext cx="178200" cy="51120"/>
              </a:xfrm>
              <a:custGeom>
                <a:avLst/>
                <a:gdLst/>
                <a:ahLst/>
                <a:rect l="l" t="t" r="r" b="b"/>
                <a:pathLst>
                  <a:path w="757" h="239">
                    <a:moveTo>
                      <a:pt x="261" y="190"/>
                    </a:moveTo>
                    <a:lnTo>
                      <a:pt x="753" y="190"/>
                    </a:lnTo>
                    <a:lnTo>
                      <a:pt x="753" y="0"/>
                    </a:lnTo>
                    <a:lnTo>
                      <a:pt x="261" y="0"/>
                    </a:lnTo>
                    <a:cubicBezTo>
                      <a:pt x="245" y="62"/>
                      <a:pt x="245" y="128"/>
                      <a:pt x="261" y="190"/>
                    </a:cubicBezTo>
                    <a:close/>
                    <a:moveTo>
                      <a:pt x="444" y="166"/>
                    </a:moveTo>
                    <a:lnTo>
                      <a:pt x="726" y="166"/>
                    </a:lnTo>
                    <a:lnTo>
                      <a:pt x="726" y="25"/>
                    </a:lnTo>
                    <a:lnTo>
                      <a:pt x="444" y="25"/>
                    </a:lnTo>
                    <a:lnTo>
                      <a:pt x="444" y="166"/>
                    </a:lnTo>
                    <a:close/>
                    <a:moveTo>
                      <a:pt x="684" y="238"/>
                    </a:moveTo>
                    <a:lnTo>
                      <a:pt x="744" y="238"/>
                    </a:lnTo>
                    <a:cubicBezTo>
                      <a:pt x="750" y="239"/>
                      <a:pt x="756" y="235"/>
                      <a:pt x="756" y="228"/>
                    </a:cubicBezTo>
                    <a:cubicBezTo>
                      <a:pt x="757" y="222"/>
                      <a:pt x="753" y="216"/>
                      <a:pt x="747" y="215"/>
                    </a:cubicBezTo>
                    <a:cubicBezTo>
                      <a:pt x="746" y="215"/>
                      <a:pt x="745" y="215"/>
                      <a:pt x="744" y="215"/>
                    </a:cubicBezTo>
                    <a:lnTo>
                      <a:pt x="744" y="215"/>
                    </a:lnTo>
                    <a:lnTo>
                      <a:pt x="684" y="215"/>
                    </a:lnTo>
                    <a:lnTo>
                      <a:pt x="684" y="238"/>
                    </a:lnTo>
                    <a:close/>
                    <a:moveTo>
                      <a:pt x="72" y="238"/>
                    </a:moveTo>
                    <a:lnTo>
                      <a:pt x="12" y="238"/>
                    </a:lnTo>
                    <a:cubicBezTo>
                      <a:pt x="7" y="239"/>
                      <a:pt x="1" y="235"/>
                      <a:pt x="1" y="228"/>
                    </a:cubicBezTo>
                    <a:cubicBezTo>
                      <a:pt x="0" y="222"/>
                      <a:pt x="4" y="216"/>
                      <a:pt x="10" y="215"/>
                    </a:cubicBezTo>
                    <a:cubicBezTo>
                      <a:pt x="11" y="215"/>
                      <a:pt x="12" y="215"/>
                      <a:pt x="12" y="215"/>
                    </a:cubicBezTo>
                    <a:lnTo>
                      <a:pt x="12" y="215"/>
                    </a:lnTo>
                    <a:lnTo>
                      <a:pt x="72" y="215"/>
                    </a:lnTo>
                    <a:lnTo>
                      <a:pt x="72" y="238"/>
                    </a:lnTo>
                    <a:close/>
                    <a:moveTo>
                      <a:pt x="270" y="50"/>
                    </a:moveTo>
                    <a:lnTo>
                      <a:pt x="396" y="50"/>
                    </a:lnTo>
                    <a:lnTo>
                      <a:pt x="396" y="37"/>
                    </a:lnTo>
                    <a:lnTo>
                      <a:pt x="270" y="37"/>
                    </a:lnTo>
                    <a:lnTo>
                      <a:pt x="27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41120" y="191700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757" h="250">
                    <a:moveTo>
                      <a:pt x="261" y="201"/>
                    </a:moveTo>
                    <a:lnTo>
                      <a:pt x="753" y="201"/>
                    </a:lnTo>
                    <a:lnTo>
                      <a:pt x="753" y="11"/>
                    </a:lnTo>
                    <a:lnTo>
                      <a:pt x="261" y="11"/>
                    </a:lnTo>
                    <a:cubicBezTo>
                      <a:pt x="245" y="73"/>
                      <a:pt x="245" y="139"/>
                      <a:pt x="261" y="201"/>
                    </a:cubicBezTo>
                    <a:moveTo>
                      <a:pt x="402" y="11"/>
                    </a:moveTo>
                    <a:lnTo>
                      <a:pt x="402" y="201"/>
                    </a:lnTo>
                    <a:moveTo>
                      <a:pt x="402" y="75"/>
                    </a:moveTo>
                    <a:lnTo>
                      <a:pt x="251" y="75"/>
                    </a:lnTo>
                    <a:moveTo>
                      <a:pt x="402" y="138"/>
                    </a:moveTo>
                    <a:lnTo>
                      <a:pt x="251" y="138"/>
                    </a:lnTo>
                    <a:moveTo>
                      <a:pt x="444" y="177"/>
                    </a:moveTo>
                    <a:lnTo>
                      <a:pt x="726" y="177"/>
                    </a:lnTo>
                    <a:lnTo>
                      <a:pt x="726" y="36"/>
                    </a:lnTo>
                    <a:lnTo>
                      <a:pt x="444" y="36"/>
                    </a:lnTo>
                    <a:lnTo>
                      <a:pt x="444" y="177"/>
                    </a:lnTo>
                    <a:moveTo>
                      <a:pt x="636" y="36"/>
                    </a:moveTo>
                    <a:lnTo>
                      <a:pt x="636" y="90"/>
                    </a:lnTo>
                    <a:moveTo>
                      <a:pt x="444" y="90"/>
                    </a:moveTo>
                    <a:lnTo>
                      <a:pt x="726" y="90"/>
                    </a:lnTo>
                    <a:moveTo>
                      <a:pt x="684" y="249"/>
                    </a:moveTo>
                    <a:lnTo>
                      <a:pt x="744" y="249"/>
                    </a:lnTo>
                    <a:cubicBezTo>
                      <a:pt x="750" y="250"/>
                      <a:pt x="756" y="246"/>
                      <a:pt x="756" y="239"/>
                    </a:cubicBezTo>
                    <a:cubicBezTo>
                      <a:pt x="757" y="233"/>
                      <a:pt x="753" y="227"/>
                      <a:pt x="747" y="226"/>
                    </a:cubicBezTo>
                    <a:cubicBezTo>
                      <a:pt x="746" y="226"/>
                      <a:pt x="745" y="226"/>
                      <a:pt x="744" y="226"/>
                    </a:cubicBezTo>
                    <a:lnTo>
                      <a:pt x="744" y="226"/>
                    </a:lnTo>
                    <a:lnTo>
                      <a:pt x="684" y="226"/>
                    </a:lnTo>
                    <a:lnTo>
                      <a:pt x="684" y="249"/>
                    </a:lnTo>
                    <a:moveTo>
                      <a:pt x="72" y="249"/>
                    </a:moveTo>
                    <a:lnTo>
                      <a:pt x="12" y="249"/>
                    </a:lnTo>
                    <a:cubicBezTo>
                      <a:pt x="7" y="250"/>
                      <a:pt x="1" y="246"/>
                      <a:pt x="1" y="239"/>
                    </a:cubicBezTo>
                    <a:cubicBezTo>
                      <a:pt x="0" y="233"/>
                      <a:pt x="4" y="227"/>
                      <a:pt x="10" y="226"/>
                    </a:cubicBezTo>
                    <a:cubicBezTo>
                      <a:pt x="11" y="226"/>
                      <a:pt x="12" y="226"/>
                      <a:pt x="12" y="226"/>
                    </a:cubicBezTo>
                    <a:lnTo>
                      <a:pt x="12" y="226"/>
                    </a:lnTo>
                    <a:lnTo>
                      <a:pt x="72" y="226"/>
                    </a:lnTo>
                    <a:lnTo>
                      <a:pt x="72" y="249"/>
                    </a:lnTo>
                    <a:moveTo>
                      <a:pt x="270" y="61"/>
                    </a:moveTo>
                    <a:lnTo>
                      <a:pt x="396" y="61"/>
                    </a:lnTo>
                    <a:lnTo>
                      <a:pt x="396" y="48"/>
                    </a:lnTo>
                    <a:lnTo>
                      <a:pt x="270" y="48"/>
                    </a:lnTo>
                    <a:lnTo>
                      <a:pt x="270" y="61"/>
                    </a:lnTo>
                    <a:moveTo>
                      <a:pt x="270" y="10"/>
                    </a:moveTo>
                    <a:lnTo>
                      <a:pt x="270" y="0"/>
                    </a:lnTo>
                    <a:moveTo>
                      <a:pt x="270" y="211"/>
                    </a:moveTo>
                    <a:lnTo>
                      <a:pt x="270" y="201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05920" y="1928880"/>
                <a:ext cx="51120" cy="10440"/>
              </a:xfrm>
              <a:custGeom>
                <a:avLst/>
                <a:gdLst/>
                <a:ahLst/>
                <a:rect l="l" t="t" r="r" b="b"/>
                <a:pathLst>
                  <a:path w="82" h="19">
                    <a:moveTo>
                      <a:pt x="0" y="19"/>
                    </a:moveTo>
                    <a:lnTo>
                      <a:pt x="5" y="19"/>
                    </a:lnTo>
                    <a:moveTo>
                      <a:pt x="0" y="0"/>
                    </a:moveTo>
                    <a:lnTo>
                      <a:pt x="5" y="0"/>
                    </a:lnTo>
                    <a:moveTo>
                      <a:pt x="34" y="0"/>
                    </a:moveTo>
                    <a:lnTo>
                      <a:pt x="39" y="0"/>
                    </a:lnTo>
                    <a:moveTo>
                      <a:pt x="77" y="7"/>
                    </a:moveTo>
                    <a:lnTo>
                      <a:pt x="82" y="7"/>
                    </a:lnTo>
                  </a:path>
                </a:pathLst>
              </a:custGeom>
              <a:noFill/>
              <a:ln w="3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8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798080" y="1788480"/>
                <a:ext cx="22320" cy="120240"/>
              </a:xfrm>
              <a:custGeom>
                <a:avLst/>
                <a:gdLst/>
                <a:ahLst/>
                <a:rect l="l" t="t" r="r" b="b"/>
                <a:pathLst>
                  <a:path w="36" h="211">
                    <a:moveTo>
                      <a:pt x="0" y="211"/>
                    </a:moveTo>
                    <a:lnTo>
                      <a:pt x="27" y="184"/>
                    </a:lnTo>
                    <a:lnTo>
                      <a:pt x="27" y="135"/>
                    </a:lnTo>
                    <a:lnTo>
                      <a:pt x="36" y="108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11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62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62360" y="1788480"/>
                <a:ext cx="158040" cy="20520"/>
              </a:xfrm>
              <a:custGeom>
                <a:avLst/>
                <a:gdLst/>
                <a:ahLst/>
                <a:rect l="l" t="t" r="r" b="b"/>
                <a:pathLst>
                  <a:path w="252" h="36">
                    <a:moveTo>
                      <a:pt x="252" y="0"/>
                    </a:moveTo>
                    <a:lnTo>
                      <a:pt x="36" y="0"/>
                    </a:lnTo>
                    <a:lnTo>
                      <a:pt x="0" y="36"/>
                    </a:lnTo>
                    <a:lnTo>
                      <a:pt x="216" y="36"/>
                    </a:lnTo>
                    <a:lnTo>
                      <a:pt x="252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62360" y="1809000"/>
                <a:ext cx="135360" cy="9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784760" y="1896120"/>
                <a:ext cx="6840" cy="32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57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680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80000" y="1821600"/>
                <a:ext cx="97920" cy="6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672440" y="1818000"/>
                <a:ext cx="112680" cy="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662360" y="1902600"/>
                <a:ext cx="135360" cy="6120"/>
              </a:xfrm>
              <a:custGeom>
                <a:avLst/>
                <a:gdLst/>
                <a:ahLst/>
                <a:rect l="l" t="t" r="r" b="b"/>
                <a:pathLst>
                  <a:path w="216" h="11">
                    <a:moveTo>
                      <a:pt x="60" y="0"/>
                    </a:moveTo>
                    <a:lnTo>
                      <a:pt x="60" y="11"/>
                    </a:lnTo>
                    <a:moveTo>
                      <a:pt x="33" y="0"/>
                    </a:moveTo>
                    <a:lnTo>
                      <a:pt x="33" y="11"/>
                    </a:lnTo>
                    <a:moveTo>
                      <a:pt x="0" y="0"/>
                    </a:moveTo>
                    <a:lnTo>
                      <a:pt x="216" y="0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62800" y="1924200"/>
                <a:ext cx="18720" cy="32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762800" y="1927800"/>
                <a:ext cx="18720" cy="32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50200" y="1928880"/>
                <a:ext cx="3924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2200" y="1920960"/>
                <a:ext cx="3600" cy="10080"/>
              </a:xfrm>
              <a:prstGeom prst="rect">
                <a:avLst/>
              </a:prstGeom>
              <a:solidFill>
                <a:srgbClr val="d2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46160" y="1920960"/>
                <a:ext cx="3600" cy="10080"/>
              </a:xfrm>
              <a:prstGeom prst="rect">
                <a:avLst/>
              </a:prstGeom>
              <a:solidFill>
                <a:srgbClr val="c4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49760" y="1920960"/>
                <a:ext cx="3600" cy="10080"/>
              </a:xfrm>
              <a:prstGeom prst="rect">
                <a:avLst/>
              </a:prstGeom>
              <a:solidFill>
                <a:srgbClr val="db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53720" y="1920960"/>
                <a:ext cx="3600" cy="10080"/>
              </a:xfrm>
              <a:prstGeom prst="rect">
                <a:avLst/>
              </a:prstGeom>
              <a:solidFill>
                <a:srgbClr val="f1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57320" y="1920960"/>
                <a:ext cx="3600" cy="10080"/>
              </a:xfrm>
              <a:prstGeom prst="rect">
                <a:avLst/>
              </a:prstGeom>
              <a:solidFill>
                <a:srgbClr val="f6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61280" y="1920960"/>
                <a:ext cx="3600" cy="10080"/>
              </a:xfrm>
              <a:prstGeom prst="rect">
                <a:avLst/>
              </a:prstGeom>
              <a:solidFill>
                <a:srgbClr val="e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40040" y="1788480"/>
                <a:ext cx="203040" cy="18504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0" y="324"/>
                    </a:moveTo>
                    <a:lnTo>
                      <a:pt x="0" y="225"/>
                    </a:lnTo>
                    <a:lnTo>
                      <a:pt x="34" y="191"/>
                    </a:lnTo>
                    <a:lnTo>
                      <a:pt x="36" y="191"/>
                    </a:lnTo>
                    <a:lnTo>
                      <a:pt x="36" y="36"/>
                    </a:lnTo>
                    <a:lnTo>
                      <a:pt x="72" y="0"/>
                    </a:lnTo>
                    <a:lnTo>
                      <a:pt x="288" y="0"/>
                    </a:lnTo>
                    <a:lnTo>
                      <a:pt x="288" y="108"/>
                    </a:lnTo>
                    <a:lnTo>
                      <a:pt x="279" y="135"/>
                    </a:lnTo>
                    <a:lnTo>
                      <a:pt x="279" y="184"/>
                    </a:lnTo>
                    <a:lnTo>
                      <a:pt x="275" y="189"/>
                    </a:lnTo>
                    <a:lnTo>
                      <a:pt x="324" y="189"/>
                    </a:lnTo>
                    <a:lnTo>
                      <a:pt x="324" y="288"/>
                    </a:lnTo>
                    <a:lnTo>
                      <a:pt x="288" y="324"/>
                    </a:lnTo>
                    <a:lnTo>
                      <a:pt x="0" y="324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8560" y="1817640"/>
                <a:ext cx="109080" cy="73080"/>
              </a:xfrm>
              <a:prstGeom prst="rect">
                <a:avLst/>
              </a:prstGeom>
              <a:solidFill>
                <a:srgbClr val="00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 flipV="1" rot="20353200">
            <a:off x="4832280" y="2092680"/>
            <a:ext cx="304920" cy="1377000"/>
          </a:xfrm>
          <a:prstGeom prst="upArrow">
            <a:avLst>
              <a:gd name="adj1" fmla="val 50000"/>
              <a:gd name="adj2" fmla="val 112898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Costas Vassilakis</dc:creator>
  <dc:description/>
  <dc:language>en-US</dc:language>
  <cp:lastModifiedBy>Costas Vassilakis</cp:lastModifiedBy>
  <dcterms:modified xsi:type="dcterms:W3CDTF">2004-06-04T07:08:02Z</dcterms:modified>
  <cp:revision>1436</cp:revision>
  <dc:subject/>
  <dc:title>Virus</dc:title>
</cp:coreProperties>
</file>