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A44-0FBD-497E-9061-A9359896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41F7-1D9B-4FD0-A633-66F88522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E5B3-60C6-465F-98C4-F770FE4D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7902-3A67-4C0F-A686-3C166205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5F6A-F75D-483F-B846-B1AE281B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A653-F69C-4079-94D4-05B88A05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866F-DB0D-4AE4-95BD-875B0313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44BA-E084-4B1A-8ED5-21783F23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6563-51DB-4940-9EAC-F9F53DC9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4604-79D1-4D33-B6C7-994C4B70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496B-BBD0-4E09-88C2-686CD7B8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53BA-DC60-4C0C-B87D-FF42858D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D8DA-B4A7-4887-934F-04AD10B1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56C3-3A71-4F95-8E69-06F82055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ACA0-3B62-46E8-935B-C511D96B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E625-32B6-4032-9FD9-76AC1C25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0218-21C3-4936-BB20-028FB1B7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B72C-963D-4AAB-BDF0-864C5FB6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D1CC-ED9C-4981-B138-70EB38E6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0C9-7137-4139-9F0C-777C6283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888-FC6B-4F22-86D3-97907BB7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EB4-BC70-44ED-93B2-A9712225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23FF-D450-4E7E-A1C3-0B2A68F5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B9FC-75E5-4E31-8B8A-5D6DEA4B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0239-C462-4814-926C-F7A96AFEE97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5521-3B9B-45E8-898B-F7E28851C3B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ργαλεία εντοπισμού ευπαθε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περισσότερα συστήματα έχουν χαμηλότερη ασφάλεια από αυτή που επιτρέπουν οι μηχανισμοί ελέγχ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λόγω κακής χρήσης των μηχανισμών ασφάλει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λόγω κακών ρυθμίσε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πολλές φορές συγχέεται η ύπαρξη μηχανισμών με την αποτελεσματική τους χρή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εργαλεία εντοπισμού ευπαθειών ελέγχουν αν οι μηχανισμοί ελέγχου χρησιμοποιούνται σωστά και το επίπεδο ασφάλειας των ρυθμίσε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 έλεγχος γίνεται στην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κατάσταση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του συστήματος,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όχι στις ενέργειες που γίνοντα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Μέθοδοι ελέγχου ευπαθε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41240"/>
            <a:ext cx="8686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οπικά, δικτυακά και κατανεμημένα εργαλε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πικά εργαλεία: ελέγχουν το σύστημα στο οποίο εκτελούντα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λέγχουν τοπικά και προσαρτημένα αντικείμεν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κτυακά εργαλεία: εξετάζουν απομακρυσμένα συστήματ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υνδέσεις μέσω δικτύων για προσπέλαση αντικειμένων και υπηρεσι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τανεμημένα συστήματα: εφαρμόζουν ελέγχους ανάλογα με τον ρόλο του συστήματ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Ιδιαίτερα χρήσιμα σε περιστάσεις όπου συστήματα εμπιστεύονται το ένα το άλλ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Μεθοδολογία αναφορ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Σε τοπικό διαχειριστ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Σε κεντρικό επόπτη ασφάλεια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αράδειγμα εργαλείου: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641240"/>
            <a:ext cx="853416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curity Analysis Tool for Auditing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λλέγει πληροφορίες για απομακρυσμένους υπολογιστές και δίκτυ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Ύπαρξη υπηρεσι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αμόρφωση υπηρεσι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έσω κανόνων που ορίζει ο χρήστης μπορεί να αναλύσει τις επιπτώσεις των διαμορφώσε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AN: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έλεγχοι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Ευπαθή προγράμματα υπηρεσίας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T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Ευπάθειες του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F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αθολικά δικαιώματα χρήσης, διαμοιρασμός μέσω του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rtmap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Το σύστημα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IS 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δίνει τα συνθηματικά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Παρέχεται υπηρεσία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X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Πεπαλαιωμένες εκδόσεις του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ndmai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Πρόσβαση σε υπηρεσία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FT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Ύπαρξη «</a:t>
            </a:r>
            <a:r>
              <a:rPr b="1" i="1" lang="el-GR" sz="2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» στο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osts.equi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Καθολική πρόσβαση σε υπηρεσίες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X-Windo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Καθολική πρόσβαση σε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odem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 αυτόματης επανάκληση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Εγγράψιμος αρχικός κατάλογος ανώνυμου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T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AN: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η βάση στοιχεί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Ταυτότητα συστήματο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Υπηρεσία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Κατάσταση (ενεργός, ανενεργός, ανύπαρκτος κ.λπ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Κρισιμότητα (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s, us, ns, uw, nr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Ποιος εμπιστεύεται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r, root, nobody, any}@h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οιον εμπιστεύετα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Έξοδ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είμεν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AN: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η βάση κανόν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νόνες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αδιαφορί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$text =~ /exports \/cdrom/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νόνες συμπερασμο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/runs rexd/     $target|assert|a|us|ANY@$target|ANY@ANY|REXD access|rexd is vulner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νόνες ενεργει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$service eq "ypserv" $target "ypbind.satan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/IRIX/ $target "rsh.satan" "-u guest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νόνες διαμόρφωσης εξόδ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πολογιστ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πηρεσι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μπιστοσύν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αραδείγματα ευπαθε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νθηματικά που είναι εύκολο να μαντευθού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επαρκώς προστατευμένα αρχεία συστήματ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υνατότητα εμφύτευσης δούρειων ίππ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αθυστέρηση στην εγκατάσταση προγραμμάτων επιδιόρθω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εργαλεία εντοπισμού ευπαθειών βοηθούν τους διαχειριστές να αντιμετωπίσουν το μεγάλο πλήθος θεματικών ενοτήτων και ρυθμίσε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πομονωμένα δικτυακώς συστήματ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ηχανισμοί διακρίβωσης ταυτότητα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εριεχόμενα και δικαιώματα πρόσβασης σε κρίσιμα αρχεία συστήματο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εριεχόμενα και δικαιώματα πρόσβασης σε κρίσιμα αρχεία του περιβάλλοντος των χρηστ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ρόληψη και ανίχνευση αλλαγών σε προγράμματα του συστήματο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Έλεγχοι για υποσυστήματα συνθηματικ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ήκος συνθηματικο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ιάρκεια ζωής συνθηματικο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ρόπος δημιουργίας συνθηματικο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πιλογή από τον χρήστ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υχα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ρόπος αποθήκευσ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ρυπτογραφημένα έναντι απλό κείμενο, σε απροσπέλαστο έναντι αναγνώσιμου αρχεί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Έλεγχοι σε αρχεία διαμόρφωσης περιβάλλοντος χρήστη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641600"/>
            <a:ext cx="8382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οστασία των ατομικών αρχείων διαμόρφωσης περιβάλλοντος από τροποποιήσεις τρίτ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οστασία των ευαίσθητων ατομικών αρχείων από αναγνώσεις τρίτ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Όχι προσωπικοί ή αναξιόπιστοι κατάλογοι πριν από καταλόγους συστήματος στη μεταβλητή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λεγχος των δικαιωμάτων που αποδίδονται εξ ορισμού στη δημιουργία αρχεί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οστασία του προσωπικού χώρου αρχείων από εγγραφέ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ρχεία συστήματο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υνατότητα τροποποίησης των αρχείων συστήματος (εκτελέσιμα και διαμόρφωσης) μόνο για τους διαχειριστ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πισκόπηση των εκτελέσιμων αρχείων για απρόσμενες αλλαγ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λεγχος των αρχείων εκκίνησης για εξασφάλιση ότι χρησιμοποιούν ασφαλείς ρυθμίσεις και καλούν ασφαλή προγράμμα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οστασία των αρχείων καταγραφής λειτουργιών από τροποποιήσει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Δικτυωμένοι υπολογιστέ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Όλες οι ευπάθειες των απομονωμένων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συν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αυτές που οφείλονται στη δικτύω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δικτύωση επιτρέπει σε απομακρυσμένα συστήματα ή χρήστες να χρησιμοποιήσουν πόρους του συστήματ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οβλήμα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Χρήστες ή συστήματα επιχειρούν προσπελάσεις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προσποιούμενοι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άλλους χρήστες ή συστήματ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γκατάσταση δουρείων ίππων ή εισβολή με «σκουλήκια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αράκαμψη μηχανισμών ασφάλειας από απομακρυσμένα συστήματα ή χρήστ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Μέθοδοι ελέγχου ευπαθε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641240"/>
            <a:ext cx="84582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Άξονες κατηγοριοποίησ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νεργός έναντι παθητικού ελέγχ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νεργός: ικανότητα παραβίασης </a:t>
            </a:r>
            <a:r>
              <a:rPr b="0" lang="el-G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ευπάθει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.χ. Έλεγχος αν η προσπάθεια σύνδεσης με «εύκολα» συνθηματικά επιτυγχάνε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αθητικός: έλεγχος της κατάστασης του συστήματ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.χ. Έλεγχος των δικαιωμάτων του αρχείου συνθηματικών, αντιγραφή του και προσπάθεια ανεύρεσης συνθηματικών βάσει λεξικο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παθητικοί έλεγχοι είναι πιο πλήρεις και πιο αποδοτικο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ενεργητικοί έλεγχοι μπορεί να είναι η μόνη επιλογή, αλλά είναι πιο επικίνδυνοι (δούρειοι ίππο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Μέθοδοι ελέγχου ευπαθε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641240"/>
            <a:ext cx="853416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Κλίμακα ελέγχ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γκεκριμένη ευπάθεια έναντι συνολικού ελέγχ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 ελέγχους συγκεκριμένων ευπαθειών εντοπίζονται μεμονωμένα προβλήματ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 συνολικούς ελέγχους εντοπίζονται συνολικές επιπτώσει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.χ. αρχεία εκκίνησης χρήστη δεν είναι προστατευμέν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 χρήστης έχει το δικαίωμα να τροποποιεί το αρχείο συνθηματικ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13:34Z</dcterms:created>
  <dc:creator>Costas Vassilakis</dc:creator>
  <dc:description/>
  <dc:language>en-US</dc:language>
  <cp:lastModifiedBy>Administrator</cp:lastModifiedBy>
  <dcterms:modified xsi:type="dcterms:W3CDTF">2002-05-29T07:08:49Z</dcterms:modified>
  <cp:revision>1491</cp:revision>
  <dc:subject/>
  <dc:title>Virus</dc:title>
</cp:coreProperties>
</file>