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FAA-CD16-41F5-B857-B72798F1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643-C91E-4ED1-A5DA-BE6DF2AA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48B-EB70-4297-8FD0-E97BF437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5CF-3770-4859-8AF5-91EF0C55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5F4A-FA04-4537-B41C-00D00C66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D13A-E8DB-40D9-A9FF-1DFF6041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C491-5B73-4CFD-B96F-86B8D19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7635-77C7-4775-952A-102295F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9C14-68F2-4E5B-A100-B769484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8C34-7EBC-4C8E-8EBD-DF020EB8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AE8F-8670-46D5-B16B-6A6EC09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F9F-4224-465D-A489-2614851E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E773-A24C-4F78-9149-ACCED53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C2CD-2D8F-4769-814C-C7D525AA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C3ED-0BF8-4B0C-9053-6002A8C5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F647-1EB7-4C06-8FAA-E912353E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DCA6-7427-48C0-9EC9-D6BE8830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77F-9E6B-49D8-ACEA-8EF0C03A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3A4-AA16-4063-8281-5F54611E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EC8-9748-4DBA-8D73-819908D3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702-7D80-4922-AE3A-E0680315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CC2-F8F6-46D7-A7D8-7CB5D31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5FF-5488-41B7-8266-133C0D79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6E8-7676-44BB-8809-367A8B58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F2FE-CE0C-4DF4-A565-A231C872912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A573-3E29-45B6-A04C-857AC941EB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ι είναι ένας ιό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όγραμμα που γράφτηκε ειδικά για να εισέρχεται σε συστήματα χωρίς να το ξέρει ή να το επιτρέψει ο ιδιοκτήτης/χρήστ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τά την επιτυχή είσοδό του στο σύστημα, ο ιός προβαίνει σ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ενικά ανεπιθύμητε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ενέργειες όπω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απαραγωγ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 υποβάθμιση της ασφάλειας του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ταστροφή/φθορά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 τομέων εκκίνησης-συστήματο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οί που μολύνουν τομείς εκκίνησης/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άθε δίσκος/δισκέτα έχει έναν τομέα εκκίνησης, ακόμη και αν δεν περιέχει λειτουργικό σύστ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σκληροί δίσκοι έχουν επιπλέον έναν κύριο τομέα εκκίν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ιός εγκαθίσταται σε έναν από τους τομείς αυτούς, μετατοπίζοντας τον κανονικό κώδικα σε άλλο σημείο του δίσκ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Όταν εκκινηθεί ο υπολογιστής από μολυσμένο δίσκο/δισκέτα, ο ιός εγκαθίσταται στη μνήμη και μολύνει τον σκληρό δίσκο και τυχόν δισκέτες που θα προσπελασθού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 αρχεί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πολυπληθέστερη ποικιλ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ην απλούστερη μορφή τους, επικαλύπτουν το αρχικό τμήμα του προγράμματος με τον δικό τους κώδικ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λλά το πρόγραμμα έτσι παύει να λειτουργεί σωστ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ην πιο εξελιγμένη μορφή τους, μετατοπίζουν τον αρχικό κώδικα του αρχείου ή επισυνάπτουν τον δικό τους κώδικα στο τέλος, με τις κατάλληλες εντολές σύνδε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δειγμα: Μόλυνση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and.c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ονικ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.com,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ήκου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2.16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0100 06       PUSH    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0101 17       POP     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0102 BE1B02   MOV     SI,021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ολυσμέν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0100 E9C1CB   JMP     524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0103 90       NO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0104 90       NO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CCC4 ; </a:t>
            </a:r>
            <a:r>
              <a:rPr b="0" lang="el-GR" sz="2200" spc="-1" strike="noStrike">
                <a:solidFill>
                  <a:srgbClr val="ffffff"/>
                </a:solidFill>
                <a:latin typeface="Courier New"/>
              </a:rPr>
              <a:t>Κώδικας ιού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CDE0 06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PUSH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CDE1 17       POP     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CDE2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BE1B02   MOV     SI,021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Courier New"/>
              </a:rPr>
              <a:t>CDE5 E91D33   JMP     1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 αρχεί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νήθως μολύνουν αρχεία τύπο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COM, .EX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λλά και τα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VL, .DRV, .SYS, .BIN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, 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L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ίναι στους στόχου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πορούν να παραμένουν στη μνήμη μετά την εκτέλεση του «ξενιστή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 μακροεντολ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αρχεία δεδομένων δεν μπορούν να διαδώσουν ιού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Ευτυχώς όμως υπάρχουν οι γλώσσες μακροεντολών, όπου κώδικας μπορεί να ενσωματωθεί σε αρχεία δεδομέν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σο πιο ισχυρή η γλώσσα μακροεντολών, τόσο πιο καταστροφικός μπορεί να είναι ο ιό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συνημμένα έγγραφα σε μηνύματα ηλεκτρονικού ταχυδρομείου μπορούν να μεταφέρουν και αυτά ιού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 συστοιχί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0773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Επικολλούνται στα αρχεία, χωρίς όμως να μεταβάλλουν το ίδιο το αρχείο, αλλά τις πληροφορίες των καταλόγω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 ιός παραμένει στη μνήμη και διευθετεί τις αναγνώσεις/εγγραφές στον δίσκο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«Ευχάριστη παρενέργεια» ότι δημιουργούν μόνο ένα αντίγραφό τους στον δίσκο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Δυσάρεστη παρενέργεια: αν ξεκινήσουμε τον υπολογιστή με «καθαρό» σύστημα και χρησιμοποιήσουμε πρόγραμμα ελέγχου δομής του δίσκου, μπορούμε να καταστρέψουμε το σύμπα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 «συνοδείας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Ιδιαίτερα δημοφιλείς σε περιβάλλον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εν αλλάζουν τα αρχεία, αλλά εκτελούνται πριν από αυτ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ξιοποιούν το χαρακτηριστικό το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ότι ψάχνει πρώτα για εκτελέσιμο τύπο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COM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, μετά για τύπο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EX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χετικά εύκολο να ανιχνευθούν και να καθαρισθού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 ειδικά για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ndow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6104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ιοί μπορούν να εκτελούνται ως διεργασίες εξυπηρέτησης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)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ή προγράμματα οδήγησης συσκευών, ή ακόμη και ως «κρυφές» εφαρμογ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ούν να εκτελούνται πριν από τα προγράμματα χωρίς να τα μολύνουν, αλλάζοντας το μητρώ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KEY_CLASSES_ROOT\exefile\shell\open\command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rus.exe "%1" "%*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ξιοποίηση της «εναλλακτικής ροής δεδομένων» το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File.exe </a:t>
            </a:r>
            <a:r>
              <a:rPr b="0" lang="en-GB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(File.exe file.exe:orig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ρόποι μόλυν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ολυμορφικοί ιο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ιοί μεταλλάσσονται σε κάθε μόλυνση για να αποφύγουν την ανίχνευ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άρχουν ακόμη και εργαλειοθήκες για να βοηθούν τη μετάλλαξη ή ακόμη και τη συγγραφή νέων 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προγράμματα καταπολέμησης ιών έχουν προσαρμοσθεί και μπορούν να εντοπίσουν τις μεταλλαγμένες μορφ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εχνικές απόκρυψης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alth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4124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ι ιοί πραγματοποιούν τροποποιήσεις σε αρχεία/τομείς δίσκου/μνήμη και έτσι ανιχνεύοντα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ι τεχνικές απόκρυψης αποσκοπούν στο να αποτρέψουν την ανίχνευση, συγκαλύπτοντας τις τροποποιήσει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 ιός παραμένουν στη μνήμη παγιδεύοντας τις κλήσεις συστήματος που θα απεκάλυπταν την παρουσία τους, και αναφέρουν τις πληροφορίες που θα επιστρεφόταν αν ο ιός δεν υπήρχε στο σύστημ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Η ανίχνευση ιών πρέπει να γίνεται σε «καθαρό» σύστημ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Η τεχνική απόκρυψης μπορεί να επηρεάσει την προσβασιμότητα στα δεδομένα – καθαρισμός μόνο με ειδικά προγράμματα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ό μοντέλο 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641240"/>
            <a:ext cx="85345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red Cohen, “Computer Viruses - Theory and Experiments”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198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gram virus:=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1234567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broutine infect-executable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=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op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le = get-random-executable-fil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first-line-of-file = 1234567 then goto loo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pend virus to file;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broutine do-damage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=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whatever damage is to be don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broutine trigger-pulled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=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return true 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dition holds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-program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=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{infect-executabl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trigger-pulled then do-damag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to next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xt: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γράμματα εναπόθεσης 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εν είναι τα ίδια ιο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... αλλά μολύνουν το σύστημα με τον πραγματικό ι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κατηγορία περιλαμβάνει τους δούρειους ίππους που μεταφέρουν ιού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υσκολεύοντας τη ζωή των προγραμμάτων ανίχνευ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ργή μόλυνση έναντι ταχείας μόλυν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«Αραιές» μολύνσεις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rse infe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«Θωρακισμένοι» ιο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rmored viru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«Πολυδραστικοί ιοί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τίθενται τόσο σε αρχεία όσο και σε τομείς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οί «οπών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γκαθίστανται σε αχρησιμοποίητους χώρους στο μέσον των αρχεί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 είναι εύκολο να βρεθεί τέτοιος χώρος πάντα – το νέο πρότυπ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ωστόσο τείνει να δημιουργεί κεν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οί «υπόγειας δράσης»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nneling viru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ύντομο ιστορικό - ο πρώτος ιό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on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όλυνε τις δισκέτες το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ill get on all your d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ill infiltrate your c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es it's Clon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ill stick to you like g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ill modify ram t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d in the Clon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α ποσοστά των κατηγορ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 – Πώς τους αντιμετωπίζουμ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41240"/>
            <a:ext cx="80010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ρισμός διαδικασιών – συνεργασία χρηστ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 ξεκινάμε ποτέ από δισκέτες – ρυθμίζουμε κατάλληλα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OS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. Σε εταιρικά περιβάλλοντα μπορούμε να μην έχουμε συνολικά δισκέ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Ρυθμίζουμε τον υπολογιστή στο μέγιστο επίπεδο ασφάλειας, κυρίως για προγράμματα πλοήγησης και ηλεκτρονικού ταχυδρομεί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δεδομένα τα επεξεργαζόμαστε μόνο με συγκεκριμένα και ελεγμένα προγράμ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 κατεβάζουμε-εκτελούμε αρχεία συνημμένα σε ύποπτα μηνύματα, ή από αμφιβόλου αξιοπιστίας ιστοχώρους ή απ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Ιοί – Πώς τους αντιμετωπίζουμ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ρατάμε τακτικά εφεδρικά αντίγραφα και τα διατηρούμε για πολύ καιρ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Χρησιμοποιούμε ειδικό λογισμικό αντιμετώπισης ι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ογισμικό αντιμετώπισης 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Λειτουργικότητ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ργαλεία ανίχνευ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στατική ανάλυ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υναμικά κατά την εκτέλε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εριοδικ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αναχαίτιση της δρά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εμπόδιση των παράνομων ενεργει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ίχνευση αλλαγ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ντοπισμός των τροποποιήσεων που έχουν επέλθει από ιού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ργαλεία προσδιορισμού ταυτότητ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ργαλεία καθαρισμ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ιτήρια επιλογής εργαλεί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κρίβ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εργαλείο πρέπει να ανιχνεύει τους ιούς, όλους τους ιούς και μόνο τους ιού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σημασία εξαρτάται και από το επίπεδο των χρηστ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υχρηστ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σπάθεια προσαρμογής του προγράμματος στο επίπεδο του χρήσ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χειριστικό φορτί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ημερώσεις με νέες εκδόσεις/μηχανές ανάλυ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οήθεια στους χρήστες για χειρισμό των αναφορ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λογιστικό φορτίο – κατανάλωση πόρ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«Βαριές» εφαρμογές συνήθως απενεργοποιούν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Ζητήματα ακρίβει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ργαλεία ανίχνευ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αφορά ανύπαρκτων ιών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se positi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η αναφορά υπαρκτών ιών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se negativ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ργαλεία προσδιορισμού ταυτότητ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δυναμία προσδιορισμού συγκεκριμένου ι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σφαλμένος προσδιορισμός ι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υνολικό ζήτημα «ποιοι είναι διαφορετικοί ιοί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ργαλεία καθαρισμ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τυχία = επάνοδος στο προ της μόλυνσης αρχεί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Συνολική αποτυχία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: παράγεται εκτελέσιμο που δεν λειτουργεί ή ο ιός δεν απομακρύνε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Μερική αποτυχία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παράγεται εκτελέσιμο που λειτουργεί αλλά είναι διαφορετικό από το αρχικ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Ζητήματα ευχρηστί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υκολία χρήσης του λογισμ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υκολία να αντιληφθεί τα μηνύματ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εν εισάγονται πρόσθετες δυσχέρειες στον χειρισμό του συστή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μπεριφορά ιών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ύο φάσεις: φάση μόλυνσης και φάση επίθε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Φάση μόλυν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συγγραφείς ιών αντισταθμίζουν την αμεσότητα και αποτελεσματικότητα της μόλυνσης με την ευκολία αποκάλυψης του ι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πορεί να μολύνει αμέσω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πορεί να μολύνει όταν πληρείται κάποια συνθήκη (χρονική, πλήθος εκτελέσεων, εξωτερικά συμβάντ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αχειριστική επιβάρυνσ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υκολία εγκατάστα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υκολία συντήρη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Υποστήριξη τελικών χρηστ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ιβάρυνση συστήματο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όροι που καταναλώνοντα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πιβράδυνση του συστή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αρκής παρακολούθηση έναντι περιοδικής ανίχνευ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ργαλεία και τεχνικ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41600"/>
            <a:ext cx="85341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τοπισμός «υπογραφών» και αλγοριθμική ανίχνευ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ησιμοποιείται από τα εργαλεία ανίχνευσης που λειτουργούν επίσης και σαν εργαλεία προσδιορισμού ταυτ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όχος: εντοπισμός αν υπάρχει ιός σε αρχεία ή στη μνήμ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η: συνεχής ή περιοδικ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εντοπισμός «υπογραφών» επιχειρεί να βρει ακολουθίε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tes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ου είναι γνωστό ότι ανήκουν σε ιούς ή οικογένειες 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υπογραφές συλλέγονται από μολυσμένα αρχε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ία υπογραφή μπορεί να περιέχει μεταχαρακτήρες ή να συνδυάζεται με τη θέση μέσα στο αρχεί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πολυμορφικούς ιούς απαιτείται αλγοριθμική ανίχνευ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Αξιολόγηση εντοπισμού υπογραφώ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κρίβ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ενικώς είναι ακριβείς ΑΝ έχουν ελεγχθεί από τον κατασκευαστή ΟΛΟΙ οι ιοί και ΟΛΑ τα «κανονικά» εκτελέσι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λλά και αναφέρονται ανύπαρκτοι ιοί και δεν αναφέρονται υπαρκτοί (νέοι ιοί ή ιοί με τεχνικές απόκρυψη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ρικές φορές προσδιορίζεται λάθος ιός ή λάθος παραλλαγή ι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Αξιολόγηση εντοπισμού υπογραφώ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διαίτερα εύχρηστη – απαιτούνται λίγες γνώ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χειριστική επιβάρυν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άντα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είναι παρωχημένοι – απαιτούν ενημέρω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μεγάλους οργανισμούς μπορεί να είναι πρόβλ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ύκολη εγκατάσταση ακόμη και για τους απλούς χρήσ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ο βαθμό που οι διαγνώσεις είναι σωστές δεν απαιτείται υποστήριξη των χρηστ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ις αναφορές ανύπαρκτων ιών απαιτείται συνδρομή διαχειριστ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διαίτερα αποδοτικοί σε περιοδική εκτέλεση, αρκετά αποδοτικοί σε διαρκή παρακολούθ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Εντοπισμός υπογραφών - Σύνοψ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41240"/>
            <a:ext cx="838188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cc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καλά συντηρούμενα συστήματα εντοπίζουν άνω του 95% των 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ρουν και ως εργαλεία προσδιορισμού ταυτότητας, μειώνοντας τον χρόνο ανάκαμψ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οκιμασμένη τεχνολογία με βελτιστοποιημένους αλγόριθμ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αιτείται ελάχιστη γνώ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191120"/>
            <a:ext cx="83818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ρίσκουν μόνο τους ιούς που ήταν γνωστοί κατά την ανάπτυξη του «πακέτου υπογραφών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έπει να συντηρούνται διαρκώ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ίναι επιρρεπείς σε εσφαλμένους προσδιορισμούς ταυτ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χρήστες παρανοούν το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«δεν ανιχνεύθηκε ιός»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πιστεύοντας ότι σημαίνε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«δεν υπάρχει ιό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λεγκτές ακεραιότητ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ημιουργία αθροίσματος ελέγχου σε καθαρό σύστημα για κάθε εκτελέσιμ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κυκλικούς πλεοναστικούς κώδικες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κρυπτογραφικές μεθόδους (ψηφιακές υπογραφέ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συνδυασμό συναρτήσεων κερματισμού και κρυπτογραφικών μεθόδ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ανυπολογισμός του αθροίσματος ελέγχου και σύγκριση με το αρχι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τίμηση ελεγκτών ακεραιότητ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κρίβ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Όλοι οι ιοί εντοπίζονται, αρκεί ο αρχικός υπολογισμός να έχει γίνει σε καθαρό σύστ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ολλές ψευδείς αναφορές για ύπαρξη 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αποτελεσματικό για ιούς μακροεντολ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υχρηστ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αθροίσματα ελέγχου πρέπει να αποθηκεύονται σε μη προσβάσιμη περιοχ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μέσος χρήστης δεν γνωρίζει αν ένα πρόγραμμα αυτοτροποποιεί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πολλές ψευδείς αναφορές κάνουν τους χρήστες επιφυλακτικούς στις προειδοποιή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τίμηση ελεγκτών ακεραιότητ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αχειριστική επιβάρυν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ύκολη εγκατάστα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ημέρωση αθροισμάτων ελέγχου σε κάθε νέα εγκατάσταση ή αναβάθμι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ρκής υποστήριξη χρηστών για χειρισμό των αναφορ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πιβάρυνση συστή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επηρεάζει τη συνήθη λειτουργ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χρόνος υπολογισμού είναι σημαντικό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λεγκτές ακεραιότητας - Σύνοψ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χρειάζονται ενημέρω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βρίσκουν τους ιούς – μόνο τις αλλαγ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έπει να υπολογίζονται αθροίσματα ελέγχου σε κάθε εγκατάσταση/αναβάθμιση προγράμ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σφαλμένες αναφορές, θετικές και αρνητικ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είναι καθόλου αποτελεσματικοί για ιούς μακροεντολ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μπεριφορά ιών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41600"/>
            <a:ext cx="8382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Φάση μόλυν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ολλοί ιοί προσομοιάζουν τη συμπεριφορά τω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αραμενόντων προγραμ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τον τρόπο αυτό απεξαρτώνται από τον φορέα τ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αμονεύουν στη μνήμη μέχρι να έρθει η κατάλληλη στιγμ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... και τότε φροντίζουν να μολύνου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παραμένοντες ιοί φροντίζουν να προφυλάσσονται από την ανίχνευση (τεχνικές απόκρυψης 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alth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ή πολυμορφισμού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τιθέτως, τα «σκουλήκια» διαδίδονται άμεσ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όπτες γενικού σκοπ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64124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τεύουν το σύστημα από τη διάδοση ιών ή τη δράση των Δούρειων Ίππων αναχαιτίζοντας κακόβουλες ενέργει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κατασκευαστέ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μοντελοποιούν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τη συμπεριφορά των ιών και δημιουργούν κώδικα που προσπαθεί να ανιχνεύσει και να παρεμποδίσει τις ενέργειες αυτ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πρόγραμμα ζητά μνήμη που «αυτονομείτα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πρόγραμμα ανοίγει αρχεία συστήματος (π.χ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.c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πρόγραμμα ανοίγει εκτελέσιμα σε άλλους καταλόγ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να έγγραφ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γράφει αρχεί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P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τίμηση εποπτών γενικού σκοπ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κρίβ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ϋποθέτει ότι οι ιοί θα συμπεριφερθούν βάσει των μοντέλων – δεν συμβαίνει πάν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ιοί πιθανώς να προσπαθήσουν να απενεργοποιήσουν τον επόπ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νονικά προγράμματα μπορεί να προβαίνουν σε ενέργειες που εντάσσονται στα μοντέλα 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υχρηστ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μέσος χρήστης δεν έχει τις γνώσεις να τα χειριστε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Απαιτείται και διαμόρφωση-ρύθμι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τίμηση εποπτών γενικού σκοπ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χειριστική επιβάρυν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κετή κατά την εγκατάσταση, ειδικά αν υπάρχουν διαφορετικές εγκαταστά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νεχής για υποστήριξη χρηστών, ανάλογα με το προφίλ τ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αιτείται ενημέρωση μόνο για νέες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τεχνικές 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βάρυνση 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ισάγεται από την παρακολούθηση των λειτουργ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ενικώς είναι περιορισμέν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όπτες γενικού σκοπού - σύνοψ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ρκετά γενική τεχνικ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νονικά λειτουργεί και για άγνωστους ιού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ικρή συχνότητα ενημερώ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ύσχρηστο για τον μέσο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ρκετές ψευδείς αναφορές ύπαρξης 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γάλο διαχειριστικό κόσ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υάλωτο σε νέες τεχνικές 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απενεργοποιηθεί από τους ιού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ελύφη ελέγχου πρόσβα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6416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σωματώνονται στο Λ.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βάλλουν πολιτικές που ορίζουν ποιο πρόγραμμα μπορεί να κάνει τι σε τύπους αρχεί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περιλαμβάνονται και πληροφορίες ταυτότητας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περιλαμβάνει εργαλεία κρυπτογράφη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, winword, “*.doc”, r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dmin, winword, “*.dot”, r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*, winword, “*.dot”, 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dmin, windowsUpdate, “c:\windows\*”, “rw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*, *, “c:\windows\system\*”, “w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τίμηση κελύφους ελέγχου πρόσβα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κρίβ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οί που δεν συμπεριφέρονται σύμφωνα με τα κωδικοποιημένα πρότυπα δεν ανιχνεύον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ιός μπορεί να μολύνει όλα τα αρχεία που επιτρέπεται στον ξενιστή του να τροποποιήσε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ιοί μακροεντολών διαδίδονται ελεύθερ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αιτείται καλή ρύθμιση για να αποφευχθούν εσφαλμένες αναφορές ύπαρξης 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υχρηστ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χρήστες απλά δουλεύουν όπως πριν, ζητώντας επιπλέον προνόμια όταν το σύστημα τους αρνείται λειτουργί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κατάλληλο για «οικιακή χρήση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τίμηση κελύφους ελέγχου πρόσβα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αχειριστική επιβάρυν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γάλη κατά την αρχική ρύθμι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ημαντική αν αλλάζει το λογισμικό, ή οι ρόλοι στο εταιρικό περιβάλλο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απαιτούνται ενημερώσεις του ίδιου του λογισμικ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πιβάρυνση συστή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χετικά μικρή για την επιβολή των πολιτικ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γαλύτερη αν χρησιμοποιούνται μηχανισμοί κρυπτογράφη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υρεστική ανάλυση κώδικ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του κώδικα για εντοπισμό κώδικα που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μοιάζει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με ι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.χ. άλμα στο τέλος, αυτοτροποποίηση του κώδικα, άλμα στην αρχ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ιθανώς μολυσμέν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αρχε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ύκολα στη χρή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ίχνευση αγνώστων ή πολυμορφικών 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βρίσκουν όλους τους ιού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αναφέρουν ανύπαρκτους ιού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αιτούν πολύ επεξεργαστική ισχ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ργαλεία καθαρισμού 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θαρισμός ιού </a:t>
            </a:r>
            <a:r>
              <a:rPr b="0" lang="el-G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Η πραγματοποίηση των αντίστροφων των αλλαγών που επέφερε ο ιό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άλυση του τρόπου δράσης του ιού και ανάπτυξη αλγορίθμου αναίρε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ργαλεία που απομακρύνουν έναν μόνο ι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νήθως μετά από «επιδημίες» συγκεκριμένου ι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ργαλεία καθαρισμού πλειάδας 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ργαλεία καθαρισμού 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ια να λειτουργήσουν πρέπει οι αλλαγές να είναι αντιστρέψιμ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οί που επικαλύπτουν το εκτελέσιμο δεν είναι δυνατό να «καθαρισθούν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ημαντικό στοιχείο είναι ο ορθός προσδιορισμός του ιού ή της συγκεκριμένης παραλλαγή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φορετική διαδικασία για του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rusalem-DC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rusalem-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ύσκολος ή αδύνατος ο καθαρισμός για πολλαπλές μολύν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τιμότερη η αντικατάσταση του εκτελέσιμου με «καθαρ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μπεριφορά ιών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05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Φάση επίθε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ιοί μπορεί να επιτίθενται, μπορεί και όχ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λλά σε κάθε περίπτωση καταναλώνουν πόρους του 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χνές ενέργειε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γραφή ή παραφθορά αρχεί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απαραγωγή μουσικής ή μηνύματα στην οθόν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στολή μηνυμάτων ηλεκτρονικού ταχυδρομεί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καταστροφές μπορεί να είναι προτιθέμενες ή όχ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ιός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on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κρυβε τον εαυτό του με τρόπο που λειτουργούσε σε δισκέτες 36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, κατέστρεφε όμως τις 1.2Μ (το πρόβλημα λύθηκε σε επόμενη έκδοση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άρχουν «καλοί» ιοί;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53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Times New Roman"/>
              </a:rPr>
              <a:t>Πολλοί έχουν συλλάβει την ιδέα του «καλού» ιού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 «αντιβιοτικός» ιός – εντοπίζει και «σκοτώνει» τους κακούς ιού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 ιός «συμπιεστής» – Ουσιαστικά συμπιέζει τα αρχεία πριν τα «μολύνει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 ιός «κρυπτογράφος» – εγκαθίσταται στο σκληρό δίσκο και τον κρυπτογραφεί βάσει ενός συνθηματικού που δίνει ο χρήστη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 ιός «συντηρητής» – πραγματοποιεί κάποιες λειτουργίες συντήρησης π.χ. διαγραφή προσωρινών αρχείω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άρχουν «καλοί» ιοί; - ΟΧ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εχνικοί λόγο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δυναμία ελέγχ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ίναι δύσκολο να διακρίνουμε μεταξύ ιών και κανονικών προγραμμάτων – πόσο μάλλον μεταξύ καλών και κακών 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πατάλη πόρ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ιθανότητα ύπαρξης σφαλ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Ζητήματα συμβατότητας με αυτοεπαληθευόμενα προγράμ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άρχουν «καλοί» ιοί; - ΟΧ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θικά, νομικά, ψυχολογικά ζητήματ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η εξουσιοδοτημένη τροποποίηση δεδομέν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Ζητήματα ιδιοκτησίας και πνευματικής ιδιοκτησί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ιθανή κακή χρή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ευθυν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τίληψη του όρου «ιό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Ζήτημα εμπιστοσύνης – αίσθημα ασφάλε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ίδη 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ατηγοριοποίηση βάσει το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ι μολύνου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ως μολύνου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13:34Z</dcterms:created>
  <dc:creator>Costas Vassilakis</dc:creator>
  <dc:description/>
  <dc:language>en-US</dc:language>
  <cp:lastModifiedBy>Costas Vassilakis</cp:lastModifiedBy>
  <dcterms:modified xsi:type="dcterms:W3CDTF">2002-05-12T15:46:57Z</dcterms:modified>
  <cp:revision>1251</cp:revision>
  <dc:subject/>
  <dc:title>Virus</dc:title>
</cp:coreProperties>
</file>